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E494-86B1-4695-BD98-A85F6DF2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492D-6B88-4284-9A99-B1A88C1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7C1D-2D61-4AA0-A489-E5CAF15D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8F65-85BC-4F18-A880-A37C5891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331-47B9-48C2-9E47-23D20BCB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C06-D89A-46C9-8D82-A989CC9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74D-9687-4F41-B3A6-1C5F1A6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5879-02BB-44B7-AE35-F834C3E8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B5F-F20A-4D06-8332-5A5E7E3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B2F7-B1B9-4A95-A3E0-D689C8C7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BE70-3AA2-487A-AC6F-EBACC10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CA80-3852-42EF-93C9-DF9A654D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5568-3F80-4288-98B6-C0D56C5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BC3F-0F27-401A-8DD8-2A57E53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069C-F62B-4700-A158-C06867A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B39-7FD6-4A4F-9B36-C252FA5F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BF3-EBD9-4FC2-9A17-F255B366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2CB3-66C0-498D-AD23-BDFE12C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D077-501B-4BFD-B664-F27705C0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D7A8-0055-41DC-BC97-FE33FB8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A960-B0CE-40A3-B06B-5A15CA0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2473-3504-4782-8802-3120D6C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24AB-0F38-469A-9AD9-DE49B757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5358-9FBE-4CD9-9AF7-BB837A3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167-7277-4F2B-ACA7-C302EC85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62DC-E67B-425C-8871-600F65CB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from last night’s ho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Ink 5"/>
          <p:cNvSpPr/>
          <p:nvPr/>
        </p:nvSpPr>
        <p:spPr>
          <a:xfrm>
            <a:off x="750960" y="1768320"/>
            <a:ext cx="1660320" cy="1044720"/>
          </a:xfrm>
          <a:custGeom>
            <a:avLst/>
            <a:gdLst/>
            <a:ahLst/>
            <a:rect l="l" t="t" r="r" b="b"/>
            <a:pathLst>
              <a:path w="4614" h="2903">
                <a:moveTo>
                  <a:pt x="2133" y="5358"/>
                </a:moveTo>
                <a:cubicBezTo>
                  <a:pt x="2189" y="5302"/>
                  <a:pt x="2228" y="5239"/>
                  <a:pt x="2307" y="5234"/>
                </a:cubicBezTo>
                <a:cubicBezTo>
                  <a:pt x="2410" y="5228"/>
                  <a:pt x="2427" y="5270"/>
                  <a:pt x="2431" y="5358"/>
                </a:cubicBezTo>
                <a:cubicBezTo>
                  <a:pt x="2435" y="5446"/>
                  <a:pt x="2375" y="5487"/>
                  <a:pt x="2332" y="5556"/>
                </a:cubicBezTo>
                <a:cubicBezTo>
                  <a:pt x="2294" y="5617"/>
                  <a:pt x="2259" y="5653"/>
                  <a:pt x="2208" y="5705"/>
                </a:cubicBezTo>
                <a:cubicBezTo>
                  <a:pt x="2251" y="5661"/>
                  <a:pt x="2289" y="5636"/>
                  <a:pt x="2356" y="5655"/>
                </a:cubicBezTo>
                <a:cubicBezTo>
                  <a:pt x="2418" y="5672"/>
                  <a:pt x="2513" y="5740"/>
                  <a:pt x="2530" y="5804"/>
                </a:cubicBezTo>
                <a:cubicBezTo>
                  <a:pt x="2561" y="5919"/>
                  <a:pt x="2470" y="5943"/>
                  <a:pt x="2406" y="5978"/>
                </a:cubicBezTo>
                <a:cubicBezTo>
                  <a:pt x="2326" y="6021"/>
                  <a:pt x="2306" y="6028"/>
                  <a:pt x="2208" y="6028"/>
                </a:cubicBezTo>
                <a:cubicBezTo>
                  <a:pt x="2124" y="6028"/>
                  <a:pt x="2134" y="6029"/>
                  <a:pt x="2084" y="5978"/>
                </a:cubicBezTo>
              </a:path>
              <a:path w="4614" h="2903">
                <a:moveTo>
                  <a:pt x="2232" y="4911"/>
                </a:moveTo>
                <a:cubicBezTo>
                  <a:pt x="2323" y="4922"/>
                  <a:pt x="2386" y="4973"/>
                  <a:pt x="2456" y="5035"/>
                </a:cubicBezTo>
                <a:cubicBezTo>
                  <a:pt x="2548" y="5117"/>
                  <a:pt x="2658" y="5268"/>
                  <a:pt x="2704" y="5383"/>
                </a:cubicBezTo>
                <a:cubicBezTo>
                  <a:pt x="2749" y="5494"/>
                  <a:pt x="2772" y="5636"/>
                  <a:pt x="2753" y="5755"/>
                </a:cubicBezTo>
                <a:cubicBezTo>
                  <a:pt x="2734" y="5874"/>
                  <a:pt x="2680" y="5962"/>
                  <a:pt x="2604" y="6052"/>
                </a:cubicBezTo>
                <a:cubicBezTo>
                  <a:pt x="2565" y="6098"/>
                  <a:pt x="2470" y="6213"/>
                  <a:pt x="2406" y="6226"/>
                </a:cubicBezTo>
                <a:cubicBezTo>
                  <a:pt x="2406" y="6218"/>
                  <a:pt x="2406" y="6209"/>
                  <a:pt x="2406" y="6201"/>
                </a:cubicBezTo>
              </a:path>
              <a:path w="4614" h="2903">
                <a:moveTo>
                  <a:pt x="4142" y="4986"/>
                </a:moveTo>
                <a:cubicBezTo>
                  <a:pt x="4176" y="5062"/>
                  <a:pt x="4215" y="5147"/>
                  <a:pt x="4192" y="5234"/>
                </a:cubicBezTo>
                <a:cubicBezTo>
                  <a:pt x="4179" y="5282"/>
                  <a:pt x="4125" y="5348"/>
                  <a:pt x="4093" y="5383"/>
                </a:cubicBezTo>
                <a:cubicBezTo>
                  <a:pt x="4064" y="5411"/>
                  <a:pt x="4056" y="5424"/>
                  <a:pt x="4068" y="5457"/>
                </a:cubicBezTo>
                <a:cubicBezTo>
                  <a:pt x="4205" y="5457"/>
                  <a:pt x="4358" y="5476"/>
                  <a:pt x="4490" y="5432"/>
                </a:cubicBezTo>
                <a:cubicBezTo>
                  <a:pt x="4533" y="5410"/>
                  <a:pt x="4544" y="5406"/>
                  <a:pt x="4564" y="5383"/>
                </a:cubicBezTo>
              </a:path>
              <a:path w="4614" h="2903">
                <a:moveTo>
                  <a:pt x="4614" y="4911"/>
                </a:moveTo>
                <a:cubicBezTo>
                  <a:pt x="4606" y="5008"/>
                  <a:pt x="4604" y="5112"/>
                  <a:pt x="4589" y="5209"/>
                </a:cubicBezTo>
                <a:cubicBezTo>
                  <a:pt x="4571" y="5323"/>
                  <a:pt x="4561" y="5444"/>
                  <a:pt x="4539" y="5556"/>
                </a:cubicBezTo>
                <a:cubicBezTo>
                  <a:pt x="4521" y="5644"/>
                  <a:pt x="4514" y="5712"/>
                  <a:pt x="4514" y="5804"/>
                </a:cubicBezTo>
                <a:cubicBezTo>
                  <a:pt x="4514" y="5864"/>
                  <a:pt x="4513" y="5866"/>
                  <a:pt x="4564" y="5879"/>
                </a:cubicBezTo>
              </a:path>
              <a:path w="4614" h="2903">
                <a:moveTo>
                  <a:pt x="4887" y="5457"/>
                </a:moveTo>
                <a:cubicBezTo>
                  <a:pt x="4880" y="5577"/>
                  <a:pt x="4862" y="5684"/>
                  <a:pt x="4862" y="5804"/>
                </a:cubicBezTo>
                <a:cubicBezTo>
                  <a:pt x="4862" y="5843"/>
                  <a:pt x="4887" y="5914"/>
                  <a:pt x="4936" y="5928"/>
                </a:cubicBezTo>
                <a:cubicBezTo>
                  <a:pt x="5037" y="5956"/>
                  <a:pt x="5082" y="5865"/>
                  <a:pt x="5135" y="5804"/>
                </a:cubicBezTo>
              </a:path>
              <a:path w="4614" h="2903">
                <a:moveTo>
                  <a:pt x="5060" y="5209"/>
                </a:moveTo>
                <a:cubicBezTo>
                  <a:pt x="5052" y="5201"/>
                  <a:pt x="5043" y="5192"/>
                  <a:pt x="5035" y="5184"/>
                </a:cubicBezTo>
              </a:path>
              <a:path w="4614" h="2903">
                <a:moveTo>
                  <a:pt x="5383" y="5482"/>
                </a:moveTo>
                <a:cubicBezTo>
                  <a:pt x="5448" y="5504"/>
                  <a:pt x="5463" y="5512"/>
                  <a:pt x="5507" y="5507"/>
                </a:cubicBezTo>
              </a:path>
              <a:path w="4614" h="2903">
                <a:moveTo>
                  <a:pt x="5655" y="4986"/>
                </a:moveTo>
                <a:cubicBezTo>
                  <a:pt x="5748" y="4960"/>
                  <a:pt x="5837" y="4982"/>
                  <a:pt x="5928" y="4961"/>
                </a:cubicBezTo>
                <a:cubicBezTo>
                  <a:pt x="5991" y="4947"/>
                  <a:pt x="6094" y="4959"/>
                  <a:pt x="6152" y="4936"/>
                </a:cubicBezTo>
                <a:cubicBezTo>
                  <a:pt x="6219" y="4910"/>
                  <a:pt x="6245" y="4893"/>
                  <a:pt x="6251" y="4986"/>
                </a:cubicBezTo>
                <a:cubicBezTo>
                  <a:pt x="6258" y="5096"/>
                  <a:pt x="6225" y="5230"/>
                  <a:pt x="6201" y="5333"/>
                </a:cubicBezTo>
                <a:cubicBezTo>
                  <a:pt x="6178" y="5432"/>
                  <a:pt x="6152" y="5502"/>
                  <a:pt x="6152" y="5606"/>
                </a:cubicBezTo>
                <a:cubicBezTo>
                  <a:pt x="6152" y="5675"/>
                  <a:pt x="6158" y="5711"/>
                  <a:pt x="6176" y="5779"/>
                </a:cubicBezTo>
              </a:path>
              <a:path w="4614" h="2903">
                <a:moveTo>
                  <a:pt x="6573" y="5606"/>
                </a:moveTo>
                <a:cubicBezTo>
                  <a:pt x="6591" y="5748"/>
                  <a:pt x="6605" y="5889"/>
                  <a:pt x="6623" y="6028"/>
                </a:cubicBezTo>
                <a:cubicBezTo>
                  <a:pt x="6629" y="6073"/>
                  <a:pt x="6627" y="6194"/>
                  <a:pt x="6598" y="6226"/>
                </a:cubicBezTo>
                <a:cubicBezTo>
                  <a:pt x="6500" y="6333"/>
                  <a:pt x="6425" y="6078"/>
                  <a:pt x="6400" y="6028"/>
                </a:cubicBezTo>
              </a:path>
              <a:path w="4614" h="2903">
                <a:moveTo>
                  <a:pt x="6672" y="5159"/>
                </a:moveTo>
                <a:cubicBezTo>
                  <a:pt x="6680" y="5159"/>
                  <a:pt x="6689" y="5159"/>
                  <a:pt x="6697" y="5159"/>
                </a:cubicBezTo>
              </a:path>
              <a:path w="4614" h="2903">
                <a:moveTo>
                  <a:pt x="3274" y="5531"/>
                </a:moveTo>
                <a:cubicBezTo>
                  <a:pt x="3259" y="5562"/>
                  <a:pt x="3263" y="5650"/>
                  <a:pt x="3274" y="5705"/>
                </a:cubicBezTo>
                <a:cubicBezTo>
                  <a:pt x="3293" y="5800"/>
                  <a:pt x="3307" y="5888"/>
                  <a:pt x="3349" y="5978"/>
                </a:cubicBezTo>
                <a:cubicBezTo>
                  <a:pt x="3396" y="6079"/>
                  <a:pt x="3431" y="6045"/>
                  <a:pt x="3497" y="6003"/>
                </a:cubicBezTo>
                <a:cubicBezTo>
                  <a:pt x="3575" y="5953"/>
                  <a:pt x="3590" y="5893"/>
                  <a:pt x="3621" y="5804"/>
                </a:cubicBezTo>
                <a:cubicBezTo>
                  <a:pt x="3653" y="5711"/>
                  <a:pt x="3671" y="5655"/>
                  <a:pt x="3671" y="5556"/>
                </a:cubicBezTo>
                <a:cubicBezTo>
                  <a:pt x="3671" y="5515"/>
                  <a:pt x="3671" y="5473"/>
                  <a:pt x="3671" y="5432"/>
                </a:cubicBezTo>
              </a:path>
              <a:path w="4614" h="2903">
                <a:moveTo>
                  <a:pt x="3820" y="5705"/>
                </a:moveTo>
                <a:cubicBezTo>
                  <a:pt x="3897" y="5690"/>
                  <a:pt x="3942" y="5680"/>
                  <a:pt x="4018" y="5680"/>
                </a:cubicBezTo>
              </a:path>
              <a:path w="4614" h="2903">
                <a:moveTo>
                  <a:pt x="3870" y="5953"/>
                </a:moveTo>
                <a:cubicBezTo>
                  <a:pt x="3953" y="5935"/>
                  <a:pt x="4010" y="5928"/>
                  <a:pt x="4093" y="5928"/>
                </a:cubicBezTo>
              </a:path>
              <a:path w="4614" h="2903">
                <a:moveTo>
                  <a:pt x="3249" y="6747"/>
                </a:moveTo>
                <a:cubicBezTo>
                  <a:pt x="3284" y="6842"/>
                  <a:pt x="3295" y="6924"/>
                  <a:pt x="3324" y="7020"/>
                </a:cubicBezTo>
                <a:cubicBezTo>
                  <a:pt x="3350" y="7106"/>
                  <a:pt x="3358" y="7185"/>
                  <a:pt x="3398" y="7268"/>
                </a:cubicBezTo>
                <a:cubicBezTo>
                  <a:pt x="3423" y="7317"/>
                  <a:pt x="3432" y="7334"/>
                  <a:pt x="3448" y="7367"/>
                </a:cubicBezTo>
                <a:cubicBezTo>
                  <a:pt x="3485" y="7312"/>
                  <a:pt x="3511" y="7235"/>
                  <a:pt x="3522" y="7169"/>
                </a:cubicBezTo>
                <a:cubicBezTo>
                  <a:pt x="3536" y="7088"/>
                  <a:pt x="3580" y="7022"/>
                  <a:pt x="3597" y="6945"/>
                </a:cubicBezTo>
                <a:cubicBezTo>
                  <a:pt x="3611" y="6883"/>
                  <a:pt x="3619" y="6832"/>
                  <a:pt x="3646" y="6772"/>
                </a:cubicBezTo>
              </a:path>
              <a:path w="4614" h="2903">
                <a:moveTo>
                  <a:pt x="3969" y="6871"/>
                </a:moveTo>
                <a:cubicBezTo>
                  <a:pt x="4015" y="6877"/>
                  <a:pt x="4049" y="6887"/>
                  <a:pt x="4093" y="6896"/>
                </a:cubicBezTo>
              </a:path>
              <a:path w="4614" h="2903">
                <a:moveTo>
                  <a:pt x="3944" y="7119"/>
                </a:moveTo>
                <a:cubicBezTo>
                  <a:pt x="4029" y="7119"/>
                  <a:pt x="4097" y="7115"/>
                  <a:pt x="4167" y="7094"/>
                </a:cubicBezTo>
                <a:cubicBezTo>
                  <a:pt x="4175" y="7094"/>
                  <a:pt x="4184" y="7094"/>
                  <a:pt x="4192" y="7094"/>
                </a:cubicBezTo>
              </a:path>
              <a:path w="4614" h="2903">
                <a:moveTo>
                  <a:pt x="4862" y="6945"/>
                </a:moveTo>
                <a:cubicBezTo>
                  <a:pt x="4853" y="7040"/>
                  <a:pt x="4823" y="7101"/>
                  <a:pt x="4862" y="7193"/>
                </a:cubicBezTo>
                <a:cubicBezTo>
                  <a:pt x="4872" y="7216"/>
                  <a:pt x="4922" y="7345"/>
                  <a:pt x="4961" y="7342"/>
                </a:cubicBezTo>
                <a:cubicBezTo>
                  <a:pt x="5034" y="7337"/>
                  <a:pt x="5046" y="7292"/>
                  <a:pt x="5060" y="7243"/>
                </a:cubicBezTo>
              </a:path>
              <a:path w="4614" h="2903">
                <a:moveTo>
                  <a:pt x="4887" y="6499"/>
                </a:moveTo>
                <a:cubicBezTo>
                  <a:pt x="4887" y="6491"/>
                  <a:pt x="4887" y="6482"/>
                  <a:pt x="4887" y="6474"/>
                </a:cubicBezTo>
              </a:path>
              <a:path w="4614" h="2903">
                <a:moveTo>
                  <a:pt x="5333" y="6846"/>
                </a:moveTo>
                <a:cubicBezTo>
                  <a:pt x="5405" y="6870"/>
                  <a:pt x="5480" y="6892"/>
                  <a:pt x="5556" y="6896"/>
                </a:cubicBezTo>
                <a:cubicBezTo>
                  <a:pt x="5573" y="6896"/>
                  <a:pt x="5589" y="6896"/>
                  <a:pt x="5606" y="6896"/>
                </a:cubicBezTo>
              </a:path>
              <a:path w="4614" h="2903">
                <a:moveTo>
                  <a:pt x="6152" y="6796"/>
                </a:moveTo>
                <a:cubicBezTo>
                  <a:pt x="6205" y="6957"/>
                  <a:pt x="6203" y="7057"/>
                  <a:pt x="6226" y="7218"/>
                </a:cubicBezTo>
                <a:cubicBezTo>
                  <a:pt x="6247" y="7366"/>
                  <a:pt x="6262" y="7516"/>
                  <a:pt x="6226" y="7665"/>
                </a:cubicBezTo>
                <a:cubicBezTo>
                  <a:pt x="6217" y="7700"/>
                  <a:pt x="6169" y="7801"/>
                  <a:pt x="6127" y="7813"/>
                </a:cubicBezTo>
                <a:cubicBezTo>
                  <a:pt x="6084" y="7825"/>
                  <a:pt x="5933" y="7765"/>
                  <a:pt x="5904" y="7739"/>
                </a:cubicBezTo>
                <a:cubicBezTo>
                  <a:pt x="5842" y="7683"/>
                  <a:pt x="5810" y="7589"/>
                  <a:pt x="5779" y="7516"/>
                </a:cubicBezTo>
              </a:path>
              <a:path w="4614" h="2903">
                <a:moveTo>
                  <a:pt x="6052" y="6400"/>
                </a:moveTo>
                <a:cubicBezTo>
                  <a:pt x="6077" y="6375"/>
                  <a:pt x="6085" y="6367"/>
                  <a:pt x="6052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Ink 6"/>
          <p:cNvSpPr/>
          <p:nvPr/>
        </p:nvSpPr>
        <p:spPr>
          <a:xfrm>
            <a:off x="2608200" y="1625760"/>
            <a:ext cx="1455840" cy="482400"/>
          </a:xfrm>
          <a:custGeom>
            <a:avLst/>
            <a:gdLst/>
            <a:ahLst/>
            <a:rect l="l" t="t" r="r" b="b"/>
            <a:pathLst>
              <a:path w="4044" h="1341">
                <a:moveTo>
                  <a:pt x="7243" y="5358"/>
                </a:moveTo>
                <a:cubicBezTo>
                  <a:pt x="7338" y="5358"/>
                  <a:pt x="7403" y="5372"/>
                  <a:pt x="7491" y="5383"/>
                </a:cubicBezTo>
              </a:path>
              <a:path w="4044" h="1341">
                <a:moveTo>
                  <a:pt x="7367" y="5581"/>
                </a:moveTo>
                <a:cubicBezTo>
                  <a:pt x="7483" y="5581"/>
                  <a:pt x="7499" y="5581"/>
                  <a:pt x="7565" y="5581"/>
                </a:cubicBezTo>
              </a:path>
              <a:path w="4044" h="1341">
                <a:moveTo>
                  <a:pt x="8483" y="4862"/>
                </a:moveTo>
                <a:cubicBezTo>
                  <a:pt x="8469" y="4972"/>
                  <a:pt x="8412" y="5029"/>
                  <a:pt x="8334" y="5110"/>
                </a:cubicBezTo>
                <a:cubicBezTo>
                  <a:pt x="8264" y="5183"/>
                  <a:pt x="8183" y="5237"/>
                  <a:pt x="8111" y="5308"/>
                </a:cubicBezTo>
                <a:cubicBezTo>
                  <a:pt x="8077" y="5342"/>
                  <a:pt x="8062" y="5364"/>
                  <a:pt x="8037" y="5407"/>
                </a:cubicBezTo>
                <a:cubicBezTo>
                  <a:pt x="8086" y="5436"/>
                  <a:pt x="8130" y="5452"/>
                  <a:pt x="8186" y="5482"/>
                </a:cubicBezTo>
                <a:cubicBezTo>
                  <a:pt x="8265" y="5524"/>
                  <a:pt x="8319" y="5615"/>
                  <a:pt x="8384" y="5680"/>
                </a:cubicBezTo>
                <a:cubicBezTo>
                  <a:pt x="8441" y="5737"/>
                  <a:pt x="8463" y="5782"/>
                  <a:pt x="8533" y="5755"/>
                </a:cubicBezTo>
              </a:path>
              <a:path w="4044" h="1341">
                <a:moveTo>
                  <a:pt x="8781" y="5135"/>
                </a:moveTo>
                <a:cubicBezTo>
                  <a:pt x="8752" y="5212"/>
                  <a:pt x="8733" y="5253"/>
                  <a:pt x="8830" y="5259"/>
                </a:cubicBezTo>
                <a:cubicBezTo>
                  <a:pt x="8885" y="5262"/>
                  <a:pt x="8986" y="5277"/>
                  <a:pt x="9029" y="5234"/>
                </a:cubicBezTo>
                <a:cubicBezTo>
                  <a:pt x="9037" y="5217"/>
                  <a:pt x="9046" y="5201"/>
                  <a:pt x="9054" y="5184"/>
                </a:cubicBezTo>
              </a:path>
              <a:path w="4044" h="1341">
                <a:moveTo>
                  <a:pt x="9178" y="4738"/>
                </a:moveTo>
                <a:cubicBezTo>
                  <a:pt x="9178" y="4821"/>
                  <a:pt x="9169" y="4906"/>
                  <a:pt x="9153" y="4986"/>
                </a:cubicBezTo>
                <a:cubicBezTo>
                  <a:pt x="9117" y="5158"/>
                  <a:pt x="9075" y="5381"/>
                  <a:pt x="9029" y="5556"/>
                </a:cubicBezTo>
                <a:cubicBezTo>
                  <a:pt x="9022" y="5581"/>
                  <a:pt x="8953" y="5735"/>
                  <a:pt x="8979" y="5755"/>
                </a:cubicBezTo>
                <a:cubicBezTo>
                  <a:pt x="8987" y="5747"/>
                  <a:pt x="8996" y="5738"/>
                  <a:pt x="9004" y="5730"/>
                </a:cubicBezTo>
              </a:path>
              <a:path w="4044" h="1341">
                <a:moveTo>
                  <a:pt x="9302" y="5432"/>
                </a:moveTo>
                <a:cubicBezTo>
                  <a:pt x="9330" y="5588"/>
                  <a:pt x="9304" y="5609"/>
                  <a:pt x="9277" y="5755"/>
                </a:cubicBezTo>
                <a:cubicBezTo>
                  <a:pt x="9266" y="5816"/>
                  <a:pt x="9256" y="5811"/>
                  <a:pt x="9277" y="5854"/>
                </a:cubicBezTo>
              </a:path>
              <a:path w="4044" h="1341">
                <a:moveTo>
                  <a:pt x="9575" y="5184"/>
                </a:moveTo>
                <a:cubicBezTo>
                  <a:pt x="9700" y="5169"/>
                  <a:pt x="9773" y="5186"/>
                  <a:pt x="9897" y="5159"/>
                </a:cubicBezTo>
              </a:path>
              <a:path w="4044" h="1341">
                <a:moveTo>
                  <a:pt x="10071" y="4837"/>
                </a:moveTo>
                <a:cubicBezTo>
                  <a:pt x="10157" y="4843"/>
                  <a:pt x="10257" y="4880"/>
                  <a:pt x="10344" y="4862"/>
                </a:cubicBezTo>
                <a:cubicBezTo>
                  <a:pt x="10400" y="4850"/>
                  <a:pt x="10449" y="4839"/>
                  <a:pt x="10492" y="4812"/>
                </a:cubicBezTo>
                <a:cubicBezTo>
                  <a:pt x="10483" y="4888"/>
                  <a:pt x="10466" y="4959"/>
                  <a:pt x="10443" y="5035"/>
                </a:cubicBezTo>
                <a:cubicBezTo>
                  <a:pt x="10399" y="5176"/>
                  <a:pt x="10359" y="5309"/>
                  <a:pt x="10344" y="5457"/>
                </a:cubicBezTo>
                <a:cubicBezTo>
                  <a:pt x="10336" y="5534"/>
                  <a:pt x="10356" y="5593"/>
                  <a:pt x="10368" y="5655"/>
                </a:cubicBezTo>
                <a:cubicBezTo>
                  <a:pt x="10383" y="5730"/>
                  <a:pt x="10381" y="5703"/>
                  <a:pt x="10393" y="5655"/>
                </a:cubicBezTo>
              </a:path>
              <a:path w="4044" h="1341">
                <a:moveTo>
                  <a:pt x="10492" y="4514"/>
                </a:moveTo>
                <a:cubicBezTo>
                  <a:pt x="10659" y="4621"/>
                  <a:pt x="10802" y="4728"/>
                  <a:pt x="10964" y="4837"/>
                </a:cubicBezTo>
                <a:cubicBezTo>
                  <a:pt x="11044" y="4890"/>
                  <a:pt x="11135" y="4931"/>
                  <a:pt x="11212" y="4986"/>
                </a:cubicBezTo>
                <a:cubicBezTo>
                  <a:pt x="11265" y="5024"/>
                  <a:pt x="11295" y="5051"/>
                  <a:pt x="11261" y="5110"/>
                </a:cubicBezTo>
                <a:cubicBezTo>
                  <a:pt x="11217" y="5188"/>
                  <a:pt x="11129" y="5325"/>
                  <a:pt x="11063" y="5383"/>
                </a:cubicBezTo>
                <a:cubicBezTo>
                  <a:pt x="10933" y="5497"/>
                  <a:pt x="10778" y="5622"/>
                  <a:pt x="10641" y="5730"/>
                </a:cubicBezTo>
                <a:cubicBezTo>
                  <a:pt x="10616" y="5746"/>
                  <a:pt x="10592" y="5763"/>
                  <a:pt x="10567" y="5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Ink 7"/>
          <p:cNvSpPr/>
          <p:nvPr/>
        </p:nvSpPr>
        <p:spPr>
          <a:xfrm>
            <a:off x="4633920" y="1616040"/>
            <a:ext cx="322200" cy="473040"/>
          </a:xfrm>
          <a:custGeom>
            <a:avLst/>
            <a:gdLst/>
            <a:ahLst/>
            <a:rect l="l" t="t" r="r" b="b"/>
            <a:pathLst>
              <a:path w="894" h="1315">
                <a:moveTo>
                  <a:pt x="12948" y="4812"/>
                </a:moveTo>
                <a:cubicBezTo>
                  <a:pt x="13036" y="4812"/>
                  <a:pt x="13111" y="4791"/>
                  <a:pt x="13196" y="4787"/>
                </a:cubicBezTo>
                <a:cubicBezTo>
                  <a:pt x="13278" y="4783"/>
                  <a:pt x="13362" y="4787"/>
                  <a:pt x="13444" y="4787"/>
                </a:cubicBezTo>
              </a:path>
              <a:path w="894" h="1315">
                <a:moveTo>
                  <a:pt x="12948" y="4961"/>
                </a:moveTo>
                <a:cubicBezTo>
                  <a:pt x="12955" y="5049"/>
                  <a:pt x="12973" y="5097"/>
                  <a:pt x="12973" y="5184"/>
                </a:cubicBezTo>
                <a:cubicBezTo>
                  <a:pt x="12973" y="5286"/>
                  <a:pt x="12937" y="5256"/>
                  <a:pt x="12973" y="5184"/>
                </a:cubicBezTo>
                <a:cubicBezTo>
                  <a:pt x="12998" y="5134"/>
                  <a:pt x="13048" y="5113"/>
                  <a:pt x="13097" y="5110"/>
                </a:cubicBezTo>
                <a:cubicBezTo>
                  <a:pt x="13238" y="5102"/>
                  <a:pt x="13300" y="5153"/>
                  <a:pt x="13395" y="5283"/>
                </a:cubicBezTo>
                <a:cubicBezTo>
                  <a:pt x="13451" y="5359"/>
                  <a:pt x="13411" y="5484"/>
                  <a:pt x="13370" y="5556"/>
                </a:cubicBezTo>
                <a:cubicBezTo>
                  <a:pt x="13342" y="5606"/>
                  <a:pt x="13197" y="5604"/>
                  <a:pt x="13146" y="5606"/>
                </a:cubicBezTo>
                <a:cubicBezTo>
                  <a:pt x="13057" y="5609"/>
                  <a:pt x="12991" y="5617"/>
                  <a:pt x="12923" y="5556"/>
                </a:cubicBezTo>
                <a:cubicBezTo>
                  <a:pt x="12893" y="5526"/>
                  <a:pt x="12882" y="5512"/>
                  <a:pt x="12874" y="5482"/>
                </a:cubicBezTo>
              </a:path>
              <a:path w="894" h="1315">
                <a:moveTo>
                  <a:pt x="13097" y="4490"/>
                </a:moveTo>
                <a:cubicBezTo>
                  <a:pt x="13262" y="4542"/>
                  <a:pt x="13364" y="4619"/>
                  <a:pt x="13494" y="4738"/>
                </a:cubicBezTo>
                <a:cubicBezTo>
                  <a:pt x="13588" y="4824"/>
                  <a:pt x="13735" y="4981"/>
                  <a:pt x="13767" y="5110"/>
                </a:cubicBezTo>
                <a:cubicBezTo>
                  <a:pt x="13795" y="5223"/>
                  <a:pt x="13762" y="5368"/>
                  <a:pt x="13692" y="5457"/>
                </a:cubicBezTo>
                <a:cubicBezTo>
                  <a:pt x="13613" y="5557"/>
                  <a:pt x="13490" y="5623"/>
                  <a:pt x="13395" y="5705"/>
                </a:cubicBezTo>
                <a:cubicBezTo>
                  <a:pt x="13334" y="5758"/>
                  <a:pt x="13293" y="5778"/>
                  <a:pt x="13221" y="58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8"/>
          <p:cNvSpPr/>
          <p:nvPr/>
        </p:nvSpPr>
        <p:spPr>
          <a:xfrm>
            <a:off x="5367240" y="1589040"/>
            <a:ext cx="2697120" cy="509760"/>
          </a:xfrm>
          <a:custGeom>
            <a:avLst/>
            <a:gdLst/>
            <a:ahLst/>
            <a:rect l="l" t="t" r="r" b="b"/>
            <a:pathLst>
              <a:path w="7492" h="1415">
                <a:moveTo>
                  <a:pt x="15553" y="4415"/>
                </a:moveTo>
                <a:cubicBezTo>
                  <a:pt x="15528" y="4528"/>
                  <a:pt x="15462" y="4603"/>
                  <a:pt x="15379" y="4688"/>
                </a:cubicBezTo>
                <a:cubicBezTo>
                  <a:pt x="15284" y="4786"/>
                  <a:pt x="15183" y="4872"/>
                  <a:pt x="15081" y="4961"/>
                </a:cubicBezTo>
                <a:cubicBezTo>
                  <a:pt x="15022" y="5012"/>
                  <a:pt x="14967" y="5062"/>
                  <a:pt x="14908" y="5110"/>
                </a:cubicBezTo>
                <a:cubicBezTo>
                  <a:pt x="14976" y="5156"/>
                  <a:pt x="15058" y="5169"/>
                  <a:pt x="15131" y="5209"/>
                </a:cubicBezTo>
                <a:cubicBezTo>
                  <a:pt x="15229" y="5262"/>
                  <a:pt x="15319" y="5310"/>
                  <a:pt x="15404" y="5383"/>
                </a:cubicBezTo>
                <a:cubicBezTo>
                  <a:pt x="15457" y="5428"/>
                  <a:pt x="15503" y="5483"/>
                  <a:pt x="15553" y="5531"/>
                </a:cubicBezTo>
              </a:path>
              <a:path w="7492" h="1415">
                <a:moveTo>
                  <a:pt x="15875" y="4787"/>
                </a:moveTo>
                <a:cubicBezTo>
                  <a:pt x="15998" y="4682"/>
                  <a:pt x="15999" y="4652"/>
                  <a:pt x="16123" y="4738"/>
                </a:cubicBezTo>
                <a:cubicBezTo>
                  <a:pt x="16224" y="4808"/>
                  <a:pt x="16260" y="4935"/>
                  <a:pt x="16247" y="5060"/>
                </a:cubicBezTo>
                <a:cubicBezTo>
                  <a:pt x="16236" y="5172"/>
                  <a:pt x="16221" y="5282"/>
                  <a:pt x="16173" y="5383"/>
                </a:cubicBezTo>
                <a:cubicBezTo>
                  <a:pt x="16149" y="5433"/>
                  <a:pt x="16086" y="5497"/>
                  <a:pt x="16024" y="5482"/>
                </a:cubicBezTo>
                <a:cubicBezTo>
                  <a:pt x="15971" y="5470"/>
                  <a:pt x="15858" y="5385"/>
                  <a:pt x="15850" y="5333"/>
                </a:cubicBezTo>
                <a:cubicBezTo>
                  <a:pt x="15858" y="5316"/>
                  <a:pt x="15867" y="5300"/>
                  <a:pt x="15875" y="5283"/>
                </a:cubicBezTo>
                <a:cubicBezTo>
                  <a:pt x="15984" y="5220"/>
                  <a:pt x="16049" y="5328"/>
                  <a:pt x="16123" y="5407"/>
                </a:cubicBezTo>
                <a:cubicBezTo>
                  <a:pt x="16162" y="5449"/>
                  <a:pt x="16167" y="5493"/>
                  <a:pt x="16222" y="5507"/>
                </a:cubicBezTo>
              </a:path>
              <a:path w="7492" h="1415">
                <a:moveTo>
                  <a:pt x="16570" y="5556"/>
                </a:moveTo>
                <a:cubicBezTo>
                  <a:pt x="16552" y="5664"/>
                  <a:pt x="16544" y="5755"/>
                  <a:pt x="16545" y="5680"/>
                </a:cubicBezTo>
              </a:path>
              <a:path w="7492" h="1415">
                <a:moveTo>
                  <a:pt x="16867" y="4738"/>
                </a:moveTo>
                <a:cubicBezTo>
                  <a:pt x="16950" y="4675"/>
                  <a:pt x="16983" y="4664"/>
                  <a:pt x="17066" y="4738"/>
                </a:cubicBezTo>
                <a:cubicBezTo>
                  <a:pt x="17153" y="4816"/>
                  <a:pt x="17163" y="4907"/>
                  <a:pt x="17140" y="5011"/>
                </a:cubicBezTo>
                <a:cubicBezTo>
                  <a:pt x="17119" y="5105"/>
                  <a:pt x="17091" y="5238"/>
                  <a:pt x="17016" y="5308"/>
                </a:cubicBezTo>
                <a:cubicBezTo>
                  <a:pt x="16972" y="5349"/>
                  <a:pt x="16886" y="5312"/>
                  <a:pt x="16842" y="5283"/>
                </a:cubicBezTo>
                <a:cubicBezTo>
                  <a:pt x="16818" y="5259"/>
                  <a:pt x="16809" y="5250"/>
                  <a:pt x="16793" y="5234"/>
                </a:cubicBezTo>
                <a:cubicBezTo>
                  <a:pt x="16836" y="5191"/>
                  <a:pt x="16893" y="5182"/>
                  <a:pt x="16966" y="5234"/>
                </a:cubicBezTo>
                <a:cubicBezTo>
                  <a:pt x="17050" y="5294"/>
                  <a:pt x="17151" y="5340"/>
                  <a:pt x="17264" y="5333"/>
                </a:cubicBezTo>
                <a:cubicBezTo>
                  <a:pt x="17289" y="5325"/>
                  <a:pt x="17313" y="5316"/>
                  <a:pt x="17338" y="5308"/>
                </a:cubicBezTo>
              </a:path>
              <a:path w="7492" h="1415">
                <a:moveTo>
                  <a:pt x="17438" y="4490"/>
                </a:moveTo>
                <a:cubicBezTo>
                  <a:pt x="17569" y="4555"/>
                  <a:pt x="17702" y="4605"/>
                  <a:pt x="17835" y="4663"/>
                </a:cubicBezTo>
                <a:cubicBezTo>
                  <a:pt x="17887" y="4686"/>
                  <a:pt x="18021" y="4735"/>
                  <a:pt x="18058" y="4787"/>
                </a:cubicBezTo>
                <a:cubicBezTo>
                  <a:pt x="18118" y="4871"/>
                  <a:pt x="18038" y="4931"/>
                  <a:pt x="17983" y="4986"/>
                </a:cubicBezTo>
                <a:cubicBezTo>
                  <a:pt x="17894" y="5075"/>
                  <a:pt x="17816" y="5165"/>
                  <a:pt x="17735" y="5259"/>
                </a:cubicBezTo>
                <a:cubicBezTo>
                  <a:pt x="17665" y="5340"/>
                  <a:pt x="17643" y="5421"/>
                  <a:pt x="17587" y="5507"/>
                </a:cubicBezTo>
                <a:cubicBezTo>
                  <a:pt x="17546" y="5570"/>
                  <a:pt x="17537" y="5569"/>
                  <a:pt x="17611" y="5556"/>
                </a:cubicBezTo>
              </a:path>
              <a:path w="7492" h="1415">
                <a:moveTo>
                  <a:pt x="18579" y="5060"/>
                </a:moveTo>
                <a:cubicBezTo>
                  <a:pt x="18539" y="5120"/>
                  <a:pt x="18509" y="5132"/>
                  <a:pt x="18554" y="5159"/>
                </a:cubicBezTo>
                <a:cubicBezTo>
                  <a:pt x="18605" y="5130"/>
                  <a:pt x="18663" y="5100"/>
                  <a:pt x="18678" y="5035"/>
                </a:cubicBezTo>
                <a:cubicBezTo>
                  <a:pt x="18705" y="4922"/>
                  <a:pt x="18560" y="5032"/>
                  <a:pt x="18529" y="5060"/>
                </a:cubicBezTo>
                <a:cubicBezTo>
                  <a:pt x="18435" y="5144"/>
                  <a:pt x="18567" y="5145"/>
                  <a:pt x="18628" y="5110"/>
                </a:cubicBezTo>
                <a:cubicBezTo>
                  <a:pt x="18653" y="5085"/>
                  <a:pt x="18661" y="5077"/>
                  <a:pt x="18678" y="5060"/>
                </a:cubicBezTo>
                <a:cubicBezTo>
                  <a:pt x="18703" y="5035"/>
                  <a:pt x="18711" y="5027"/>
                  <a:pt x="18678" y="5011"/>
                </a:cubicBezTo>
                <a:cubicBezTo>
                  <a:pt x="18665" y="5023"/>
                  <a:pt x="18529" y="5126"/>
                  <a:pt x="18529" y="5135"/>
                </a:cubicBezTo>
                <a:cubicBezTo>
                  <a:pt x="18537" y="5151"/>
                  <a:pt x="18546" y="5168"/>
                  <a:pt x="18554" y="5184"/>
                </a:cubicBezTo>
              </a:path>
              <a:path w="7492" h="1415">
                <a:moveTo>
                  <a:pt x="19621" y="4539"/>
                </a:moveTo>
                <a:cubicBezTo>
                  <a:pt x="19524" y="4636"/>
                  <a:pt x="19431" y="4728"/>
                  <a:pt x="19323" y="4812"/>
                </a:cubicBezTo>
                <a:cubicBezTo>
                  <a:pt x="19241" y="4875"/>
                  <a:pt x="19094" y="4913"/>
                  <a:pt x="19025" y="4986"/>
                </a:cubicBezTo>
                <a:cubicBezTo>
                  <a:pt x="19017" y="5002"/>
                  <a:pt x="19008" y="5019"/>
                  <a:pt x="19000" y="5035"/>
                </a:cubicBezTo>
                <a:cubicBezTo>
                  <a:pt x="19061" y="5084"/>
                  <a:pt x="19132" y="5096"/>
                  <a:pt x="19199" y="5135"/>
                </a:cubicBezTo>
                <a:cubicBezTo>
                  <a:pt x="19305" y="5196"/>
                  <a:pt x="19386" y="5272"/>
                  <a:pt x="19472" y="5358"/>
                </a:cubicBezTo>
                <a:cubicBezTo>
                  <a:pt x="19557" y="5443"/>
                  <a:pt x="19612" y="5545"/>
                  <a:pt x="19695" y="5631"/>
                </a:cubicBezTo>
                <a:cubicBezTo>
                  <a:pt x="19784" y="5724"/>
                  <a:pt x="19803" y="5774"/>
                  <a:pt x="19869" y="5655"/>
                </a:cubicBezTo>
              </a:path>
              <a:path w="7492" h="1415">
                <a:moveTo>
                  <a:pt x="20092" y="4837"/>
                </a:moveTo>
                <a:cubicBezTo>
                  <a:pt x="20196" y="4748"/>
                  <a:pt x="20245" y="4680"/>
                  <a:pt x="20340" y="4812"/>
                </a:cubicBezTo>
                <a:cubicBezTo>
                  <a:pt x="20411" y="4911"/>
                  <a:pt x="20406" y="5044"/>
                  <a:pt x="20365" y="5159"/>
                </a:cubicBezTo>
                <a:cubicBezTo>
                  <a:pt x="20328" y="5262"/>
                  <a:pt x="20239" y="5353"/>
                  <a:pt x="20166" y="5432"/>
                </a:cubicBezTo>
                <a:cubicBezTo>
                  <a:pt x="20115" y="5486"/>
                  <a:pt x="20058" y="5449"/>
                  <a:pt x="20042" y="5383"/>
                </a:cubicBezTo>
                <a:cubicBezTo>
                  <a:pt x="20029" y="5327"/>
                  <a:pt x="20048" y="5284"/>
                  <a:pt x="20067" y="5234"/>
                </a:cubicBezTo>
                <a:cubicBezTo>
                  <a:pt x="20189" y="5269"/>
                  <a:pt x="20206" y="5290"/>
                  <a:pt x="20290" y="5358"/>
                </a:cubicBezTo>
                <a:cubicBezTo>
                  <a:pt x="20322" y="5384"/>
                  <a:pt x="20378" y="5423"/>
                  <a:pt x="20414" y="5432"/>
                </a:cubicBezTo>
              </a:path>
              <a:path w="7492" h="1415">
                <a:moveTo>
                  <a:pt x="20762" y="5556"/>
                </a:moveTo>
                <a:cubicBezTo>
                  <a:pt x="20761" y="5588"/>
                  <a:pt x="20721" y="5867"/>
                  <a:pt x="20737" y="5804"/>
                </a:cubicBezTo>
                <a:cubicBezTo>
                  <a:pt x="20745" y="5788"/>
                  <a:pt x="20754" y="5771"/>
                  <a:pt x="20762" y="5755"/>
                </a:cubicBezTo>
              </a:path>
              <a:path w="7492" h="1415">
                <a:moveTo>
                  <a:pt x="20960" y="4887"/>
                </a:moveTo>
                <a:cubicBezTo>
                  <a:pt x="21009" y="4837"/>
                  <a:pt x="21078" y="4758"/>
                  <a:pt x="21158" y="4762"/>
                </a:cubicBezTo>
                <a:cubicBezTo>
                  <a:pt x="21251" y="4766"/>
                  <a:pt x="21327" y="4866"/>
                  <a:pt x="21357" y="4936"/>
                </a:cubicBezTo>
                <a:cubicBezTo>
                  <a:pt x="21406" y="5051"/>
                  <a:pt x="21391" y="5156"/>
                  <a:pt x="21332" y="5259"/>
                </a:cubicBezTo>
                <a:cubicBezTo>
                  <a:pt x="21298" y="5317"/>
                  <a:pt x="21215" y="5451"/>
                  <a:pt x="21134" y="5432"/>
                </a:cubicBezTo>
                <a:cubicBezTo>
                  <a:pt x="21101" y="5424"/>
                  <a:pt x="21056" y="5322"/>
                  <a:pt x="21059" y="5308"/>
                </a:cubicBezTo>
                <a:cubicBezTo>
                  <a:pt x="21067" y="5300"/>
                  <a:pt x="21076" y="5291"/>
                  <a:pt x="21084" y="5283"/>
                </a:cubicBezTo>
                <a:cubicBezTo>
                  <a:pt x="21127" y="5326"/>
                  <a:pt x="21182" y="5378"/>
                  <a:pt x="21233" y="5407"/>
                </a:cubicBezTo>
                <a:cubicBezTo>
                  <a:pt x="21322" y="5458"/>
                  <a:pt x="21443" y="5537"/>
                  <a:pt x="21555" y="5507"/>
                </a:cubicBezTo>
                <a:cubicBezTo>
                  <a:pt x="21572" y="5499"/>
                  <a:pt x="21588" y="5490"/>
                  <a:pt x="21605" y="5482"/>
                </a:cubicBezTo>
              </a:path>
              <a:path w="7492" h="1415">
                <a:moveTo>
                  <a:pt x="21654" y="4564"/>
                </a:moveTo>
                <a:cubicBezTo>
                  <a:pt x="21789" y="4574"/>
                  <a:pt x="21838" y="4612"/>
                  <a:pt x="21952" y="4688"/>
                </a:cubicBezTo>
                <a:cubicBezTo>
                  <a:pt x="22050" y="4753"/>
                  <a:pt x="22166" y="4793"/>
                  <a:pt x="22275" y="4837"/>
                </a:cubicBezTo>
                <a:cubicBezTo>
                  <a:pt x="22316" y="4854"/>
                  <a:pt x="22358" y="4870"/>
                  <a:pt x="22399" y="4887"/>
                </a:cubicBezTo>
                <a:cubicBezTo>
                  <a:pt x="22346" y="4981"/>
                  <a:pt x="22288" y="5071"/>
                  <a:pt x="22225" y="5159"/>
                </a:cubicBezTo>
                <a:cubicBezTo>
                  <a:pt x="22133" y="5287"/>
                  <a:pt x="22052" y="5422"/>
                  <a:pt x="22027" y="5581"/>
                </a:cubicBezTo>
                <a:cubicBezTo>
                  <a:pt x="22017" y="5645"/>
                  <a:pt x="22059" y="5746"/>
                  <a:pt x="21977" y="5705"/>
                </a:cubicBezTo>
                <a:cubicBezTo>
                  <a:pt x="21960" y="5697"/>
                  <a:pt x="21944" y="5688"/>
                  <a:pt x="21927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9"/>
          <p:cNvSpPr/>
          <p:nvPr/>
        </p:nvSpPr>
        <p:spPr>
          <a:xfrm>
            <a:off x="2482920" y="2509920"/>
            <a:ext cx="12528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6896" y="6970"/>
                </a:moveTo>
                <a:cubicBezTo>
                  <a:pt x="6994" y="6970"/>
                  <a:pt x="7075" y="6982"/>
                  <a:pt x="7169" y="6995"/>
                </a:cubicBezTo>
                <a:cubicBezTo>
                  <a:pt x="7210" y="6995"/>
                  <a:pt x="7218" y="6995"/>
                  <a:pt x="7243" y="6995"/>
                </a:cubicBezTo>
              </a:path>
              <a:path w="348" h="274">
                <a:moveTo>
                  <a:pt x="7020" y="7218"/>
                </a:moveTo>
                <a:cubicBezTo>
                  <a:pt x="7097" y="7247"/>
                  <a:pt x="7158" y="7243"/>
                  <a:pt x="7243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nk 10"/>
          <p:cNvSpPr/>
          <p:nvPr/>
        </p:nvSpPr>
        <p:spPr>
          <a:xfrm>
            <a:off x="2813040" y="2286000"/>
            <a:ext cx="1152360" cy="482760"/>
          </a:xfrm>
          <a:custGeom>
            <a:avLst/>
            <a:gdLst/>
            <a:ahLst/>
            <a:rect l="l" t="t" r="r" b="b"/>
            <a:pathLst>
              <a:path w="3201" h="1340">
                <a:moveTo>
                  <a:pt x="8359" y="6474"/>
                </a:moveTo>
                <a:cubicBezTo>
                  <a:pt x="8317" y="6559"/>
                  <a:pt x="8276" y="6628"/>
                  <a:pt x="8210" y="6697"/>
                </a:cubicBezTo>
                <a:cubicBezTo>
                  <a:pt x="8132" y="6778"/>
                  <a:pt x="8030" y="6858"/>
                  <a:pt x="7938" y="6921"/>
                </a:cubicBezTo>
                <a:cubicBezTo>
                  <a:pt x="7887" y="6955"/>
                  <a:pt x="7869" y="6962"/>
                  <a:pt x="7813" y="6970"/>
                </a:cubicBezTo>
                <a:cubicBezTo>
                  <a:pt x="7824" y="7049"/>
                  <a:pt x="7870" y="7069"/>
                  <a:pt x="7938" y="7119"/>
                </a:cubicBezTo>
                <a:cubicBezTo>
                  <a:pt x="8055" y="7206"/>
                  <a:pt x="8139" y="7308"/>
                  <a:pt x="8235" y="7417"/>
                </a:cubicBezTo>
                <a:cubicBezTo>
                  <a:pt x="8270" y="7457"/>
                  <a:pt x="8311" y="7504"/>
                  <a:pt x="8359" y="7516"/>
                </a:cubicBezTo>
              </a:path>
              <a:path w="3201" h="1340">
                <a:moveTo>
                  <a:pt x="8582" y="6598"/>
                </a:moveTo>
                <a:cubicBezTo>
                  <a:pt x="8628" y="6745"/>
                  <a:pt x="8632" y="6866"/>
                  <a:pt x="8632" y="7020"/>
                </a:cubicBezTo>
                <a:cubicBezTo>
                  <a:pt x="8632" y="7158"/>
                  <a:pt x="8596" y="7284"/>
                  <a:pt x="8582" y="7417"/>
                </a:cubicBezTo>
                <a:cubicBezTo>
                  <a:pt x="8574" y="7487"/>
                  <a:pt x="8574" y="7560"/>
                  <a:pt x="8607" y="7615"/>
                </a:cubicBezTo>
              </a:path>
              <a:path w="3201" h="1340">
                <a:moveTo>
                  <a:pt x="8930" y="7342"/>
                </a:moveTo>
                <a:cubicBezTo>
                  <a:pt x="8918" y="7471"/>
                  <a:pt x="8853" y="7679"/>
                  <a:pt x="8930" y="7665"/>
                </a:cubicBezTo>
              </a:path>
              <a:path w="3201" h="1340">
                <a:moveTo>
                  <a:pt x="9277" y="6896"/>
                </a:moveTo>
                <a:cubicBezTo>
                  <a:pt x="9404" y="6903"/>
                  <a:pt x="9520" y="6921"/>
                  <a:pt x="9649" y="6921"/>
                </a:cubicBezTo>
                <a:cubicBezTo>
                  <a:pt x="9717" y="6921"/>
                  <a:pt x="9736" y="6924"/>
                  <a:pt x="9773" y="6896"/>
                </a:cubicBezTo>
              </a:path>
              <a:path w="3201" h="1340">
                <a:moveTo>
                  <a:pt x="10021" y="6623"/>
                </a:moveTo>
                <a:cubicBezTo>
                  <a:pt x="10016" y="6824"/>
                  <a:pt x="9989" y="7001"/>
                  <a:pt x="9971" y="7193"/>
                </a:cubicBezTo>
                <a:cubicBezTo>
                  <a:pt x="9964" y="7266"/>
                  <a:pt x="9937" y="7482"/>
                  <a:pt x="9996" y="7541"/>
                </a:cubicBezTo>
                <a:cubicBezTo>
                  <a:pt x="10004" y="7541"/>
                  <a:pt x="10013" y="7541"/>
                  <a:pt x="10021" y="7541"/>
                </a:cubicBezTo>
              </a:path>
              <a:path w="3201" h="1340">
                <a:moveTo>
                  <a:pt x="10195" y="6350"/>
                </a:moveTo>
                <a:cubicBezTo>
                  <a:pt x="10305" y="6396"/>
                  <a:pt x="10388" y="6466"/>
                  <a:pt x="10492" y="6524"/>
                </a:cubicBezTo>
                <a:cubicBezTo>
                  <a:pt x="10601" y="6585"/>
                  <a:pt x="10701" y="6626"/>
                  <a:pt x="10815" y="6672"/>
                </a:cubicBezTo>
                <a:cubicBezTo>
                  <a:pt x="10888" y="6702"/>
                  <a:pt x="10952" y="6746"/>
                  <a:pt x="11013" y="6796"/>
                </a:cubicBezTo>
                <a:cubicBezTo>
                  <a:pt x="10958" y="6897"/>
                  <a:pt x="10896" y="6964"/>
                  <a:pt x="10815" y="7045"/>
                </a:cubicBezTo>
                <a:cubicBezTo>
                  <a:pt x="10711" y="7148"/>
                  <a:pt x="10625" y="7192"/>
                  <a:pt x="10542" y="7317"/>
                </a:cubicBezTo>
                <a:cubicBezTo>
                  <a:pt x="10494" y="7389"/>
                  <a:pt x="10469" y="7450"/>
                  <a:pt x="10418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nk 11"/>
          <p:cNvSpPr/>
          <p:nvPr/>
        </p:nvSpPr>
        <p:spPr>
          <a:xfrm>
            <a:off x="5037120" y="2286000"/>
            <a:ext cx="714240" cy="455760"/>
          </a:xfrm>
          <a:custGeom>
            <a:avLst/>
            <a:gdLst/>
            <a:ahLst/>
            <a:rect l="l" t="t" r="r" b="b"/>
            <a:pathLst>
              <a:path w="1985" h="1266">
                <a:moveTo>
                  <a:pt x="14114" y="6672"/>
                </a:moveTo>
                <a:cubicBezTo>
                  <a:pt x="14106" y="6689"/>
                  <a:pt x="14097" y="6705"/>
                  <a:pt x="14089" y="6722"/>
                </a:cubicBezTo>
                <a:cubicBezTo>
                  <a:pt x="14098" y="6662"/>
                  <a:pt x="14129" y="6602"/>
                  <a:pt x="14139" y="6548"/>
                </a:cubicBezTo>
                <a:cubicBezTo>
                  <a:pt x="14154" y="6467"/>
                  <a:pt x="14174" y="6453"/>
                  <a:pt x="14238" y="6400"/>
                </a:cubicBezTo>
                <a:cubicBezTo>
                  <a:pt x="14298" y="6351"/>
                  <a:pt x="14340" y="6330"/>
                  <a:pt x="14412" y="6375"/>
                </a:cubicBezTo>
                <a:cubicBezTo>
                  <a:pt x="14496" y="6428"/>
                  <a:pt x="14514" y="6563"/>
                  <a:pt x="14536" y="6648"/>
                </a:cubicBezTo>
                <a:cubicBezTo>
                  <a:pt x="14578" y="6814"/>
                  <a:pt x="14574" y="6929"/>
                  <a:pt x="14560" y="7094"/>
                </a:cubicBezTo>
                <a:cubicBezTo>
                  <a:pt x="14551" y="7206"/>
                  <a:pt x="14522" y="7355"/>
                  <a:pt x="14436" y="7441"/>
                </a:cubicBezTo>
                <a:cubicBezTo>
                  <a:pt x="14363" y="7515"/>
                  <a:pt x="14276" y="7557"/>
                  <a:pt x="14188" y="7590"/>
                </a:cubicBezTo>
                <a:cubicBezTo>
                  <a:pt x="14113" y="7618"/>
                  <a:pt x="14007" y="7585"/>
                  <a:pt x="13990" y="7491"/>
                </a:cubicBezTo>
                <a:cubicBezTo>
                  <a:pt x="13975" y="7410"/>
                  <a:pt x="13975" y="7333"/>
                  <a:pt x="14039" y="7293"/>
                </a:cubicBezTo>
                <a:cubicBezTo>
                  <a:pt x="14108" y="7250"/>
                  <a:pt x="14216" y="7257"/>
                  <a:pt x="14288" y="7293"/>
                </a:cubicBezTo>
                <a:cubicBezTo>
                  <a:pt x="14363" y="7330"/>
                  <a:pt x="14442" y="7405"/>
                  <a:pt x="14461" y="7491"/>
                </a:cubicBezTo>
                <a:cubicBezTo>
                  <a:pt x="14461" y="7536"/>
                  <a:pt x="14457" y="7549"/>
                  <a:pt x="14486" y="7565"/>
                </a:cubicBezTo>
              </a:path>
              <a:path w="1985" h="1266">
                <a:moveTo>
                  <a:pt x="15106" y="7119"/>
                </a:moveTo>
                <a:cubicBezTo>
                  <a:pt x="15098" y="7144"/>
                  <a:pt x="15089" y="7168"/>
                  <a:pt x="15081" y="7193"/>
                </a:cubicBezTo>
                <a:cubicBezTo>
                  <a:pt x="15128" y="7167"/>
                  <a:pt x="15244" y="7057"/>
                  <a:pt x="15205" y="7094"/>
                </a:cubicBezTo>
                <a:cubicBezTo>
                  <a:pt x="15172" y="7126"/>
                  <a:pt x="15147" y="7127"/>
                  <a:pt x="15180" y="7144"/>
                </a:cubicBezTo>
              </a:path>
              <a:path w="1985" h="1266">
                <a:moveTo>
                  <a:pt x="15528" y="6474"/>
                </a:moveTo>
                <a:cubicBezTo>
                  <a:pt x="15608" y="6439"/>
                  <a:pt x="15713" y="6383"/>
                  <a:pt x="15801" y="6449"/>
                </a:cubicBezTo>
                <a:cubicBezTo>
                  <a:pt x="15928" y="6543"/>
                  <a:pt x="15971" y="6647"/>
                  <a:pt x="15974" y="6796"/>
                </a:cubicBezTo>
                <a:cubicBezTo>
                  <a:pt x="15977" y="6967"/>
                  <a:pt x="15955" y="7169"/>
                  <a:pt x="15850" y="7317"/>
                </a:cubicBezTo>
                <a:cubicBezTo>
                  <a:pt x="15810" y="7374"/>
                  <a:pt x="15699" y="7496"/>
                  <a:pt x="15627" y="7516"/>
                </a:cubicBezTo>
                <a:cubicBezTo>
                  <a:pt x="15569" y="7532"/>
                  <a:pt x="15506" y="7505"/>
                  <a:pt x="15453" y="7491"/>
                </a:cubicBezTo>
                <a:cubicBezTo>
                  <a:pt x="15441" y="7405"/>
                  <a:pt x="15438" y="7387"/>
                  <a:pt x="15478" y="7293"/>
                </a:cubicBezTo>
                <a:cubicBezTo>
                  <a:pt x="15520" y="7194"/>
                  <a:pt x="15623" y="7123"/>
                  <a:pt x="15726" y="7193"/>
                </a:cubicBezTo>
                <a:cubicBezTo>
                  <a:pt x="15808" y="7249"/>
                  <a:pt x="15844" y="7328"/>
                  <a:pt x="15875" y="7417"/>
                </a:cubicBezTo>
                <a:cubicBezTo>
                  <a:pt x="15882" y="7437"/>
                  <a:pt x="15898" y="7615"/>
                  <a:pt x="15925" y="7615"/>
                </a:cubicBezTo>
                <a:cubicBezTo>
                  <a:pt x="15941" y="7607"/>
                  <a:pt x="15958" y="7598"/>
                  <a:pt x="15974" y="75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nk 12"/>
          <p:cNvSpPr/>
          <p:nvPr/>
        </p:nvSpPr>
        <p:spPr>
          <a:xfrm>
            <a:off x="6000840" y="2374920"/>
            <a:ext cx="1969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6892" y="6598"/>
                </a:moveTo>
                <a:cubicBezTo>
                  <a:pt x="16892" y="6815"/>
                  <a:pt x="16884" y="7035"/>
                  <a:pt x="16917" y="7243"/>
                </a:cubicBezTo>
                <a:cubicBezTo>
                  <a:pt x="16927" y="7304"/>
                  <a:pt x="16934" y="7309"/>
                  <a:pt x="16966" y="7367"/>
                </a:cubicBezTo>
              </a:path>
              <a:path w="546" h="770">
                <a:moveTo>
                  <a:pt x="16669" y="6970"/>
                </a:moveTo>
                <a:cubicBezTo>
                  <a:pt x="16795" y="6978"/>
                  <a:pt x="16917" y="6992"/>
                  <a:pt x="17041" y="7020"/>
                </a:cubicBezTo>
                <a:cubicBezTo>
                  <a:pt x="17131" y="7043"/>
                  <a:pt x="17155" y="7051"/>
                  <a:pt x="17214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nk 13"/>
          <p:cNvSpPr/>
          <p:nvPr/>
        </p:nvSpPr>
        <p:spPr>
          <a:xfrm>
            <a:off x="6384960" y="2286000"/>
            <a:ext cx="812880" cy="420840"/>
          </a:xfrm>
          <a:custGeom>
            <a:avLst/>
            <a:gdLst/>
            <a:ahLst/>
            <a:rect l="l" t="t" r="r" b="b"/>
            <a:pathLst>
              <a:path w="2259" h="1167">
                <a:moveTo>
                  <a:pt x="17884" y="6598"/>
                </a:moveTo>
                <a:cubicBezTo>
                  <a:pt x="17893" y="6537"/>
                  <a:pt x="17913" y="6498"/>
                  <a:pt x="17959" y="6449"/>
                </a:cubicBezTo>
                <a:cubicBezTo>
                  <a:pt x="18020" y="6383"/>
                  <a:pt x="18095" y="6377"/>
                  <a:pt x="18157" y="6449"/>
                </a:cubicBezTo>
                <a:cubicBezTo>
                  <a:pt x="18280" y="6592"/>
                  <a:pt x="18302" y="6712"/>
                  <a:pt x="18306" y="6896"/>
                </a:cubicBezTo>
                <a:cubicBezTo>
                  <a:pt x="18309" y="7043"/>
                  <a:pt x="18283" y="7168"/>
                  <a:pt x="18207" y="7293"/>
                </a:cubicBezTo>
                <a:cubicBezTo>
                  <a:pt x="18158" y="7374"/>
                  <a:pt x="18080" y="7465"/>
                  <a:pt x="17983" y="7491"/>
                </a:cubicBezTo>
                <a:cubicBezTo>
                  <a:pt x="17924" y="7507"/>
                  <a:pt x="17830" y="7502"/>
                  <a:pt x="17785" y="7466"/>
                </a:cubicBezTo>
                <a:cubicBezTo>
                  <a:pt x="17737" y="7428"/>
                  <a:pt x="17717" y="7380"/>
                  <a:pt x="17735" y="7317"/>
                </a:cubicBezTo>
                <a:cubicBezTo>
                  <a:pt x="17755" y="7244"/>
                  <a:pt x="17808" y="7185"/>
                  <a:pt x="17884" y="7169"/>
                </a:cubicBezTo>
                <a:cubicBezTo>
                  <a:pt x="17985" y="7147"/>
                  <a:pt x="18070" y="7188"/>
                  <a:pt x="18132" y="7268"/>
                </a:cubicBezTo>
                <a:cubicBezTo>
                  <a:pt x="18187" y="7338"/>
                  <a:pt x="18155" y="7397"/>
                  <a:pt x="18182" y="7466"/>
                </a:cubicBezTo>
                <a:cubicBezTo>
                  <a:pt x="18210" y="7539"/>
                  <a:pt x="18229" y="7500"/>
                  <a:pt x="18256" y="7466"/>
                </a:cubicBezTo>
              </a:path>
              <a:path w="2259" h="1167">
                <a:moveTo>
                  <a:pt x="18777" y="6995"/>
                </a:moveTo>
                <a:cubicBezTo>
                  <a:pt x="18733" y="7104"/>
                  <a:pt x="18770" y="7022"/>
                  <a:pt x="18777" y="6995"/>
                </a:cubicBezTo>
              </a:path>
              <a:path w="2259" h="1167">
                <a:moveTo>
                  <a:pt x="19075" y="6424"/>
                </a:moveTo>
                <a:cubicBezTo>
                  <a:pt x="19232" y="6372"/>
                  <a:pt x="19337" y="6335"/>
                  <a:pt x="19496" y="6424"/>
                </a:cubicBezTo>
                <a:cubicBezTo>
                  <a:pt x="19592" y="6478"/>
                  <a:pt x="19643" y="6627"/>
                  <a:pt x="19670" y="6722"/>
                </a:cubicBezTo>
                <a:cubicBezTo>
                  <a:pt x="19713" y="6873"/>
                  <a:pt x="19687" y="6997"/>
                  <a:pt x="19645" y="7144"/>
                </a:cubicBezTo>
                <a:cubicBezTo>
                  <a:pt x="19618" y="7239"/>
                  <a:pt x="19583" y="7317"/>
                  <a:pt x="19521" y="7392"/>
                </a:cubicBezTo>
                <a:cubicBezTo>
                  <a:pt x="19465" y="7459"/>
                  <a:pt x="19398" y="7494"/>
                  <a:pt x="19323" y="7441"/>
                </a:cubicBezTo>
                <a:cubicBezTo>
                  <a:pt x="19258" y="7395"/>
                  <a:pt x="19256" y="7369"/>
                  <a:pt x="19248" y="7293"/>
                </a:cubicBezTo>
                <a:cubicBezTo>
                  <a:pt x="19330" y="7252"/>
                  <a:pt x="19409" y="7219"/>
                  <a:pt x="19496" y="7268"/>
                </a:cubicBezTo>
                <a:cubicBezTo>
                  <a:pt x="19600" y="7326"/>
                  <a:pt x="19707" y="7396"/>
                  <a:pt x="19819" y="7441"/>
                </a:cubicBezTo>
                <a:cubicBezTo>
                  <a:pt x="19886" y="7468"/>
                  <a:pt x="19922" y="7475"/>
                  <a:pt x="19993" y="74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nk 14"/>
          <p:cNvSpPr/>
          <p:nvPr/>
        </p:nvSpPr>
        <p:spPr>
          <a:xfrm>
            <a:off x="1928880" y="3027240"/>
            <a:ext cx="2019240" cy="509760"/>
          </a:xfrm>
          <a:custGeom>
            <a:avLst/>
            <a:gdLst/>
            <a:ahLst/>
            <a:rect l="l" t="t" r="r" b="b"/>
            <a:pathLst>
              <a:path w="5607" h="1415">
                <a:moveTo>
                  <a:pt x="5432" y="8657"/>
                </a:moveTo>
                <a:cubicBezTo>
                  <a:pt x="5502" y="8677"/>
                  <a:pt x="5530" y="8715"/>
                  <a:pt x="5507" y="8806"/>
                </a:cubicBezTo>
                <a:cubicBezTo>
                  <a:pt x="5487" y="8884"/>
                  <a:pt x="5441" y="8905"/>
                  <a:pt x="5407" y="8954"/>
                </a:cubicBezTo>
                <a:cubicBezTo>
                  <a:pt x="5387" y="8995"/>
                  <a:pt x="5390" y="9012"/>
                  <a:pt x="5358" y="9004"/>
                </a:cubicBezTo>
                <a:cubicBezTo>
                  <a:pt x="5445" y="9015"/>
                  <a:pt x="5485" y="9055"/>
                  <a:pt x="5556" y="9079"/>
                </a:cubicBezTo>
                <a:cubicBezTo>
                  <a:pt x="5674" y="9118"/>
                  <a:pt x="5798" y="9070"/>
                  <a:pt x="5879" y="9004"/>
                </a:cubicBezTo>
              </a:path>
              <a:path w="5607" h="1415">
                <a:moveTo>
                  <a:pt x="5879" y="8409"/>
                </a:moveTo>
                <a:cubicBezTo>
                  <a:pt x="5867" y="8555"/>
                  <a:pt x="5839" y="8712"/>
                  <a:pt x="5829" y="8855"/>
                </a:cubicBezTo>
                <a:cubicBezTo>
                  <a:pt x="5814" y="9070"/>
                  <a:pt x="5831" y="9288"/>
                  <a:pt x="5854" y="9500"/>
                </a:cubicBezTo>
                <a:cubicBezTo>
                  <a:pt x="5861" y="9566"/>
                  <a:pt x="5837" y="9648"/>
                  <a:pt x="5854" y="9674"/>
                </a:cubicBezTo>
              </a:path>
              <a:path w="5607" h="1415">
                <a:moveTo>
                  <a:pt x="6226" y="9153"/>
                </a:moveTo>
                <a:cubicBezTo>
                  <a:pt x="6226" y="9178"/>
                  <a:pt x="6226" y="9202"/>
                  <a:pt x="6226" y="9227"/>
                </a:cubicBezTo>
                <a:cubicBezTo>
                  <a:pt x="6295" y="9176"/>
                  <a:pt x="6301" y="9120"/>
                  <a:pt x="6226" y="9153"/>
                </a:cubicBezTo>
                <a:cubicBezTo>
                  <a:pt x="6201" y="9153"/>
                  <a:pt x="6193" y="9153"/>
                  <a:pt x="6226" y="9153"/>
                </a:cubicBezTo>
              </a:path>
              <a:path w="5607" h="1415">
                <a:moveTo>
                  <a:pt x="6821" y="8558"/>
                </a:moveTo>
                <a:cubicBezTo>
                  <a:pt x="6821" y="8698"/>
                  <a:pt x="6799" y="8818"/>
                  <a:pt x="6796" y="8954"/>
                </a:cubicBezTo>
                <a:cubicBezTo>
                  <a:pt x="6792" y="9123"/>
                  <a:pt x="6792" y="9288"/>
                  <a:pt x="6821" y="9451"/>
                </a:cubicBezTo>
                <a:cubicBezTo>
                  <a:pt x="6835" y="9528"/>
                  <a:pt x="6834" y="9711"/>
                  <a:pt x="6796" y="9748"/>
                </a:cubicBezTo>
              </a:path>
              <a:path w="5607" h="1415">
                <a:moveTo>
                  <a:pt x="7392" y="8930"/>
                </a:moveTo>
                <a:cubicBezTo>
                  <a:pt x="7405" y="9031"/>
                  <a:pt x="7390" y="9229"/>
                  <a:pt x="7417" y="9327"/>
                </a:cubicBezTo>
                <a:cubicBezTo>
                  <a:pt x="7444" y="9382"/>
                  <a:pt x="7452" y="9405"/>
                  <a:pt x="7441" y="9451"/>
                </a:cubicBezTo>
              </a:path>
              <a:path w="5607" h="1415">
                <a:moveTo>
                  <a:pt x="7243" y="9227"/>
                </a:moveTo>
                <a:cubicBezTo>
                  <a:pt x="7359" y="9227"/>
                  <a:pt x="7474" y="9227"/>
                  <a:pt x="7590" y="9227"/>
                </a:cubicBezTo>
              </a:path>
              <a:path w="5607" h="1415">
                <a:moveTo>
                  <a:pt x="8012" y="9029"/>
                </a:moveTo>
                <a:cubicBezTo>
                  <a:pt x="8070" y="9029"/>
                  <a:pt x="8128" y="9029"/>
                  <a:pt x="8186" y="9029"/>
                </a:cubicBezTo>
              </a:path>
              <a:path w="5607" h="1415">
                <a:moveTo>
                  <a:pt x="8235" y="8706"/>
                </a:moveTo>
                <a:cubicBezTo>
                  <a:pt x="8418" y="8688"/>
                  <a:pt x="8423" y="8663"/>
                  <a:pt x="8582" y="8706"/>
                </a:cubicBezTo>
                <a:cubicBezTo>
                  <a:pt x="8653" y="8725"/>
                  <a:pt x="8755" y="8706"/>
                  <a:pt x="8830" y="8706"/>
                </a:cubicBezTo>
                <a:cubicBezTo>
                  <a:pt x="8786" y="8773"/>
                  <a:pt x="8758" y="8852"/>
                  <a:pt x="8731" y="8930"/>
                </a:cubicBezTo>
                <a:cubicBezTo>
                  <a:pt x="8699" y="9023"/>
                  <a:pt x="8685" y="9129"/>
                  <a:pt x="8682" y="9227"/>
                </a:cubicBezTo>
                <a:cubicBezTo>
                  <a:pt x="8677" y="9357"/>
                  <a:pt x="8690" y="9511"/>
                  <a:pt x="8706" y="9624"/>
                </a:cubicBezTo>
                <a:cubicBezTo>
                  <a:pt x="8706" y="9681"/>
                  <a:pt x="8711" y="9693"/>
                  <a:pt x="8756" y="9624"/>
                </a:cubicBezTo>
              </a:path>
              <a:path w="5607" h="1415">
                <a:moveTo>
                  <a:pt x="9029" y="9227"/>
                </a:moveTo>
                <a:cubicBezTo>
                  <a:pt x="9087" y="9242"/>
                  <a:pt x="9108" y="9239"/>
                  <a:pt x="9178" y="9227"/>
                </a:cubicBezTo>
                <a:cubicBezTo>
                  <a:pt x="9140" y="9182"/>
                  <a:pt x="9124" y="9185"/>
                  <a:pt x="9103" y="9153"/>
                </a:cubicBezTo>
              </a:path>
              <a:path w="5607" h="1415">
                <a:moveTo>
                  <a:pt x="9500" y="8930"/>
                </a:moveTo>
                <a:cubicBezTo>
                  <a:pt x="9601" y="8930"/>
                  <a:pt x="9656" y="8945"/>
                  <a:pt x="9748" y="8954"/>
                </a:cubicBezTo>
              </a:path>
              <a:path w="5607" h="1415">
                <a:moveTo>
                  <a:pt x="9971" y="8632"/>
                </a:moveTo>
                <a:cubicBezTo>
                  <a:pt x="10078" y="8632"/>
                  <a:pt x="10219" y="8609"/>
                  <a:pt x="10319" y="8657"/>
                </a:cubicBezTo>
                <a:cubicBezTo>
                  <a:pt x="10422" y="8706"/>
                  <a:pt x="10476" y="8706"/>
                  <a:pt x="10592" y="8706"/>
                </a:cubicBezTo>
                <a:cubicBezTo>
                  <a:pt x="10608" y="8706"/>
                  <a:pt x="10625" y="8706"/>
                  <a:pt x="10641" y="8706"/>
                </a:cubicBezTo>
                <a:cubicBezTo>
                  <a:pt x="10662" y="8760"/>
                  <a:pt x="10627" y="8822"/>
                  <a:pt x="10616" y="8855"/>
                </a:cubicBezTo>
                <a:cubicBezTo>
                  <a:pt x="10592" y="8927"/>
                  <a:pt x="10570" y="9004"/>
                  <a:pt x="10567" y="9079"/>
                </a:cubicBezTo>
                <a:cubicBezTo>
                  <a:pt x="10563" y="9172"/>
                  <a:pt x="10528" y="9288"/>
                  <a:pt x="10542" y="9376"/>
                </a:cubicBezTo>
                <a:cubicBezTo>
                  <a:pt x="10550" y="9427"/>
                  <a:pt x="10549" y="9552"/>
                  <a:pt x="10567" y="9599"/>
                </a:cubicBezTo>
                <a:cubicBezTo>
                  <a:pt x="10589" y="9656"/>
                  <a:pt x="10592" y="9674"/>
                  <a:pt x="10592" y="9748"/>
                </a:cubicBezTo>
                <a:cubicBezTo>
                  <a:pt x="10592" y="9646"/>
                  <a:pt x="10570" y="9608"/>
                  <a:pt x="10567" y="9525"/>
                </a:cubicBezTo>
                <a:cubicBezTo>
                  <a:pt x="10564" y="9444"/>
                  <a:pt x="10541" y="9396"/>
                  <a:pt x="10517" y="9302"/>
                </a:cubicBezTo>
              </a:path>
              <a:path w="5607" h="1415">
                <a:moveTo>
                  <a:pt x="10170" y="8558"/>
                </a:moveTo>
                <a:cubicBezTo>
                  <a:pt x="10140" y="8602"/>
                  <a:pt x="10162" y="8620"/>
                  <a:pt x="10294" y="8632"/>
                </a:cubicBezTo>
                <a:cubicBezTo>
                  <a:pt x="10346" y="8632"/>
                  <a:pt x="10362" y="8630"/>
                  <a:pt x="10319" y="8582"/>
                </a:cubicBezTo>
                <a:cubicBezTo>
                  <a:pt x="10284" y="8601"/>
                  <a:pt x="10144" y="8613"/>
                  <a:pt x="10120" y="8632"/>
                </a:cubicBezTo>
                <a:cubicBezTo>
                  <a:pt x="10091" y="8662"/>
                  <a:pt x="10080" y="8676"/>
                  <a:pt x="10071" y="8706"/>
                </a:cubicBezTo>
                <a:cubicBezTo>
                  <a:pt x="10164" y="8706"/>
                  <a:pt x="10167" y="8694"/>
                  <a:pt x="10244" y="8657"/>
                </a:cubicBezTo>
                <a:cubicBezTo>
                  <a:pt x="10289" y="8635"/>
                  <a:pt x="10413" y="8586"/>
                  <a:pt x="10443" y="8558"/>
                </a:cubicBezTo>
                <a:cubicBezTo>
                  <a:pt x="10467" y="8510"/>
                  <a:pt x="10473" y="8493"/>
                  <a:pt x="10517" y="8508"/>
                </a:cubicBezTo>
                <a:cubicBezTo>
                  <a:pt x="10482" y="8604"/>
                  <a:pt x="10461" y="8666"/>
                  <a:pt x="10393" y="8731"/>
                </a:cubicBezTo>
                <a:cubicBezTo>
                  <a:pt x="10315" y="8806"/>
                  <a:pt x="10266" y="8849"/>
                  <a:pt x="10220" y="8930"/>
                </a:cubicBezTo>
                <a:cubicBezTo>
                  <a:pt x="10267" y="8863"/>
                  <a:pt x="10340" y="8840"/>
                  <a:pt x="10393" y="8781"/>
                </a:cubicBezTo>
                <a:cubicBezTo>
                  <a:pt x="10450" y="8717"/>
                  <a:pt x="10504" y="8632"/>
                  <a:pt x="10567" y="8582"/>
                </a:cubicBezTo>
                <a:cubicBezTo>
                  <a:pt x="10589" y="8560"/>
                  <a:pt x="10594" y="8552"/>
                  <a:pt x="10616" y="8558"/>
                </a:cubicBezTo>
                <a:cubicBezTo>
                  <a:pt x="10573" y="8597"/>
                  <a:pt x="10502" y="8667"/>
                  <a:pt x="10443" y="8706"/>
                </a:cubicBezTo>
                <a:cubicBezTo>
                  <a:pt x="10378" y="8749"/>
                  <a:pt x="10295" y="8793"/>
                  <a:pt x="10244" y="8855"/>
                </a:cubicBezTo>
                <a:cubicBezTo>
                  <a:pt x="10215" y="8885"/>
                  <a:pt x="10204" y="8900"/>
                  <a:pt x="10195" y="8930"/>
                </a:cubicBezTo>
                <a:cubicBezTo>
                  <a:pt x="10256" y="8893"/>
                  <a:pt x="10268" y="8906"/>
                  <a:pt x="10319" y="8855"/>
                </a:cubicBezTo>
                <a:cubicBezTo>
                  <a:pt x="10379" y="8795"/>
                  <a:pt x="10429" y="8707"/>
                  <a:pt x="10492" y="8657"/>
                </a:cubicBezTo>
                <a:cubicBezTo>
                  <a:pt x="10549" y="8611"/>
                  <a:pt x="10579" y="8551"/>
                  <a:pt x="10616" y="8483"/>
                </a:cubicBezTo>
                <a:cubicBezTo>
                  <a:pt x="10649" y="8422"/>
                  <a:pt x="10650" y="8438"/>
                  <a:pt x="10691" y="8409"/>
                </a:cubicBezTo>
                <a:cubicBezTo>
                  <a:pt x="10665" y="8511"/>
                  <a:pt x="10666" y="8600"/>
                  <a:pt x="10666" y="8706"/>
                </a:cubicBezTo>
                <a:cubicBezTo>
                  <a:pt x="10666" y="8916"/>
                  <a:pt x="10675" y="9123"/>
                  <a:pt x="10691" y="9327"/>
                </a:cubicBezTo>
                <a:cubicBezTo>
                  <a:pt x="10700" y="9445"/>
                  <a:pt x="10704" y="9559"/>
                  <a:pt x="10716" y="9674"/>
                </a:cubicBezTo>
                <a:cubicBezTo>
                  <a:pt x="10721" y="9722"/>
                  <a:pt x="10716" y="9776"/>
                  <a:pt x="10716" y="9823"/>
                </a:cubicBezTo>
                <a:cubicBezTo>
                  <a:pt x="10688" y="9721"/>
                  <a:pt x="10700" y="9741"/>
                  <a:pt x="10592" y="9699"/>
                </a:cubicBezTo>
                <a:cubicBezTo>
                  <a:pt x="10545" y="9681"/>
                  <a:pt x="10422" y="9677"/>
                  <a:pt x="10368" y="9699"/>
                </a:cubicBezTo>
                <a:cubicBezTo>
                  <a:pt x="10308" y="9724"/>
                  <a:pt x="10118" y="9748"/>
                  <a:pt x="10269" y="9748"/>
                </a:cubicBezTo>
                <a:cubicBezTo>
                  <a:pt x="10441" y="9748"/>
                  <a:pt x="10585" y="9727"/>
                  <a:pt x="10740" y="9699"/>
                </a:cubicBezTo>
                <a:cubicBezTo>
                  <a:pt x="10831" y="9699"/>
                  <a:pt x="10856" y="9699"/>
                  <a:pt x="10914" y="9699"/>
                </a:cubicBezTo>
                <a:cubicBezTo>
                  <a:pt x="11055" y="9699"/>
                  <a:pt x="10754" y="9699"/>
                  <a:pt x="10740" y="9699"/>
                </a:cubicBezTo>
                <a:cubicBezTo>
                  <a:pt x="10587" y="9699"/>
                  <a:pt x="10445" y="9677"/>
                  <a:pt x="10294" y="9674"/>
                </a:cubicBezTo>
                <a:cubicBezTo>
                  <a:pt x="10153" y="9671"/>
                  <a:pt x="9999" y="9725"/>
                  <a:pt x="9971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nk 15"/>
          <p:cNvSpPr/>
          <p:nvPr/>
        </p:nvSpPr>
        <p:spPr>
          <a:xfrm>
            <a:off x="5759280" y="2938320"/>
            <a:ext cx="955800" cy="46368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6247" y="8359"/>
                </a:moveTo>
                <a:cubicBezTo>
                  <a:pt x="16247" y="8477"/>
                  <a:pt x="16249" y="8559"/>
                  <a:pt x="16173" y="8657"/>
                </a:cubicBezTo>
                <a:cubicBezTo>
                  <a:pt x="16111" y="8737"/>
                  <a:pt x="16077" y="8788"/>
                  <a:pt x="15999" y="8855"/>
                </a:cubicBezTo>
                <a:cubicBezTo>
                  <a:pt x="16230" y="8855"/>
                  <a:pt x="16447" y="8869"/>
                  <a:pt x="16669" y="8806"/>
                </a:cubicBezTo>
              </a:path>
              <a:path w="2655" h="1291">
                <a:moveTo>
                  <a:pt x="16842" y="8161"/>
                </a:moveTo>
                <a:cubicBezTo>
                  <a:pt x="16871" y="8398"/>
                  <a:pt x="16852" y="8619"/>
                  <a:pt x="16818" y="8855"/>
                </a:cubicBezTo>
                <a:cubicBezTo>
                  <a:pt x="16799" y="8985"/>
                  <a:pt x="16795" y="9124"/>
                  <a:pt x="16768" y="9252"/>
                </a:cubicBezTo>
                <a:cubicBezTo>
                  <a:pt x="16751" y="9332"/>
                  <a:pt x="16743" y="9368"/>
                  <a:pt x="16743" y="9451"/>
                </a:cubicBezTo>
              </a:path>
              <a:path w="2655" h="1291">
                <a:moveTo>
                  <a:pt x="17413" y="8483"/>
                </a:moveTo>
                <a:cubicBezTo>
                  <a:pt x="17413" y="8693"/>
                  <a:pt x="17394" y="8875"/>
                  <a:pt x="17388" y="9079"/>
                </a:cubicBezTo>
                <a:cubicBezTo>
                  <a:pt x="17386" y="9162"/>
                  <a:pt x="17381" y="9227"/>
                  <a:pt x="17413" y="9302"/>
                </a:cubicBezTo>
              </a:path>
              <a:path w="2655" h="1291">
                <a:moveTo>
                  <a:pt x="17190" y="8781"/>
                </a:moveTo>
                <a:cubicBezTo>
                  <a:pt x="17302" y="8781"/>
                  <a:pt x="17402" y="8797"/>
                  <a:pt x="17512" y="8806"/>
                </a:cubicBezTo>
                <a:cubicBezTo>
                  <a:pt x="17612" y="8806"/>
                  <a:pt x="17647" y="8806"/>
                  <a:pt x="17711" y="8781"/>
                </a:cubicBezTo>
              </a:path>
              <a:path w="2655" h="1291">
                <a:moveTo>
                  <a:pt x="18231" y="8558"/>
                </a:moveTo>
                <a:cubicBezTo>
                  <a:pt x="18198" y="8615"/>
                  <a:pt x="18161" y="8738"/>
                  <a:pt x="18107" y="8781"/>
                </a:cubicBezTo>
                <a:cubicBezTo>
                  <a:pt x="18066" y="8781"/>
                  <a:pt x="18058" y="8798"/>
                  <a:pt x="18083" y="8855"/>
                </a:cubicBezTo>
                <a:cubicBezTo>
                  <a:pt x="18161" y="8866"/>
                  <a:pt x="18188" y="8907"/>
                  <a:pt x="18256" y="8930"/>
                </a:cubicBezTo>
                <a:cubicBezTo>
                  <a:pt x="18333" y="8956"/>
                  <a:pt x="18432" y="8935"/>
                  <a:pt x="18504" y="8930"/>
                </a:cubicBezTo>
                <a:cubicBezTo>
                  <a:pt x="18529" y="8930"/>
                  <a:pt x="18554" y="8930"/>
                  <a:pt x="18579" y="8930"/>
                </a:cubicBezTo>
              </a:path>
              <a:path w="2655" h="1291">
                <a:moveTo>
                  <a:pt x="18653" y="8161"/>
                </a:moveTo>
                <a:cubicBezTo>
                  <a:pt x="18606" y="8310"/>
                  <a:pt x="18542" y="8475"/>
                  <a:pt x="18529" y="8632"/>
                </a:cubicBezTo>
                <a:cubicBezTo>
                  <a:pt x="18514" y="8809"/>
                  <a:pt x="18536" y="8982"/>
                  <a:pt x="18579" y="9153"/>
                </a:cubicBezTo>
                <a:cubicBezTo>
                  <a:pt x="18605" y="9254"/>
                  <a:pt x="18604" y="9346"/>
                  <a:pt x="18604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nk 16"/>
          <p:cNvSpPr/>
          <p:nvPr/>
        </p:nvSpPr>
        <p:spPr>
          <a:xfrm>
            <a:off x="6323040" y="3589200"/>
            <a:ext cx="276120" cy="4748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18331" y="10269"/>
                </a:moveTo>
                <a:cubicBezTo>
                  <a:pt x="18153" y="10141"/>
                  <a:pt x="18074" y="10085"/>
                  <a:pt x="17859" y="10071"/>
                </a:cubicBezTo>
                <a:cubicBezTo>
                  <a:pt x="17758" y="10065"/>
                  <a:pt x="17654" y="10053"/>
                  <a:pt x="17587" y="10145"/>
                </a:cubicBezTo>
                <a:cubicBezTo>
                  <a:pt x="17524" y="10232"/>
                  <a:pt x="17577" y="10346"/>
                  <a:pt x="17636" y="10418"/>
                </a:cubicBezTo>
                <a:cubicBezTo>
                  <a:pt x="17750" y="10557"/>
                  <a:pt x="17900" y="10672"/>
                  <a:pt x="18008" y="10815"/>
                </a:cubicBezTo>
                <a:cubicBezTo>
                  <a:pt x="18098" y="10934"/>
                  <a:pt x="18223" y="11060"/>
                  <a:pt x="18256" y="11212"/>
                </a:cubicBezTo>
                <a:cubicBezTo>
                  <a:pt x="18256" y="11228"/>
                  <a:pt x="18256" y="11245"/>
                  <a:pt x="18256" y="11261"/>
                </a:cubicBezTo>
                <a:cubicBezTo>
                  <a:pt x="18152" y="11272"/>
                  <a:pt x="18060" y="11230"/>
                  <a:pt x="17983" y="11137"/>
                </a:cubicBezTo>
                <a:cubicBezTo>
                  <a:pt x="17915" y="11054"/>
                  <a:pt x="17870" y="10923"/>
                  <a:pt x="17884" y="10815"/>
                </a:cubicBezTo>
                <a:cubicBezTo>
                  <a:pt x="17902" y="10681"/>
                  <a:pt x="17958" y="10593"/>
                  <a:pt x="18033" y="10492"/>
                </a:cubicBezTo>
                <a:cubicBezTo>
                  <a:pt x="18110" y="10388"/>
                  <a:pt x="18163" y="10232"/>
                  <a:pt x="18256" y="10145"/>
                </a:cubicBezTo>
                <a:cubicBezTo>
                  <a:pt x="18325" y="10081"/>
                  <a:pt x="18319" y="10050"/>
                  <a:pt x="18256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nk 17"/>
          <p:cNvSpPr/>
          <p:nvPr/>
        </p:nvSpPr>
        <p:spPr>
          <a:xfrm>
            <a:off x="5973840" y="4143240"/>
            <a:ext cx="1411200" cy="517680"/>
          </a:xfrm>
          <a:custGeom>
            <a:avLst/>
            <a:gdLst/>
            <a:ahLst/>
            <a:rect l="l" t="t" r="r" b="b"/>
            <a:pathLst>
              <a:path w="3920" h="1440">
                <a:moveTo>
                  <a:pt x="17214" y="11708"/>
                </a:moveTo>
                <a:cubicBezTo>
                  <a:pt x="17114" y="11657"/>
                  <a:pt x="17049" y="11654"/>
                  <a:pt x="16942" y="11633"/>
                </a:cubicBezTo>
                <a:cubicBezTo>
                  <a:pt x="16847" y="11614"/>
                  <a:pt x="16738" y="11593"/>
                  <a:pt x="16644" y="11633"/>
                </a:cubicBezTo>
                <a:cubicBezTo>
                  <a:pt x="16619" y="11658"/>
                  <a:pt x="16611" y="11666"/>
                  <a:pt x="16594" y="11683"/>
                </a:cubicBezTo>
                <a:cubicBezTo>
                  <a:pt x="16660" y="11787"/>
                  <a:pt x="16749" y="11824"/>
                  <a:pt x="16842" y="11906"/>
                </a:cubicBezTo>
                <a:cubicBezTo>
                  <a:pt x="16959" y="12009"/>
                  <a:pt x="17093" y="12111"/>
                  <a:pt x="17165" y="12254"/>
                </a:cubicBezTo>
                <a:cubicBezTo>
                  <a:pt x="17208" y="12339"/>
                  <a:pt x="17240" y="12422"/>
                  <a:pt x="17140" y="12477"/>
                </a:cubicBezTo>
                <a:cubicBezTo>
                  <a:pt x="17059" y="12522"/>
                  <a:pt x="16884" y="12517"/>
                  <a:pt x="16793" y="12502"/>
                </a:cubicBezTo>
                <a:cubicBezTo>
                  <a:pt x="16726" y="12491"/>
                  <a:pt x="16588" y="12424"/>
                  <a:pt x="16644" y="12328"/>
                </a:cubicBezTo>
                <a:cubicBezTo>
                  <a:pt x="16669" y="12303"/>
                  <a:pt x="16693" y="12279"/>
                  <a:pt x="16718" y="12254"/>
                </a:cubicBezTo>
              </a:path>
              <a:path w="3920" h="1440">
                <a:moveTo>
                  <a:pt x="17810" y="11832"/>
                </a:moveTo>
                <a:cubicBezTo>
                  <a:pt x="17873" y="11895"/>
                  <a:pt x="17753" y="11799"/>
                  <a:pt x="17735" y="11782"/>
                </a:cubicBezTo>
                <a:cubicBezTo>
                  <a:pt x="17681" y="11733"/>
                  <a:pt x="17635" y="11762"/>
                  <a:pt x="17587" y="11807"/>
                </a:cubicBezTo>
                <a:cubicBezTo>
                  <a:pt x="17501" y="11888"/>
                  <a:pt x="17511" y="11949"/>
                  <a:pt x="17487" y="12055"/>
                </a:cubicBezTo>
                <a:cubicBezTo>
                  <a:pt x="17457" y="12189"/>
                  <a:pt x="17500" y="12313"/>
                  <a:pt x="17611" y="12402"/>
                </a:cubicBezTo>
                <a:cubicBezTo>
                  <a:pt x="17675" y="12453"/>
                  <a:pt x="17760" y="12446"/>
                  <a:pt x="17835" y="12452"/>
                </a:cubicBezTo>
              </a:path>
              <a:path w="3920" h="1440">
                <a:moveTo>
                  <a:pt x="18281" y="11931"/>
                </a:moveTo>
                <a:cubicBezTo>
                  <a:pt x="18196" y="11962"/>
                  <a:pt x="18084" y="11997"/>
                  <a:pt x="18033" y="12080"/>
                </a:cubicBezTo>
                <a:cubicBezTo>
                  <a:pt x="17997" y="12138"/>
                  <a:pt x="17963" y="12271"/>
                  <a:pt x="18008" y="12328"/>
                </a:cubicBezTo>
                <a:cubicBezTo>
                  <a:pt x="18054" y="12386"/>
                  <a:pt x="18169" y="12445"/>
                  <a:pt x="18231" y="12378"/>
                </a:cubicBezTo>
                <a:cubicBezTo>
                  <a:pt x="18284" y="12320"/>
                  <a:pt x="18340" y="12234"/>
                  <a:pt x="18355" y="12154"/>
                </a:cubicBezTo>
                <a:cubicBezTo>
                  <a:pt x="18355" y="12103"/>
                  <a:pt x="18356" y="12084"/>
                  <a:pt x="18380" y="12055"/>
                </a:cubicBezTo>
                <a:cubicBezTo>
                  <a:pt x="18324" y="12147"/>
                  <a:pt x="18331" y="12270"/>
                  <a:pt x="18355" y="12378"/>
                </a:cubicBezTo>
                <a:cubicBezTo>
                  <a:pt x="18377" y="12475"/>
                  <a:pt x="18438" y="12575"/>
                  <a:pt x="18554" y="12551"/>
                </a:cubicBezTo>
                <a:cubicBezTo>
                  <a:pt x="18571" y="12543"/>
                  <a:pt x="18587" y="12534"/>
                  <a:pt x="18604" y="12526"/>
                </a:cubicBezTo>
              </a:path>
              <a:path w="3920" h="1440">
                <a:moveTo>
                  <a:pt x="18852" y="11509"/>
                </a:moveTo>
                <a:cubicBezTo>
                  <a:pt x="18795" y="11593"/>
                  <a:pt x="18763" y="11720"/>
                  <a:pt x="18752" y="11832"/>
                </a:cubicBezTo>
                <a:cubicBezTo>
                  <a:pt x="18736" y="11997"/>
                  <a:pt x="18725" y="12164"/>
                  <a:pt x="18752" y="12328"/>
                </a:cubicBezTo>
                <a:cubicBezTo>
                  <a:pt x="18764" y="12399"/>
                  <a:pt x="18761" y="12528"/>
                  <a:pt x="18827" y="12576"/>
                </a:cubicBezTo>
                <a:cubicBezTo>
                  <a:pt x="18843" y="12584"/>
                  <a:pt x="18860" y="12593"/>
                  <a:pt x="18876" y="12601"/>
                </a:cubicBezTo>
              </a:path>
              <a:path w="3920" h="1440">
                <a:moveTo>
                  <a:pt x="19273" y="11956"/>
                </a:moveTo>
                <a:cubicBezTo>
                  <a:pt x="19128" y="12012"/>
                  <a:pt x="19015" y="12028"/>
                  <a:pt x="19000" y="12204"/>
                </a:cubicBezTo>
                <a:cubicBezTo>
                  <a:pt x="18992" y="12295"/>
                  <a:pt x="19021" y="12376"/>
                  <a:pt x="19100" y="12427"/>
                </a:cubicBezTo>
                <a:cubicBezTo>
                  <a:pt x="19152" y="12461"/>
                  <a:pt x="19223" y="12455"/>
                  <a:pt x="19273" y="12402"/>
                </a:cubicBezTo>
                <a:cubicBezTo>
                  <a:pt x="19321" y="12350"/>
                  <a:pt x="19338" y="12242"/>
                  <a:pt x="19348" y="12179"/>
                </a:cubicBezTo>
                <a:cubicBezTo>
                  <a:pt x="19348" y="12162"/>
                  <a:pt x="19348" y="12146"/>
                  <a:pt x="19348" y="12129"/>
                </a:cubicBezTo>
                <a:cubicBezTo>
                  <a:pt x="19315" y="12209"/>
                  <a:pt x="19282" y="12237"/>
                  <a:pt x="19348" y="12328"/>
                </a:cubicBezTo>
                <a:cubicBezTo>
                  <a:pt x="19421" y="12428"/>
                  <a:pt x="19550" y="12468"/>
                  <a:pt x="19645" y="12378"/>
                </a:cubicBezTo>
                <a:cubicBezTo>
                  <a:pt x="19691" y="12334"/>
                  <a:pt x="19737" y="12167"/>
                  <a:pt x="19745" y="12105"/>
                </a:cubicBezTo>
                <a:cubicBezTo>
                  <a:pt x="19756" y="12021"/>
                  <a:pt x="19759" y="11782"/>
                  <a:pt x="19720" y="11857"/>
                </a:cubicBezTo>
                <a:cubicBezTo>
                  <a:pt x="19679" y="11935"/>
                  <a:pt x="19757" y="12094"/>
                  <a:pt x="19794" y="12154"/>
                </a:cubicBezTo>
                <a:cubicBezTo>
                  <a:pt x="19896" y="12320"/>
                  <a:pt x="20019" y="12474"/>
                  <a:pt x="20141" y="12626"/>
                </a:cubicBezTo>
                <a:cubicBezTo>
                  <a:pt x="20257" y="12770"/>
                  <a:pt x="20346" y="12881"/>
                  <a:pt x="20513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nk 18"/>
          <p:cNvSpPr/>
          <p:nvPr/>
        </p:nvSpPr>
        <p:spPr>
          <a:xfrm>
            <a:off x="2133720" y="3643200"/>
            <a:ext cx="1443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102" y="10120"/>
                </a:moveTo>
                <a:cubicBezTo>
                  <a:pt x="6082" y="10219"/>
                  <a:pt x="6078" y="10328"/>
                  <a:pt x="6028" y="10418"/>
                </a:cubicBezTo>
                <a:cubicBezTo>
                  <a:pt x="6000" y="10469"/>
                  <a:pt x="5947" y="10510"/>
                  <a:pt x="5928" y="10567"/>
                </a:cubicBezTo>
                <a:cubicBezTo>
                  <a:pt x="5928" y="10575"/>
                  <a:pt x="5928" y="10584"/>
                  <a:pt x="5928" y="10592"/>
                </a:cubicBezTo>
                <a:cubicBezTo>
                  <a:pt x="6033" y="10592"/>
                  <a:pt x="6070" y="10620"/>
                  <a:pt x="6152" y="10641"/>
                </a:cubicBezTo>
                <a:cubicBezTo>
                  <a:pt x="6237" y="10663"/>
                  <a:pt x="6266" y="10636"/>
                  <a:pt x="6325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nk 19"/>
          <p:cNvSpPr/>
          <p:nvPr/>
        </p:nvSpPr>
        <p:spPr>
          <a:xfrm>
            <a:off x="2303640" y="3598920"/>
            <a:ext cx="2664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6449" y="9996"/>
                </a:moveTo>
                <a:cubicBezTo>
                  <a:pt x="6427" y="10164"/>
                  <a:pt x="6424" y="10322"/>
                  <a:pt x="6424" y="10492"/>
                </a:cubicBezTo>
                <a:cubicBezTo>
                  <a:pt x="6424" y="10647"/>
                  <a:pt x="6384" y="10812"/>
                  <a:pt x="6400" y="10964"/>
                </a:cubicBezTo>
                <a:cubicBezTo>
                  <a:pt x="6408" y="11037"/>
                  <a:pt x="6399" y="11193"/>
                  <a:pt x="6424" y="11261"/>
                </a:cubicBezTo>
                <a:cubicBezTo>
                  <a:pt x="6447" y="11284"/>
                  <a:pt x="6451" y="11292"/>
                  <a:pt x="6474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nk 20"/>
          <p:cNvSpPr/>
          <p:nvPr/>
        </p:nvSpPr>
        <p:spPr>
          <a:xfrm>
            <a:off x="2562120" y="3724200"/>
            <a:ext cx="36720" cy="276480"/>
          </a:xfrm>
          <a:custGeom>
            <a:avLst/>
            <a:gdLst/>
            <a:ahLst/>
            <a:rect l="l" t="t" r="r" b="b"/>
            <a:pathLst>
              <a:path w="100" h="769">
                <a:moveTo>
                  <a:pt x="7169" y="10344"/>
                </a:moveTo>
                <a:cubicBezTo>
                  <a:pt x="7140" y="10492"/>
                  <a:pt x="7119" y="10614"/>
                  <a:pt x="7119" y="10765"/>
                </a:cubicBezTo>
                <a:cubicBezTo>
                  <a:pt x="7119" y="10868"/>
                  <a:pt x="7153" y="10944"/>
                  <a:pt x="7169" y="11038"/>
                </a:cubicBezTo>
                <a:cubicBezTo>
                  <a:pt x="7179" y="11097"/>
                  <a:pt x="7161" y="11098"/>
                  <a:pt x="7218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nk 21"/>
          <p:cNvSpPr/>
          <p:nvPr/>
        </p:nvSpPr>
        <p:spPr>
          <a:xfrm>
            <a:off x="2509920" y="3857760"/>
            <a:ext cx="160200" cy="27000"/>
          </a:xfrm>
          <a:custGeom>
            <a:avLst/>
            <a:gdLst/>
            <a:ahLst/>
            <a:rect l="l" t="t" r="r" b="b"/>
            <a:pathLst>
              <a:path w="448" h="75">
                <a:moveTo>
                  <a:pt x="7020" y="10740"/>
                </a:moveTo>
                <a:cubicBezTo>
                  <a:pt x="7003" y="10732"/>
                  <a:pt x="6987" y="10724"/>
                  <a:pt x="6970" y="10716"/>
                </a:cubicBezTo>
                <a:cubicBezTo>
                  <a:pt x="7060" y="10727"/>
                  <a:pt x="7152" y="10740"/>
                  <a:pt x="7243" y="10765"/>
                </a:cubicBezTo>
                <a:cubicBezTo>
                  <a:pt x="7324" y="10792"/>
                  <a:pt x="7356" y="10801"/>
                  <a:pt x="7417" y="107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nk 22"/>
          <p:cNvSpPr/>
          <p:nvPr/>
        </p:nvSpPr>
        <p:spPr>
          <a:xfrm>
            <a:off x="2830680" y="3670200"/>
            <a:ext cx="250560" cy="411120"/>
          </a:xfrm>
          <a:custGeom>
            <a:avLst/>
            <a:gdLst/>
            <a:ahLst/>
            <a:rect l="l" t="t" r="r" b="b"/>
            <a:pathLst>
              <a:path w="696" h="1142">
                <a:moveTo>
                  <a:pt x="7863" y="10195"/>
                </a:moveTo>
                <a:cubicBezTo>
                  <a:pt x="7996" y="10195"/>
                  <a:pt x="8108" y="10206"/>
                  <a:pt x="8235" y="10220"/>
                </a:cubicBezTo>
                <a:cubicBezTo>
                  <a:pt x="8340" y="10232"/>
                  <a:pt x="8462" y="10231"/>
                  <a:pt x="8558" y="10195"/>
                </a:cubicBezTo>
                <a:cubicBezTo>
                  <a:pt x="8526" y="10270"/>
                  <a:pt x="8500" y="10337"/>
                  <a:pt x="8458" y="10418"/>
                </a:cubicBezTo>
                <a:cubicBezTo>
                  <a:pt x="8411" y="10509"/>
                  <a:pt x="8393" y="10612"/>
                  <a:pt x="8384" y="10716"/>
                </a:cubicBezTo>
                <a:cubicBezTo>
                  <a:pt x="8374" y="10828"/>
                  <a:pt x="8396" y="10934"/>
                  <a:pt x="8409" y="11038"/>
                </a:cubicBezTo>
                <a:cubicBezTo>
                  <a:pt x="8419" y="11124"/>
                  <a:pt x="8419" y="11212"/>
                  <a:pt x="8434" y="11286"/>
                </a:cubicBezTo>
                <a:cubicBezTo>
                  <a:pt x="8434" y="11328"/>
                  <a:pt x="8434" y="11353"/>
                  <a:pt x="8434" y="113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nk 23"/>
          <p:cNvSpPr/>
          <p:nvPr/>
        </p:nvSpPr>
        <p:spPr>
          <a:xfrm>
            <a:off x="2509920" y="4232160"/>
            <a:ext cx="79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6970" y="11757"/>
                </a:moveTo>
                <a:cubicBezTo>
                  <a:pt x="6970" y="11916"/>
                  <a:pt x="6981" y="12779"/>
                  <a:pt x="6995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nk 24"/>
          <p:cNvSpPr/>
          <p:nvPr/>
        </p:nvSpPr>
        <p:spPr>
          <a:xfrm>
            <a:off x="2643120" y="4249800"/>
            <a:ext cx="27000" cy="376200"/>
          </a:xfrm>
          <a:custGeom>
            <a:avLst/>
            <a:gdLst/>
            <a:ahLst/>
            <a:rect l="l" t="t" r="r" b="b"/>
            <a:pathLst>
              <a:path w="76" h="1043">
                <a:moveTo>
                  <a:pt x="7392" y="11807"/>
                </a:moveTo>
                <a:cubicBezTo>
                  <a:pt x="7406" y="12000"/>
                  <a:pt x="7382" y="12140"/>
                  <a:pt x="7367" y="12328"/>
                </a:cubicBezTo>
                <a:cubicBezTo>
                  <a:pt x="7358" y="12443"/>
                  <a:pt x="7347" y="12562"/>
                  <a:pt x="7342" y="12675"/>
                </a:cubicBezTo>
                <a:cubicBezTo>
                  <a:pt x="7339" y="12741"/>
                  <a:pt x="7357" y="12787"/>
                  <a:pt x="7367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nk 25"/>
          <p:cNvSpPr/>
          <p:nvPr/>
        </p:nvSpPr>
        <p:spPr>
          <a:xfrm>
            <a:off x="2320920" y="4089240"/>
            <a:ext cx="627120" cy="625680"/>
          </a:xfrm>
          <a:custGeom>
            <a:avLst/>
            <a:gdLst/>
            <a:ahLst/>
            <a:rect l="l" t="t" r="r" b="b"/>
            <a:pathLst>
              <a:path w="1738" h="1737">
                <a:moveTo>
                  <a:pt x="7863" y="11683"/>
                </a:moveTo>
                <a:cubicBezTo>
                  <a:pt x="7740" y="11535"/>
                  <a:pt x="7677" y="11462"/>
                  <a:pt x="7491" y="11410"/>
                </a:cubicBezTo>
                <a:cubicBezTo>
                  <a:pt x="7321" y="11362"/>
                  <a:pt x="7166" y="11351"/>
                  <a:pt x="6995" y="11410"/>
                </a:cubicBezTo>
                <a:cubicBezTo>
                  <a:pt x="6861" y="11456"/>
                  <a:pt x="6715" y="11578"/>
                  <a:pt x="6623" y="11683"/>
                </a:cubicBezTo>
                <a:cubicBezTo>
                  <a:pt x="6506" y="11816"/>
                  <a:pt x="6457" y="11957"/>
                  <a:pt x="6449" y="12129"/>
                </a:cubicBezTo>
                <a:cubicBezTo>
                  <a:pt x="6441" y="12299"/>
                  <a:pt x="6514" y="12471"/>
                  <a:pt x="6623" y="12601"/>
                </a:cubicBezTo>
                <a:cubicBezTo>
                  <a:pt x="6747" y="12748"/>
                  <a:pt x="6901" y="12879"/>
                  <a:pt x="7069" y="12973"/>
                </a:cubicBezTo>
                <a:cubicBezTo>
                  <a:pt x="7222" y="13059"/>
                  <a:pt x="7412" y="13113"/>
                  <a:pt x="7590" y="13097"/>
                </a:cubicBezTo>
                <a:cubicBezTo>
                  <a:pt x="7728" y="13085"/>
                  <a:pt x="7916" y="13031"/>
                  <a:pt x="8012" y="12923"/>
                </a:cubicBezTo>
                <a:cubicBezTo>
                  <a:pt x="8176" y="12738"/>
                  <a:pt x="8211" y="12517"/>
                  <a:pt x="8186" y="12278"/>
                </a:cubicBezTo>
                <a:cubicBezTo>
                  <a:pt x="8167" y="12093"/>
                  <a:pt x="8083" y="11939"/>
                  <a:pt x="7962" y="11807"/>
                </a:cubicBezTo>
                <a:cubicBezTo>
                  <a:pt x="7829" y="11662"/>
                  <a:pt x="7681" y="11564"/>
                  <a:pt x="7491" y="11509"/>
                </a:cubicBezTo>
                <a:cubicBezTo>
                  <a:pt x="7450" y="11501"/>
                  <a:pt x="7408" y="11493"/>
                  <a:pt x="7367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 that i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ere reversed, you would still receive the same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direction angle of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angle between the vect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ge 464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#17,19,25,33,37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nk 2"/>
          <p:cNvSpPr/>
          <p:nvPr/>
        </p:nvSpPr>
        <p:spPr>
          <a:xfrm>
            <a:off x="741240" y="177840"/>
            <a:ext cx="1679760" cy="457200"/>
          </a:xfrm>
          <a:custGeom>
            <a:avLst/>
            <a:gdLst/>
            <a:ahLst/>
            <a:rect l="l" t="t" r="r" b="b"/>
            <a:pathLst>
              <a:path w="4664" h="1266">
                <a:moveTo>
                  <a:pt x="2059" y="1042"/>
                </a:moveTo>
                <a:cubicBezTo>
                  <a:pt x="2059" y="1127"/>
                  <a:pt x="2095" y="1206"/>
                  <a:pt x="2084" y="1290"/>
                </a:cubicBezTo>
                <a:cubicBezTo>
                  <a:pt x="2069" y="1407"/>
                  <a:pt x="2038" y="1500"/>
                  <a:pt x="2084" y="1612"/>
                </a:cubicBezTo>
                <a:cubicBezTo>
                  <a:pt x="2110" y="1675"/>
                  <a:pt x="2158" y="1716"/>
                  <a:pt x="2232" y="1687"/>
                </a:cubicBezTo>
                <a:cubicBezTo>
                  <a:pt x="2307" y="1658"/>
                  <a:pt x="2312" y="1594"/>
                  <a:pt x="2356" y="1538"/>
                </a:cubicBezTo>
                <a:cubicBezTo>
                  <a:pt x="2424" y="1449"/>
                  <a:pt x="2462" y="1355"/>
                  <a:pt x="2480" y="1240"/>
                </a:cubicBezTo>
                <a:cubicBezTo>
                  <a:pt x="2491" y="1171"/>
                  <a:pt x="2512" y="980"/>
                  <a:pt x="2480" y="1042"/>
                </a:cubicBezTo>
                <a:cubicBezTo>
                  <a:pt x="2454" y="1091"/>
                  <a:pt x="2463" y="1254"/>
                  <a:pt x="2456" y="1315"/>
                </a:cubicBezTo>
                <a:cubicBezTo>
                  <a:pt x="2445" y="1406"/>
                  <a:pt x="2463" y="1463"/>
                  <a:pt x="2505" y="1538"/>
                </a:cubicBezTo>
                <a:cubicBezTo>
                  <a:pt x="2513" y="1555"/>
                  <a:pt x="2522" y="1571"/>
                  <a:pt x="2530" y="1588"/>
                </a:cubicBezTo>
              </a:path>
              <a:path w="4664" h="1266">
                <a:moveTo>
                  <a:pt x="2877" y="1166"/>
                </a:moveTo>
                <a:cubicBezTo>
                  <a:pt x="2977" y="1147"/>
                  <a:pt x="3078" y="1138"/>
                  <a:pt x="3175" y="1116"/>
                </a:cubicBezTo>
              </a:path>
              <a:path w="4664" h="1266">
                <a:moveTo>
                  <a:pt x="2927" y="1414"/>
                </a:moveTo>
                <a:cubicBezTo>
                  <a:pt x="3077" y="1376"/>
                  <a:pt x="3099" y="1382"/>
                  <a:pt x="3175" y="1339"/>
                </a:cubicBezTo>
              </a:path>
              <a:path w="4664" h="1266">
                <a:moveTo>
                  <a:pt x="3894" y="595"/>
                </a:moveTo>
                <a:cubicBezTo>
                  <a:pt x="3826" y="651"/>
                  <a:pt x="3765" y="712"/>
                  <a:pt x="3696" y="769"/>
                </a:cubicBezTo>
                <a:cubicBezTo>
                  <a:pt x="3579" y="867"/>
                  <a:pt x="3460" y="961"/>
                  <a:pt x="3349" y="1067"/>
                </a:cubicBezTo>
                <a:cubicBezTo>
                  <a:pt x="3313" y="1102"/>
                  <a:pt x="3229" y="1182"/>
                  <a:pt x="3249" y="1240"/>
                </a:cubicBezTo>
                <a:cubicBezTo>
                  <a:pt x="3273" y="1312"/>
                  <a:pt x="3372" y="1299"/>
                  <a:pt x="3423" y="1315"/>
                </a:cubicBezTo>
                <a:cubicBezTo>
                  <a:pt x="3533" y="1349"/>
                  <a:pt x="3629" y="1427"/>
                  <a:pt x="3721" y="1488"/>
                </a:cubicBezTo>
                <a:cubicBezTo>
                  <a:pt x="3778" y="1526"/>
                  <a:pt x="3842" y="1542"/>
                  <a:pt x="3894" y="1588"/>
                </a:cubicBezTo>
                <a:cubicBezTo>
                  <a:pt x="3918" y="1609"/>
                  <a:pt x="3913" y="1605"/>
                  <a:pt x="3944" y="1612"/>
                </a:cubicBezTo>
              </a:path>
              <a:path w="4664" h="1266">
                <a:moveTo>
                  <a:pt x="4118" y="893"/>
                </a:moveTo>
                <a:cubicBezTo>
                  <a:pt x="4167" y="794"/>
                  <a:pt x="4184" y="707"/>
                  <a:pt x="4316" y="744"/>
                </a:cubicBezTo>
                <a:cubicBezTo>
                  <a:pt x="4412" y="771"/>
                  <a:pt x="4453" y="847"/>
                  <a:pt x="4465" y="943"/>
                </a:cubicBezTo>
                <a:cubicBezTo>
                  <a:pt x="4478" y="1043"/>
                  <a:pt x="4477" y="1222"/>
                  <a:pt x="4440" y="1315"/>
                </a:cubicBezTo>
                <a:cubicBezTo>
                  <a:pt x="4415" y="1378"/>
                  <a:pt x="4349" y="1474"/>
                  <a:pt x="4291" y="1513"/>
                </a:cubicBezTo>
                <a:cubicBezTo>
                  <a:pt x="4234" y="1551"/>
                  <a:pt x="4216" y="1542"/>
                  <a:pt x="4167" y="1513"/>
                </a:cubicBezTo>
                <a:cubicBezTo>
                  <a:pt x="4182" y="1447"/>
                  <a:pt x="4217" y="1316"/>
                  <a:pt x="4316" y="1339"/>
                </a:cubicBezTo>
                <a:cubicBezTo>
                  <a:pt x="4376" y="1353"/>
                  <a:pt x="4425" y="1429"/>
                  <a:pt x="4465" y="1463"/>
                </a:cubicBezTo>
                <a:cubicBezTo>
                  <a:pt x="4503" y="1496"/>
                  <a:pt x="4545" y="1527"/>
                  <a:pt x="4589" y="1538"/>
                </a:cubicBezTo>
              </a:path>
              <a:path w="4664" h="1266">
                <a:moveTo>
                  <a:pt x="4862" y="1414"/>
                </a:moveTo>
                <a:cubicBezTo>
                  <a:pt x="4858" y="1456"/>
                  <a:pt x="4849" y="1724"/>
                  <a:pt x="4812" y="1761"/>
                </a:cubicBezTo>
              </a:path>
              <a:path w="4664" h="1266">
                <a:moveTo>
                  <a:pt x="5159" y="868"/>
                </a:moveTo>
                <a:cubicBezTo>
                  <a:pt x="5225" y="790"/>
                  <a:pt x="5299" y="698"/>
                  <a:pt x="5407" y="670"/>
                </a:cubicBezTo>
                <a:cubicBezTo>
                  <a:pt x="5478" y="651"/>
                  <a:pt x="5573" y="674"/>
                  <a:pt x="5631" y="719"/>
                </a:cubicBezTo>
                <a:cubicBezTo>
                  <a:pt x="5718" y="787"/>
                  <a:pt x="5720" y="916"/>
                  <a:pt x="5705" y="1017"/>
                </a:cubicBezTo>
                <a:cubicBezTo>
                  <a:pt x="5691" y="1115"/>
                  <a:pt x="5648" y="1267"/>
                  <a:pt x="5581" y="1339"/>
                </a:cubicBezTo>
                <a:cubicBezTo>
                  <a:pt x="5543" y="1380"/>
                  <a:pt x="5482" y="1407"/>
                  <a:pt x="5432" y="1414"/>
                </a:cubicBezTo>
                <a:cubicBezTo>
                  <a:pt x="5401" y="1333"/>
                  <a:pt x="5402" y="1296"/>
                  <a:pt x="5432" y="1215"/>
                </a:cubicBezTo>
                <a:cubicBezTo>
                  <a:pt x="5499" y="1223"/>
                  <a:pt x="5575" y="1246"/>
                  <a:pt x="5631" y="1290"/>
                </a:cubicBezTo>
                <a:cubicBezTo>
                  <a:pt x="5705" y="1347"/>
                  <a:pt x="5772" y="1401"/>
                  <a:pt x="5879" y="1364"/>
                </a:cubicBezTo>
                <a:cubicBezTo>
                  <a:pt x="5904" y="1348"/>
                  <a:pt x="5928" y="1331"/>
                  <a:pt x="5953" y="1315"/>
                </a:cubicBezTo>
              </a:path>
              <a:path w="4664" h="1266">
                <a:moveTo>
                  <a:pt x="5978" y="496"/>
                </a:moveTo>
                <a:cubicBezTo>
                  <a:pt x="6144" y="561"/>
                  <a:pt x="6308" y="599"/>
                  <a:pt x="6474" y="645"/>
                </a:cubicBezTo>
                <a:cubicBezTo>
                  <a:pt x="6539" y="663"/>
                  <a:pt x="6614" y="708"/>
                  <a:pt x="6672" y="719"/>
                </a:cubicBezTo>
                <a:cubicBezTo>
                  <a:pt x="6689" y="719"/>
                  <a:pt x="6705" y="719"/>
                  <a:pt x="6722" y="719"/>
                </a:cubicBezTo>
                <a:cubicBezTo>
                  <a:pt x="6710" y="814"/>
                  <a:pt x="6671" y="907"/>
                  <a:pt x="6623" y="992"/>
                </a:cubicBezTo>
                <a:cubicBezTo>
                  <a:pt x="6527" y="1162"/>
                  <a:pt x="6405" y="1343"/>
                  <a:pt x="6276" y="14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nk 3"/>
          <p:cNvSpPr/>
          <p:nvPr/>
        </p:nvSpPr>
        <p:spPr>
          <a:xfrm>
            <a:off x="554040" y="911160"/>
            <a:ext cx="322200" cy="428760"/>
          </a:xfrm>
          <a:custGeom>
            <a:avLst/>
            <a:gdLst/>
            <a:ahLst/>
            <a:rect l="l" t="t" r="r" b="b"/>
            <a:pathLst>
              <a:path w="894" h="1192">
                <a:moveTo>
                  <a:pt x="1637" y="2729"/>
                </a:moveTo>
                <a:cubicBezTo>
                  <a:pt x="1662" y="2803"/>
                  <a:pt x="1616" y="2891"/>
                  <a:pt x="1588" y="2977"/>
                </a:cubicBezTo>
                <a:cubicBezTo>
                  <a:pt x="1560" y="3062"/>
                  <a:pt x="1516" y="3156"/>
                  <a:pt x="1538" y="3249"/>
                </a:cubicBezTo>
                <a:cubicBezTo>
                  <a:pt x="1562" y="3351"/>
                  <a:pt x="1618" y="3426"/>
                  <a:pt x="1736" y="3398"/>
                </a:cubicBezTo>
                <a:cubicBezTo>
                  <a:pt x="1788" y="3386"/>
                  <a:pt x="1847" y="3311"/>
                  <a:pt x="1885" y="3274"/>
                </a:cubicBezTo>
                <a:cubicBezTo>
                  <a:pt x="1955" y="3204"/>
                  <a:pt x="1960" y="3171"/>
                  <a:pt x="1960" y="3076"/>
                </a:cubicBezTo>
                <a:cubicBezTo>
                  <a:pt x="1960" y="3051"/>
                  <a:pt x="1960" y="3026"/>
                  <a:pt x="1960" y="3001"/>
                </a:cubicBezTo>
                <a:cubicBezTo>
                  <a:pt x="1904" y="3041"/>
                  <a:pt x="1852" y="3099"/>
                  <a:pt x="1836" y="3175"/>
                </a:cubicBezTo>
                <a:cubicBezTo>
                  <a:pt x="1814" y="3276"/>
                  <a:pt x="1850" y="3289"/>
                  <a:pt x="1910" y="3324"/>
                </a:cubicBezTo>
                <a:cubicBezTo>
                  <a:pt x="1990" y="3371"/>
                  <a:pt x="2019" y="3319"/>
                  <a:pt x="2084" y="3274"/>
                </a:cubicBezTo>
              </a:path>
              <a:path w="894" h="1192">
                <a:moveTo>
                  <a:pt x="2133" y="2604"/>
                </a:moveTo>
                <a:cubicBezTo>
                  <a:pt x="2111" y="2561"/>
                  <a:pt x="2107" y="2550"/>
                  <a:pt x="2084" y="2530"/>
                </a:cubicBezTo>
                <a:cubicBezTo>
                  <a:pt x="2163" y="2576"/>
                  <a:pt x="2204" y="2627"/>
                  <a:pt x="2257" y="2704"/>
                </a:cubicBezTo>
                <a:cubicBezTo>
                  <a:pt x="2339" y="2822"/>
                  <a:pt x="2366" y="2914"/>
                  <a:pt x="2406" y="3051"/>
                </a:cubicBezTo>
                <a:cubicBezTo>
                  <a:pt x="2435" y="3149"/>
                  <a:pt x="2449" y="3270"/>
                  <a:pt x="2431" y="3373"/>
                </a:cubicBezTo>
                <a:cubicBezTo>
                  <a:pt x="2411" y="3483"/>
                  <a:pt x="2359" y="3569"/>
                  <a:pt x="2282" y="3646"/>
                </a:cubicBezTo>
                <a:cubicBezTo>
                  <a:pt x="2236" y="3692"/>
                  <a:pt x="2218" y="3709"/>
                  <a:pt x="2158" y="37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Ink 4"/>
          <p:cNvSpPr/>
          <p:nvPr/>
        </p:nvSpPr>
        <p:spPr>
          <a:xfrm>
            <a:off x="1231920" y="776160"/>
            <a:ext cx="849240" cy="598680"/>
          </a:xfrm>
          <a:custGeom>
            <a:avLst/>
            <a:gdLst/>
            <a:ahLst/>
            <a:rect l="l" t="t" r="r" b="b"/>
            <a:pathLst>
              <a:path w="2357" h="1663">
                <a:moveTo>
                  <a:pt x="3423" y="2282"/>
                </a:moveTo>
                <a:cubicBezTo>
                  <a:pt x="3432" y="2388"/>
                  <a:pt x="3435" y="2498"/>
                  <a:pt x="3448" y="2604"/>
                </a:cubicBezTo>
                <a:cubicBezTo>
                  <a:pt x="3468" y="2764"/>
                  <a:pt x="3473" y="2914"/>
                  <a:pt x="3473" y="3076"/>
                </a:cubicBezTo>
                <a:cubicBezTo>
                  <a:pt x="3473" y="3212"/>
                  <a:pt x="3514" y="3366"/>
                  <a:pt x="3497" y="3497"/>
                </a:cubicBezTo>
                <a:cubicBezTo>
                  <a:pt x="3489" y="3558"/>
                  <a:pt x="3495" y="3689"/>
                  <a:pt x="3473" y="3746"/>
                </a:cubicBezTo>
                <a:cubicBezTo>
                  <a:pt x="3443" y="3775"/>
                  <a:pt x="3432" y="3777"/>
                  <a:pt x="3423" y="3721"/>
                </a:cubicBezTo>
              </a:path>
              <a:path w="2357" h="1663">
                <a:moveTo>
                  <a:pt x="3870" y="2208"/>
                </a:moveTo>
                <a:cubicBezTo>
                  <a:pt x="3879" y="2325"/>
                  <a:pt x="3910" y="2437"/>
                  <a:pt x="3919" y="2555"/>
                </a:cubicBezTo>
                <a:cubicBezTo>
                  <a:pt x="3944" y="2866"/>
                  <a:pt x="3876" y="3191"/>
                  <a:pt x="3944" y="3497"/>
                </a:cubicBezTo>
                <a:cubicBezTo>
                  <a:pt x="3964" y="3588"/>
                  <a:pt x="4000" y="3681"/>
                  <a:pt x="4018" y="3770"/>
                </a:cubicBezTo>
                <a:cubicBezTo>
                  <a:pt x="4018" y="3828"/>
                  <a:pt x="4018" y="3837"/>
                  <a:pt x="4018" y="3746"/>
                </a:cubicBezTo>
              </a:path>
              <a:path w="2357" h="1663">
                <a:moveTo>
                  <a:pt x="4390" y="3125"/>
                </a:moveTo>
                <a:cubicBezTo>
                  <a:pt x="4409" y="3247"/>
                  <a:pt x="4393" y="3378"/>
                  <a:pt x="4415" y="3497"/>
                </a:cubicBezTo>
                <a:cubicBezTo>
                  <a:pt x="4428" y="3565"/>
                  <a:pt x="4463" y="3653"/>
                  <a:pt x="4539" y="3671"/>
                </a:cubicBezTo>
                <a:cubicBezTo>
                  <a:pt x="4630" y="3693"/>
                  <a:pt x="4662" y="3655"/>
                  <a:pt x="4713" y="3597"/>
                </a:cubicBezTo>
                <a:cubicBezTo>
                  <a:pt x="4782" y="3519"/>
                  <a:pt x="4804" y="3448"/>
                  <a:pt x="4837" y="3349"/>
                </a:cubicBezTo>
                <a:cubicBezTo>
                  <a:pt x="4866" y="3263"/>
                  <a:pt x="4887" y="3215"/>
                  <a:pt x="4887" y="3125"/>
                </a:cubicBezTo>
                <a:cubicBezTo>
                  <a:pt x="4856" y="3111"/>
                  <a:pt x="4887" y="3241"/>
                  <a:pt x="4887" y="3324"/>
                </a:cubicBezTo>
                <a:cubicBezTo>
                  <a:pt x="4887" y="3443"/>
                  <a:pt x="4906" y="3587"/>
                  <a:pt x="4961" y="3696"/>
                </a:cubicBezTo>
                <a:cubicBezTo>
                  <a:pt x="5005" y="3785"/>
                  <a:pt x="5042" y="3755"/>
                  <a:pt x="5110" y="3721"/>
                </a:cubicBezTo>
              </a:path>
              <a:path w="2357" h="1663">
                <a:moveTo>
                  <a:pt x="5407" y="2158"/>
                </a:moveTo>
                <a:cubicBezTo>
                  <a:pt x="5407" y="2392"/>
                  <a:pt x="5396" y="2621"/>
                  <a:pt x="5383" y="2853"/>
                </a:cubicBezTo>
                <a:cubicBezTo>
                  <a:pt x="5374" y="3014"/>
                  <a:pt x="5383" y="3191"/>
                  <a:pt x="5407" y="3349"/>
                </a:cubicBezTo>
                <a:cubicBezTo>
                  <a:pt x="5424" y="3461"/>
                  <a:pt x="5432" y="3557"/>
                  <a:pt x="5432" y="3671"/>
                </a:cubicBezTo>
                <a:cubicBezTo>
                  <a:pt x="5432" y="3763"/>
                  <a:pt x="5445" y="3588"/>
                  <a:pt x="5457" y="3497"/>
                </a:cubicBezTo>
              </a:path>
              <a:path w="2357" h="1663">
                <a:moveTo>
                  <a:pt x="5705" y="2183"/>
                </a:moveTo>
                <a:cubicBezTo>
                  <a:pt x="5739" y="2398"/>
                  <a:pt x="5766" y="2612"/>
                  <a:pt x="5779" y="2828"/>
                </a:cubicBezTo>
                <a:cubicBezTo>
                  <a:pt x="5789" y="2997"/>
                  <a:pt x="5759" y="3157"/>
                  <a:pt x="5755" y="3324"/>
                </a:cubicBezTo>
                <a:cubicBezTo>
                  <a:pt x="5752" y="3445"/>
                  <a:pt x="5721" y="3554"/>
                  <a:pt x="5705" y="3671"/>
                </a:cubicBezTo>
                <a:cubicBezTo>
                  <a:pt x="5694" y="3754"/>
                  <a:pt x="5710" y="3757"/>
                  <a:pt x="5755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Ink 5"/>
          <p:cNvSpPr/>
          <p:nvPr/>
        </p:nvSpPr>
        <p:spPr>
          <a:xfrm>
            <a:off x="2268360" y="795240"/>
            <a:ext cx="652680" cy="48276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6300" y="3225"/>
                </a:moveTo>
                <a:cubicBezTo>
                  <a:pt x="6406" y="3204"/>
                  <a:pt x="6521" y="3223"/>
                  <a:pt x="6623" y="3200"/>
                </a:cubicBezTo>
                <a:cubicBezTo>
                  <a:pt x="6682" y="3186"/>
                  <a:pt x="6738" y="3170"/>
                  <a:pt x="6796" y="3150"/>
                </a:cubicBezTo>
              </a:path>
              <a:path w="1812" h="1340">
                <a:moveTo>
                  <a:pt x="6970" y="2530"/>
                </a:moveTo>
                <a:cubicBezTo>
                  <a:pt x="7063" y="2368"/>
                  <a:pt x="7083" y="2326"/>
                  <a:pt x="7243" y="2257"/>
                </a:cubicBezTo>
                <a:cubicBezTo>
                  <a:pt x="7300" y="2233"/>
                  <a:pt x="7374" y="2179"/>
                  <a:pt x="7441" y="2208"/>
                </a:cubicBezTo>
                <a:cubicBezTo>
                  <a:pt x="7503" y="2235"/>
                  <a:pt x="7532" y="2291"/>
                  <a:pt x="7541" y="2356"/>
                </a:cubicBezTo>
                <a:cubicBezTo>
                  <a:pt x="7556" y="2467"/>
                  <a:pt x="7520" y="2550"/>
                  <a:pt x="7491" y="2654"/>
                </a:cubicBezTo>
                <a:cubicBezTo>
                  <a:pt x="7454" y="2784"/>
                  <a:pt x="7399" y="2941"/>
                  <a:pt x="7317" y="3051"/>
                </a:cubicBezTo>
                <a:cubicBezTo>
                  <a:pt x="7241" y="3153"/>
                  <a:pt x="7189" y="3270"/>
                  <a:pt x="7119" y="3373"/>
                </a:cubicBezTo>
                <a:cubicBezTo>
                  <a:pt x="7073" y="3440"/>
                  <a:pt x="7054" y="3468"/>
                  <a:pt x="7045" y="3547"/>
                </a:cubicBezTo>
                <a:cubicBezTo>
                  <a:pt x="7160" y="3537"/>
                  <a:pt x="7277" y="3513"/>
                  <a:pt x="7392" y="3497"/>
                </a:cubicBezTo>
                <a:cubicBezTo>
                  <a:pt x="7533" y="3477"/>
                  <a:pt x="7671" y="3452"/>
                  <a:pt x="7813" y="3448"/>
                </a:cubicBezTo>
                <a:cubicBezTo>
                  <a:pt x="7906" y="3445"/>
                  <a:pt x="8150" y="3540"/>
                  <a:pt x="8086" y="3473"/>
                </a:cubicBezTo>
                <a:cubicBezTo>
                  <a:pt x="8079" y="3466"/>
                  <a:pt x="8052" y="3448"/>
                  <a:pt x="7962" y="34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Ink 6"/>
          <p:cNvSpPr/>
          <p:nvPr/>
        </p:nvSpPr>
        <p:spPr>
          <a:xfrm>
            <a:off x="3768840" y="731880"/>
            <a:ext cx="419040" cy="447480"/>
          </a:xfrm>
          <a:custGeom>
            <a:avLst/>
            <a:gdLst/>
            <a:ahLst/>
            <a:rect l="l" t="t" r="r" b="b"/>
            <a:pathLst>
              <a:path w="1166" h="1241">
                <a:moveTo>
                  <a:pt x="10542" y="2704"/>
                </a:moveTo>
                <a:cubicBezTo>
                  <a:pt x="10510" y="2664"/>
                  <a:pt x="10491" y="2626"/>
                  <a:pt x="10468" y="2580"/>
                </a:cubicBezTo>
                <a:cubicBezTo>
                  <a:pt x="10543" y="2570"/>
                  <a:pt x="10597" y="2540"/>
                  <a:pt x="10666" y="2505"/>
                </a:cubicBezTo>
                <a:cubicBezTo>
                  <a:pt x="10747" y="2464"/>
                  <a:pt x="10807" y="2455"/>
                  <a:pt x="10889" y="2431"/>
                </a:cubicBezTo>
                <a:cubicBezTo>
                  <a:pt x="10973" y="2407"/>
                  <a:pt x="11022" y="2383"/>
                  <a:pt x="11038" y="2505"/>
                </a:cubicBezTo>
                <a:cubicBezTo>
                  <a:pt x="11052" y="2607"/>
                  <a:pt x="11018" y="2681"/>
                  <a:pt x="11013" y="2778"/>
                </a:cubicBezTo>
                <a:cubicBezTo>
                  <a:pt x="11009" y="2860"/>
                  <a:pt x="11024" y="2933"/>
                  <a:pt x="11038" y="3001"/>
                </a:cubicBezTo>
                <a:cubicBezTo>
                  <a:pt x="11038" y="3059"/>
                  <a:pt x="11038" y="3068"/>
                  <a:pt x="11038" y="2977"/>
                </a:cubicBezTo>
              </a:path>
              <a:path w="1166" h="1241">
                <a:moveTo>
                  <a:pt x="11112" y="2084"/>
                </a:moveTo>
                <a:cubicBezTo>
                  <a:pt x="10964" y="2092"/>
                  <a:pt x="10923" y="2105"/>
                  <a:pt x="10815" y="2208"/>
                </a:cubicBezTo>
                <a:cubicBezTo>
                  <a:pt x="10717" y="2302"/>
                  <a:pt x="10617" y="2427"/>
                  <a:pt x="10567" y="2555"/>
                </a:cubicBezTo>
                <a:cubicBezTo>
                  <a:pt x="10517" y="2682"/>
                  <a:pt x="10487" y="2822"/>
                  <a:pt x="10517" y="2952"/>
                </a:cubicBezTo>
                <a:cubicBezTo>
                  <a:pt x="10553" y="3109"/>
                  <a:pt x="10653" y="3183"/>
                  <a:pt x="10790" y="3249"/>
                </a:cubicBezTo>
                <a:cubicBezTo>
                  <a:pt x="10889" y="3297"/>
                  <a:pt x="11037" y="3288"/>
                  <a:pt x="11137" y="3249"/>
                </a:cubicBezTo>
                <a:cubicBezTo>
                  <a:pt x="11266" y="3199"/>
                  <a:pt x="11372" y="3106"/>
                  <a:pt x="11460" y="3001"/>
                </a:cubicBezTo>
                <a:cubicBezTo>
                  <a:pt x="11595" y="2840"/>
                  <a:pt x="11619" y="2674"/>
                  <a:pt x="11609" y="2480"/>
                </a:cubicBezTo>
                <a:cubicBezTo>
                  <a:pt x="11602" y="2344"/>
                  <a:pt x="11552" y="2259"/>
                  <a:pt x="11460" y="2158"/>
                </a:cubicBezTo>
                <a:cubicBezTo>
                  <a:pt x="11422" y="2117"/>
                  <a:pt x="11339" y="2052"/>
                  <a:pt x="11286" y="2034"/>
                </a:cubicBezTo>
                <a:cubicBezTo>
                  <a:pt x="11225" y="2014"/>
                  <a:pt x="11202" y="2078"/>
                  <a:pt x="11162" y="21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Ink 7"/>
          <p:cNvSpPr/>
          <p:nvPr/>
        </p:nvSpPr>
        <p:spPr>
          <a:xfrm>
            <a:off x="4599000" y="588960"/>
            <a:ext cx="776160" cy="546120"/>
          </a:xfrm>
          <a:custGeom>
            <a:avLst/>
            <a:gdLst/>
            <a:ahLst/>
            <a:rect l="l" t="t" r="r" b="b"/>
            <a:pathLst>
              <a:path w="2159" h="1514">
                <a:moveTo>
                  <a:pt x="12774" y="2406"/>
                </a:moveTo>
                <a:cubicBezTo>
                  <a:pt x="12809" y="2487"/>
                  <a:pt x="12799" y="2584"/>
                  <a:pt x="12799" y="2679"/>
                </a:cubicBezTo>
                <a:cubicBezTo>
                  <a:pt x="12799" y="2755"/>
                  <a:pt x="12803" y="2851"/>
                  <a:pt x="12874" y="2902"/>
                </a:cubicBezTo>
                <a:cubicBezTo>
                  <a:pt x="12929" y="2942"/>
                  <a:pt x="12966" y="2972"/>
                  <a:pt x="13022" y="2927"/>
                </a:cubicBezTo>
                <a:cubicBezTo>
                  <a:pt x="13088" y="2873"/>
                  <a:pt x="13131" y="2850"/>
                  <a:pt x="13146" y="2753"/>
                </a:cubicBezTo>
                <a:cubicBezTo>
                  <a:pt x="13163" y="2637"/>
                  <a:pt x="13162" y="2543"/>
                  <a:pt x="13146" y="2431"/>
                </a:cubicBezTo>
                <a:cubicBezTo>
                  <a:pt x="13146" y="2414"/>
                  <a:pt x="13146" y="2398"/>
                  <a:pt x="13146" y="2381"/>
                </a:cubicBezTo>
                <a:cubicBezTo>
                  <a:pt x="13127" y="2421"/>
                  <a:pt x="13146" y="2488"/>
                  <a:pt x="13146" y="2555"/>
                </a:cubicBezTo>
                <a:cubicBezTo>
                  <a:pt x="13146" y="2632"/>
                  <a:pt x="13154" y="2735"/>
                  <a:pt x="13196" y="2803"/>
                </a:cubicBezTo>
                <a:cubicBezTo>
                  <a:pt x="13223" y="2847"/>
                  <a:pt x="13276" y="2846"/>
                  <a:pt x="13320" y="2853"/>
                </a:cubicBezTo>
              </a:path>
              <a:path w="2159" h="1514">
                <a:moveTo>
                  <a:pt x="13791" y="2480"/>
                </a:moveTo>
                <a:cubicBezTo>
                  <a:pt x="13769" y="2503"/>
                  <a:pt x="13761" y="2508"/>
                  <a:pt x="13767" y="2530"/>
                </a:cubicBezTo>
              </a:path>
              <a:path w="2159" h="1514">
                <a:moveTo>
                  <a:pt x="14064" y="2431"/>
                </a:moveTo>
                <a:cubicBezTo>
                  <a:pt x="14093" y="2530"/>
                  <a:pt x="14124" y="2633"/>
                  <a:pt x="14163" y="2729"/>
                </a:cubicBezTo>
                <a:cubicBezTo>
                  <a:pt x="14176" y="2762"/>
                  <a:pt x="14230" y="2886"/>
                  <a:pt x="14263" y="2902"/>
                </a:cubicBezTo>
                <a:cubicBezTo>
                  <a:pt x="14279" y="2902"/>
                  <a:pt x="14296" y="2902"/>
                  <a:pt x="14312" y="2902"/>
                </a:cubicBezTo>
                <a:cubicBezTo>
                  <a:pt x="14321" y="2830"/>
                  <a:pt x="14322" y="2751"/>
                  <a:pt x="14337" y="2679"/>
                </a:cubicBezTo>
                <a:cubicBezTo>
                  <a:pt x="14354" y="2597"/>
                  <a:pt x="14355" y="2507"/>
                  <a:pt x="14387" y="2431"/>
                </a:cubicBezTo>
                <a:cubicBezTo>
                  <a:pt x="14413" y="2371"/>
                  <a:pt x="14441" y="2327"/>
                  <a:pt x="14486" y="2282"/>
                </a:cubicBezTo>
                <a:cubicBezTo>
                  <a:pt x="14494" y="2274"/>
                  <a:pt x="14503" y="2265"/>
                  <a:pt x="14511" y="2257"/>
                </a:cubicBezTo>
              </a:path>
              <a:path w="2159" h="1514">
                <a:moveTo>
                  <a:pt x="13171" y="1836"/>
                </a:moveTo>
                <a:cubicBezTo>
                  <a:pt x="13048" y="1906"/>
                  <a:pt x="13019" y="1928"/>
                  <a:pt x="12973" y="2059"/>
                </a:cubicBezTo>
                <a:cubicBezTo>
                  <a:pt x="12914" y="2227"/>
                  <a:pt x="12878" y="2403"/>
                  <a:pt x="12874" y="2580"/>
                </a:cubicBezTo>
                <a:cubicBezTo>
                  <a:pt x="12870" y="2741"/>
                  <a:pt x="12863" y="2862"/>
                  <a:pt x="12948" y="3001"/>
                </a:cubicBezTo>
                <a:cubicBezTo>
                  <a:pt x="13012" y="3106"/>
                  <a:pt x="13120" y="3157"/>
                  <a:pt x="13246" y="3150"/>
                </a:cubicBezTo>
                <a:cubicBezTo>
                  <a:pt x="13380" y="3116"/>
                  <a:pt x="13447" y="3095"/>
                  <a:pt x="13543" y="3051"/>
                </a:cubicBezTo>
              </a:path>
              <a:path w="2159" h="1514">
                <a:moveTo>
                  <a:pt x="14660" y="1637"/>
                </a:moveTo>
                <a:cubicBezTo>
                  <a:pt x="14716" y="1729"/>
                  <a:pt x="14764" y="1807"/>
                  <a:pt x="14808" y="1910"/>
                </a:cubicBezTo>
                <a:cubicBezTo>
                  <a:pt x="14888" y="2098"/>
                  <a:pt x="14922" y="2302"/>
                  <a:pt x="14932" y="2505"/>
                </a:cubicBezTo>
                <a:cubicBezTo>
                  <a:pt x="14937" y="2602"/>
                  <a:pt x="14907" y="2767"/>
                  <a:pt x="14858" y="2853"/>
                </a:cubicBezTo>
                <a:cubicBezTo>
                  <a:pt x="14851" y="2866"/>
                  <a:pt x="14718" y="3026"/>
                  <a:pt x="14709" y="3026"/>
                </a:cubicBezTo>
                <a:cubicBezTo>
                  <a:pt x="14701" y="3018"/>
                  <a:pt x="14692" y="3009"/>
                  <a:pt x="14684" y="30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Ink 8"/>
          <p:cNvSpPr/>
          <p:nvPr/>
        </p:nvSpPr>
        <p:spPr>
          <a:xfrm>
            <a:off x="5554800" y="8920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5429" y="2480"/>
                </a:moveTo>
                <a:cubicBezTo>
                  <a:pt x="15429" y="2497"/>
                  <a:pt x="15429" y="2513"/>
                  <a:pt x="15429" y="2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Ink 9"/>
          <p:cNvSpPr/>
          <p:nvPr/>
        </p:nvSpPr>
        <p:spPr>
          <a:xfrm>
            <a:off x="5759280" y="830160"/>
            <a:ext cx="3319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15999" y="2456"/>
                </a:moveTo>
                <a:cubicBezTo>
                  <a:pt x="16005" y="2584"/>
                  <a:pt x="16030" y="2684"/>
                  <a:pt x="16049" y="2803"/>
                </a:cubicBezTo>
                <a:cubicBezTo>
                  <a:pt x="16060" y="2870"/>
                  <a:pt x="16074" y="2878"/>
                  <a:pt x="16123" y="2927"/>
                </a:cubicBezTo>
                <a:cubicBezTo>
                  <a:pt x="16181" y="2893"/>
                  <a:pt x="16240" y="2839"/>
                  <a:pt x="16272" y="2778"/>
                </a:cubicBezTo>
                <a:cubicBezTo>
                  <a:pt x="16307" y="2712"/>
                  <a:pt x="16349" y="2549"/>
                  <a:pt x="16396" y="2505"/>
                </a:cubicBezTo>
                <a:cubicBezTo>
                  <a:pt x="16413" y="2505"/>
                  <a:pt x="16429" y="2505"/>
                  <a:pt x="16446" y="2505"/>
                </a:cubicBezTo>
                <a:cubicBezTo>
                  <a:pt x="16446" y="2594"/>
                  <a:pt x="16443" y="2694"/>
                  <a:pt x="16470" y="2778"/>
                </a:cubicBezTo>
                <a:cubicBezTo>
                  <a:pt x="16496" y="2860"/>
                  <a:pt x="16572" y="2874"/>
                  <a:pt x="16644" y="2877"/>
                </a:cubicBezTo>
                <a:cubicBezTo>
                  <a:pt x="16739" y="2882"/>
                  <a:pt x="16780" y="2815"/>
                  <a:pt x="16842" y="2753"/>
                </a:cubicBezTo>
                <a:cubicBezTo>
                  <a:pt x="16925" y="2670"/>
                  <a:pt x="16917" y="2619"/>
                  <a:pt x="16917" y="2505"/>
                </a:cubicBezTo>
                <a:cubicBezTo>
                  <a:pt x="16917" y="2429"/>
                  <a:pt x="16913" y="2393"/>
                  <a:pt x="16867" y="2332"/>
                </a:cubicBezTo>
                <a:cubicBezTo>
                  <a:pt x="16834" y="2288"/>
                  <a:pt x="16766" y="2307"/>
                  <a:pt x="16718" y="23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Ink 10"/>
          <p:cNvSpPr/>
          <p:nvPr/>
        </p:nvSpPr>
        <p:spPr>
          <a:xfrm>
            <a:off x="571680" y="1687680"/>
            <a:ext cx="2608200" cy="785520"/>
          </a:xfrm>
          <a:custGeom>
            <a:avLst/>
            <a:gdLst/>
            <a:ahLst/>
            <a:rect l="l" t="t" r="r" b="b"/>
            <a:pathLst>
              <a:path w="7243" h="2184">
                <a:moveTo>
                  <a:pt x="1662" y="5705"/>
                </a:moveTo>
                <a:cubicBezTo>
                  <a:pt x="1621" y="5664"/>
                  <a:pt x="1613" y="5656"/>
                  <a:pt x="1588" y="5631"/>
                </a:cubicBezTo>
                <a:cubicBezTo>
                  <a:pt x="1663" y="5650"/>
                  <a:pt x="1741" y="5626"/>
                  <a:pt x="1811" y="5680"/>
                </a:cubicBezTo>
                <a:cubicBezTo>
                  <a:pt x="1914" y="5758"/>
                  <a:pt x="1951" y="5916"/>
                  <a:pt x="1984" y="6028"/>
                </a:cubicBezTo>
                <a:cubicBezTo>
                  <a:pt x="2020" y="6151"/>
                  <a:pt x="2030" y="6247"/>
                  <a:pt x="2034" y="6375"/>
                </a:cubicBezTo>
                <a:cubicBezTo>
                  <a:pt x="2038" y="6523"/>
                  <a:pt x="2034" y="6673"/>
                  <a:pt x="2034" y="6821"/>
                </a:cubicBezTo>
                <a:cubicBezTo>
                  <a:pt x="2045" y="6737"/>
                  <a:pt x="2054" y="6757"/>
                  <a:pt x="2059" y="6672"/>
                </a:cubicBezTo>
                <a:cubicBezTo>
                  <a:pt x="2066" y="6553"/>
                  <a:pt x="2077" y="6442"/>
                  <a:pt x="2084" y="6325"/>
                </a:cubicBezTo>
                <a:cubicBezTo>
                  <a:pt x="2097" y="6102"/>
                  <a:pt x="2106" y="5881"/>
                  <a:pt x="2108" y="5655"/>
                </a:cubicBezTo>
                <a:cubicBezTo>
                  <a:pt x="2109" y="5520"/>
                  <a:pt x="2131" y="5394"/>
                  <a:pt x="2133" y="5259"/>
                </a:cubicBezTo>
                <a:cubicBezTo>
                  <a:pt x="2135" y="5127"/>
                  <a:pt x="2115" y="4978"/>
                  <a:pt x="2158" y="4862"/>
                </a:cubicBezTo>
                <a:cubicBezTo>
                  <a:pt x="2197" y="4758"/>
                  <a:pt x="2238" y="4795"/>
                  <a:pt x="2356" y="4787"/>
                </a:cubicBezTo>
                <a:cubicBezTo>
                  <a:pt x="2529" y="4775"/>
                  <a:pt x="2706" y="4764"/>
                  <a:pt x="2877" y="4762"/>
                </a:cubicBezTo>
                <a:cubicBezTo>
                  <a:pt x="3061" y="4759"/>
                  <a:pt x="3240" y="4741"/>
                  <a:pt x="3423" y="4738"/>
                </a:cubicBezTo>
                <a:cubicBezTo>
                  <a:pt x="4167" y="4726"/>
                  <a:pt x="4914" y="4759"/>
                  <a:pt x="5655" y="4713"/>
                </a:cubicBezTo>
                <a:cubicBezTo>
                  <a:pt x="5851" y="4701"/>
                  <a:pt x="6173" y="4664"/>
                  <a:pt x="6350" y="4688"/>
                </a:cubicBezTo>
                <a:cubicBezTo>
                  <a:pt x="6418" y="4688"/>
                  <a:pt x="6417" y="4692"/>
                  <a:pt x="6300" y="4713"/>
                </a:cubicBezTo>
              </a:path>
              <a:path w="7243" h="2184">
                <a:moveTo>
                  <a:pt x="2604" y="5507"/>
                </a:moveTo>
                <a:cubicBezTo>
                  <a:pt x="2632" y="5431"/>
                  <a:pt x="2648" y="5389"/>
                  <a:pt x="2704" y="5333"/>
                </a:cubicBezTo>
                <a:cubicBezTo>
                  <a:pt x="2758" y="5279"/>
                  <a:pt x="2850" y="5241"/>
                  <a:pt x="2927" y="5259"/>
                </a:cubicBezTo>
                <a:cubicBezTo>
                  <a:pt x="2950" y="5264"/>
                  <a:pt x="3043" y="5329"/>
                  <a:pt x="3051" y="5358"/>
                </a:cubicBezTo>
                <a:cubicBezTo>
                  <a:pt x="3078" y="5451"/>
                  <a:pt x="3036" y="5567"/>
                  <a:pt x="3026" y="5655"/>
                </a:cubicBezTo>
                <a:cubicBezTo>
                  <a:pt x="3011" y="5787"/>
                  <a:pt x="2963" y="5877"/>
                  <a:pt x="2927" y="6003"/>
                </a:cubicBezTo>
                <a:cubicBezTo>
                  <a:pt x="2894" y="6119"/>
                  <a:pt x="2865" y="6235"/>
                  <a:pt x="2828" y="6350"/>
                </a:cubicBezTo>
                <a:cubicBezTo>
                  <a:pt x="2805" y="6421"/>
                  <a:pt x="2779" y="6492"/>
                  <a:pt x="2729" y="6548"/>
                </a:cubicBezTo>
                <a:cubicBezTo>
                  <a:pt x="2669" y="6615"/>
                  <a:pt x="2766" y="6467"/>
                  <a:pt x="2778" y="6449"/>
                </a:cubicBezTo>
                <a:cubicBezTo>
                  <a:pt x="2821" y="6386"/>
                  <a:pt x="2862" y="6348"/>
                  <a:pt x="2927" y="6375"/>
                </a:cubicBezTo>
                <a:cubicBezTo>
                  <a:pt x="2979" y="6396"/>
                  <a:pt x="3035" y="6437"/>
                  <a:pt x="3076" y="6474"/>
                </a:cubicBezTo>
                <a:cubicBezTo>
                  <a:pt x="3091" y="6487"/>
                  <a:pt x="3202" y="6549"/>
                  <a:pt x="3225" y="6548"/>
                </a:cubicBezTo>
                <a:cubicBezTo>
                  <a:pt x="3289" y="6545"/>
                  <a:pt x="3278" y="6504"/>
                  <a:pt x="3299" y="6474"/>
                </a:cubicBezTo>
              </a:path>
              <a:path w="7243" h="2184">
                <a:moveTo>
                  <a:pt x="3349" y="5110"/>
                </a:moveTo>
                <a:cubicBezTo>
                  <a:pt x="3405" y="4997"/>
                  <a:pt x="3428" y="4998"/>
                  <a:pt x="3547" y="5011"/>
                </a:cubicBezTo>
                <a:cubicBezTo>
                  <a:pt x="3620" y="5019"/>
                  <a:pt x="3641" y="5033"/>
                  <a:pt x="3646" y="5110"/>
                </a:cubicBezTo>
                <a:cubicBezTo>
                  <a:pt x="3652" y="5207"/>
                  <a:pt x="3637" y="5260"/>
                  <a:pt x="3572" y="5333"/>
                </a:cubicBezTo>
                <a:cubicBezTo>
                  <a:pt x="3503" y="5410"/>
                  <a:pt x="3428" y="5469"/>
                  <a:pt x="3373" y="5556"/>
                </a:cubicBezTo>
                <a:cubicBezTo>
                  <a:pt x="3463" y="5601"/>
                  <a:pt x="3524" y="5567"/>
                  <a:pt x="3621" y="5556"/>
                </a:cubicBezTo>
                <a:cubicBezTo>
                  <a:pt x="3721" y="5545"/>
                  <a:pt x="3820" y="5539"/>
                  <a:pt x="3919" y="5531"/>
                </a:cubicBezTo>
              </a:path>
              <a:path w="7243" h="2184">
                <a:moveTo>
                  <a:pt x="4167" y="5407"/>
                </a:moveTo>
                <a:cubicBezTo>
                  <a:pt x="4167" y="5536"/>
                  <a:pt x="4180" y="5655"/>
                  <a:pt x="4192" y="5779"/>
                </a:cubicBezTo>
                <a:cubicBezTo>
                  <a:pt x="4201" y="5870"/>
                  <a:pt x="4212" y="5963"/>
                  <a:pt x="4217" y="6052"/>
                </a:cubicBezTo>
                <a:cubicBezTo>
                  <a:pt x="4220" y="6118"/>
                  <a:pt x="4217" y="6185"/>
                  <a:pt x="4217" y="6251"/>
                </a:cubicBezTo>
              </a:path>
              <a:path w="7243" h="2184">
                <a:moveTo>
                  <a:pt x="3944" y="5879"/>
                </a:moveTo>
                <a:cubicBezTo>
                  <a:pt x="4055" y="5872"/>
                  <a:pt x="4154" y="5854"/>
                  <a:pt x="4266" y="5854"/>
                </a:cubicBezTo>
                <a:cubicBezTo>
                  <a:pt x="4385" y="5854"/>
                  <a:pt x="4493" y="5829"/>
                  <a:pt x="4614" y="5829"/>
                </a:cubicBezTo>
              </a:path>
              <a:path w="7243" h="2184">
                <a:moveTo>
                  <a:pt x="4862" y="5432"/>
                </a:moveTo>
                <a:cubicBezTo>
                  <a:pt x="4920" y="5348"/>
                  <a:pt x="4945" y="5327"/>
                  <a:pt x="5035" y="5283"/>
                </a:cubicBezTo>
                <a:cubicBezTo>
                  <a:pt x="5107" y="5248"/>
                  <a:pt x="5169" y="5257"/>
                  <a:pt x="5234" y="5308"/>
                </a:cubicBezTo>
                <a:cubicBezTo>
                  <a:pt x="5334" y="5386"/>
                  <a:pt x="5336" y="5430"/>
                  <a:pt x="5308" y="5556"/>
                </a:cubicBezTo>
                <a:cubicBezTo>
                  <a:pt x="5285" y="5658"/>
                  <a:pt x="5237" y="5766"/>
                  <a:pt x="5184" y="5854"/>
                </a:cubicBezTo>
                <a:cubicBezTo>
                  <a:pt x="5118" y="5963"/>
                  <a:pt x="5034" y="6049"/>
                  <a:pt x="4961" y="6152"/>
                </a:cubicBezTo>
                <a:cubicBezTo>
                  <a:pt x="4899" y="6239"/>
                  <a:pt x="4823" y="6315"/>
                  <a:pt x="4762" y="6400"/>
                </a:cubicBezTo>
                <a:cubicBezTo>
                  <a:pt x="4734" y="6439"/>
                  <a:pt x="4722" y="6465"/>
                  <a:pt x="4688" y="6499"/>
                </a:cubicBezTo>
                <a:cubicBezTo>
                  <a:pt x="4765" y="6490"/>
                  <a:pt x="4839" y="6458"/>
                  <a:pt x="4911" y="6449"/>
                </a:cubicBezTo>
                <a:cubicBezTo>
                  <a:pt x="5000" y="6437"/>
                  <a:pt x="5099" y="6435"/>
                  <a:pt x="5184" y="6424"/>
                </a:cubicBezTo>
                <a:cubicBezTo>
                  <a:pt x="5280" y="6412"/>
                  <a:pt x="5385" y="6424"/>
                  <a:pt x="5482" y="6424"/>
                </a:cubicBezTo>
              </a:path>
              <a:path w="7243" h="2184">
                <a:moveTo>
                  <a:pt x="5606" y="5085"/>
                </a:moveTo>
                <a:cubicBezTo>
                  <a:pt x="5653" y="5026"/>
                  <a:pt x="5717" y="4953"/>
                  <a:pt x="5804" y="4961"/>
                </a:cubicBezTo>
                <a:cubicBezTo>
                  <a:pt x="5898" y="4969"/>
                  <a:pt x="5979" y="5033"/>
                  <a:pt x="5953" y="5135"/>
                </a:cubicBezTo>
                <a:cubicBezTo>
                  <a:pt x="5935" y="5207"/>
                  <a:pt x="5844" y="5237"/>
                  <a:pt x="5804" y="5283"/>
                </a:cubicBezTo>
                <a:cubicBezTo>
                  <a:pt x="5761" y="5332"/>
                  <a:pt x="5746" y="5351"/>
                  <a:pt x="5730" y="5407"/>
                </a:cubicBezTo>
                <a:cubicBezTo>
                  <a:pt x="5817" y="5407"/>
                  <a:pt x="5892" y="5386"/>
                  <a:pt x="5978" y="5383"/>
                </a:cubicBezTo>
                <a:cubicBezTo>
                  <a:pt x="6061" y="5383"/>
                  <a:pt x="6094" y="5383"/>
                  <a:pt x="6152" y="5383"/>
                </a:cubicBezTo>
              </a:path>
              <a:path w="7243" h="2184">
                <a:moveTo>
                  <a:pt x="6672" y="5531"/>
                </a:moveTo>
                <a:cubicBezTo>
                  <a:pt x="6833" y="5531"/>
                  <a:pt x="6988" y="5541"/>
                  <a:pt x="7144" y="5556"/>
                </a:cubicBezTo>
                <a:cubicBezTo>
                  <a:pt x="7238" y="5565"/>
                  <a:pt x="7301" y="5558"/>
                  <a:pt x="7392" y="5581"/>
                </a:cubicBezTo>
              </a:path>
              <a:path w="7243" h="2184">
                <a:moveTo>
                  <a:pt x="7913" y="4887"/>
                </a:moveTo>
                <a:cubicBezTo>
                  <a:pt x="8035" y="4844"/>
                  <a:pt x="8151" y="4784"/>
                  <a:pt x="8285" y="4812"/>
                </a:cubicBezTo>
                <a:cubicBezTo>
                  <a:pt x="8349" y="4825"/>
                  <a:pt x="8455" y="4850"/>
                  <a:pt x="8483" y="4911"/>
                </a:cubicBezTo>
                <a:cubicBezTo>
                  <a:pt x="8521" y="4992"/>
                  <a:pt x="8491" y="5077"/>
                  <a:pt x="8458" y="5159"/>
                </a:cubicBezTo>
                <a:cubicBezTo>
                  <a:pt x="8421" y="5251"/>
                  <a:pt x="8348" y="5355"/>
                  <a:pt x="8285" y="5432"/>
                </a:cubicBezTo>
                <a:cubicBezTo>
                  <a:pt x="8200" y="5536"/>
                  <a:pt x="8097" y="5626"/>
                  <a:pt x="8012" y="5730"/>
                </a:cubicBezTo>
                <a:cubicBezTo>
                  <a:pt x="7944" y="5814"/>
                  <a:pt x="7840" y="5909"/>
                  <a:pt x="7789" y="6003"/>
                </a:cubicBezTo>
                <a:cubicBezTo>
                  <a:pt x="7751" y="6072"/>
                  <a:pt x="7726" y="6114"/>
                  <a:pt x="7764" y="6176"/>
                </a:cubicBezTo>
                <a:cubicBezTo>
                  <a:pt x="7814" y="6259"/>
                  <a:pt x="8060" y="6270"/>
                  <a:pt x="8136" y="6276"/>
                </a:cubicBezTo>
                <a:cubicBezTo>
                  <a:pt x="8302" y="6288"/>
                  <a:pt x="8468" y="6312"/>
                  <a:pt x="8632" y="6325"/>
                </a:cubicBezTo>
                <a:cubicBezTo>
                  <a:pt x="8707" y="6331"/>
                  <a:pt x="8759" y="6337"/>
                  <a:pt x="8830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Ink 11"/>
          <p:cNvSpPr/>
          <p:nvPr/>
        </p:nvSpPr>
        <p:spPr>
          <a:xfrm>
            <a:off x="4010040" y="1133640"/>
            <a:ext cx="4303800" cy="885600"/>
          </a:xfrm>
          <a:custGeom>
            <a:avLst/>
            <a:gdLst/>
            <a:ahLst/>
            <a:rect l="l" t="t" r="r" b="b"/>
            <a:pathLst>
              <a:path w="11957" h="2457">
                <a:moveTo>
                  <a:pt x="12005" y="4018"/>
                </a:moveTo>
                <a:cubicBezTo>
                  <a:pt x="11970" y="4090"/>
                  <a:pt x="11943" y="4173"/>
                  <a:pt x="11906" y="4242"/>
                </a:cubicBezTo>
                <a:cubicBezTo>
                  <a:pt x="11845" y="4356"/>
                  <a:pt x="11749" y="4452"/>
                  <a:pt x="11683" y="4564"/>
                </a:cubicBezTo>
                <a:cubicBezTo>
                  <a:pt x="11640" y="4636"/>
                  <a:pt x="11591" y="4701"/>
                  <a:pt x="11534" y="4762"/>
                </a:cubicBezTo>
                <a:cubicBezTo>
                  <a:pt x="11508" y="4790"/>
                  <a:pt x="11467" y="4881"/>
                  <a:pt x="11509" y="4911"/>
                </a:cubicBezTo>
                <a:cubicBezTo>
                  <a:pt x="11583" y="4963"/>
                  <a:pt x="11744" y="5019"/>
                  <a:pt x="11832" y="5035"/>
                </a:cubicBezTo>
                <a:cubicBezTo>
                  <a:pt x="11886" y="5045"/>
                  <a:pt x="11938" y="5050"/>
                  <a:pt x="11981" y="5085"/>
                </a:cubicBezTo>
                <a:cubicBezTo>
                  <a:pt x="11989" y="5093"/>
                  <a:pt x="11997" y="5102"/>
                  <a:pt x="12005" y="5110"/>
                </a:cubicBezTo>
              </a:path>
              <a:path w="11957" h="2457">
                <a:moveTo>
                  <a:pt x="12254" y="4490"/>
                </a:moveTo>
                <a:cubicBezTo>
                  <a:pt x="12261" y="4422"/>
                  <a:pt x="12272" y="4318"/>
                  <a:pt x="12353" y="4291"/>
                </a:cubicBezTo>
                <a:cubicBezTo>
                  <a:pt x="12421" y="4268"/>
                  <a:pt x="12469" y="4352"/>
                  <a:pt x="12502" y="4390"/>
                </a:cubicBezTo>
                <a:cubicBezTo>
                  <a:pt x="12579" y="4478"/>
                  <a:pt x="12617" y="4618"/>
                  <a:pt x="12601" y="4738"/>
                </a:cubicBezTo>
                <a:cubicBezTo>
                  <a:pt x="12593" y="4797"/>
                  <a:pt x="12549" y="4942"/>
                  <a:pt x="12502" y="4986"/>
                </a:cubicBezTo>
                <a:cubicBezTo>
                  <a:pt x="12431" y="5052"/>
                  <a:pt x="12376" y="5057"/>
                  <a:pt x="12303" y="5035"/>
                </a:cubicBezTo>
                <a:cubicBezTo>
                  <a:pt x="12254" y="5020"/>
                  <a:pt x="12209" y="4975"/>
                  <a:pt x="12229" y="4911"/>
                </a:cubicBezTo>
                <a:cubicBezTo>
                  <a:pt x="12253" y="4833"/>
                  <a:pt x="12331" y="4831"/>
                  <a:pt x="12378" y="4837"/>
                </a:cubicBezTo>
                <a:cubicBezTo>
                  <a:pt x="12446" y="4845"/>
                  <a:pt x="12509" y="4901"/>
                  <a:pt x="12551" y="4961"/>
                </a:cubicBezTo>
                <a:cubicBezTo>
                  <a:pt x="12597" y="5026"/>
                  <a:pt x="12623" y="5049"/>
                  <a:pt x="12700" y="5060"/>
                </a:cubicBezTo>
              </a:path>
              <a:path w="11957" h="2457">
                <a:moveTo>
                  <a:pt x="12948" y="5011"/>
                </a:moveTo>
                <a:cubicBezTo>
                  <a:pt x="12948" y="5143"/>
                  <a:pt x="12948" y="5160"/>
                  <a:pt x="12948" y="5234"/>
                </a:cubicBezTo>
              </a:path>
              <a:path w="11957" h="2457">
                <a:moveTo>
                  <a:pt x="13122" y="4440"/>
                </a:moveTo>
                <a:cubicBezTo>
                  <a:pt x="13193" y="4352"/>
                  <a:pt x="13210" y="4318"/>
                  <a:pt x="13320" y="4366"/>
                </a:cubicBezTo>
                <a:cubicBezTo>
                  <a:pt x="13427" y="4413"/>
                  <a:pt x="13475" y="4526"/>
                  <a:pt x="13494" y="4638"/>
                </a:cubicBezTo>
                <a:cubicBezTo>
                  <a:pt x="13505" y="4703"/>
                  <a:pt x="13504" y="4805"/>
                  <a:pt x="13469" y="4862"/>
                </a:cubicBezTo>
                <a:cubicBezTo>
                  <a:pt x="13424" y="4934"/>
                  <a:pt x="13342" y="4943"/>
                  <a:pt x="13271" y="4911"/>
                </a:cubicBezTo>
                <a:cubicBezTo>
                  <a:pt x="13246" y="4887"/>
                  <a:pt x="13237" y="4879"/>
                  <a:pt x="13221" y="4862"/>
                </a:cubicBezTo>
                <a:cubicBezTo>
                  <a:pt x="13291" y="4820"/>
                  <a:pt x="13322" y="4851"/>
                  <a:pt x="13395" y="4887"/>
                </a:cubicBezTo>
                <a:cubicBezTo>
                  <a:pt x="13448" y="4913"/>
                  <a:pt x="13519" y="4951"/>
                  <a:pt x="13568" y="4961"/>
                </a:cubicBezTo>
                <a:cubicBezTo>
                  <a:pt x="13620" y="4961"/>
                  <a:pt x="13638" y="4960"/>
                  <a:pt x="13667" y="4936"/>
                </a:cubicBezTo>
              </a:path>
              <a:path w="11957" h="2457">
                <a:moveTo>
                  <a:pt x="13543" y="4217"/>
                </a:moveTo>
                <a:cubicBezTo>
                  <a:pt x="13609" y="4249"/>
                  <a:pt x="13680" y="4278"/>
                  <a:pt x="13742" y="4316"/>
                </a:cubicBezTo>
                <a:cubicBezTo>
                  <a:pt x="13817" y="4362"/>
                  <a:pt x="13903" y="4421"/>
                  <a:pt x="13990" y="4440"/>
                </a:cubicBezTo>
                <a:cubicBezTo>
                  <a:pt x="14028" y="4448"/>
                  <a:pt x="14099" y="4461"/>
                  <a:pt x="14114" y="4514"/>
                </a:cubicBezTo>
                <a:cubicBezTo>
                  <a:pt x="14129" y="4568"/>
                  <a:pt x="14071" y="4672"/>
                  <a:pt x="14039" y="4713"/>
                </a:cubicBezTo>
                <a:cubicBezTo>
                  <a:pt x="13988" y="4778"/>
                  <a:pt x="13941" y="4846"/>
                  <a:pt x="13891" y="4911"/>
                </a:cubicBezTo>
                <a:cubicBezTo>
                  <a:pt x="13855" y="4957"/>
                  <a:pt x="13805" y="4975"/>
                  <a:pt x="13841" y="5011"/>
                </a:cubicBezTo>
              </a:path>
              <a:path w="11957" h="2457">
                <a:moveTo>
                  <a:pt x="14486" y="4539"/>
                </a:moveTo>
                <a:cubicBezTo>
                  <a:pt x="14483" y="4547"/>
                  <a:pt x="14409" y="4764"/>
                  <a:pt x="14486" y="4663"/>
                </a:cubicBezTo>
                <a:cubicBezTo>
                  <a:pt x="14526" y="4611"/>
                  <a:pt x="14530" y="4585"/>
                  <a:pt x="14511" y="4539"/>
                </a:cubicBezTo>
                <a:cubicBezTo>
                  <a:pt x="14489" y="4583"/>
                  <a:pt x="14486" y="4595"/>
                  <a:pt x="14461" y="4614"/>
                </a:cubicBezTo>
                <a:cubicBezTo>
                  <a:pt x="14486" y="4644"/>
                  <a:pt x="14583" y="4683"/>
                  <a:pt x="14610" y="4589"/>
                </a:cubicBezTo>
                <a:cubicBezTo>
                  <a:pt x="14610" y="4572"/>
                  <a:pt x="14610" y="4556"/>
                  <a:pt x="14610" y="4539"/>
                </a:cubicBezTo>
                <a:cubicBezTo>
                  <a:pt x="14544" y="4485"/>
                  <a:pt x="14528" y="4497"/>
                  <a:pt x="14461" y="4564"/>
                </a:cubicBezTo>
                <a:cubicBezTo>
                  <a:pt x="14438" y="4587"/>
                  <a:pt x="14427" y="4595"/>
                  <a:pt x="14461" y="4589"/>
                </a:cubicBezTo>
              </a:path>
              <a:path w="11957" h="2457">
                <a:moveTo>
                  <a:pt x="15354" y="4118"/>
                </a:moveTo>
                <a:cubicBezTo>
                  <a:pt x="15341" y="4235"/>
                  <a:pt x="15299" y="4254"/>
                  <a:pt x="15230" y="4341"/>
                </a:cubicBezTo>
                <a:cubicBezTo>
                  <a:pt x="15160" y="4430"/>
                  <a:pt x="15088" y="4508"/>
                  <a:pt x="15007" y="4589"/>
                </a:cubicBezTo>
                <a:cubicBezTo>
                  <a:pt x="14977" y="4619"/>
                  <a:pt x="14941" y="4636"/>
                  <a:pt x="14908" y="4663"/>
                </a:cubicBezTo>
                <a:cubicBezTo>
                  <a:pt x="14961" y="4706"/>
                  <a:pt x="15022" y="4726"/>
                  <a:pt x="15081" y="4762"/>
                </a:cubicBezTo>
                <a:cubicBezTo>
                  <a:pt x="15146" y="4802"/>
                  <a:pt x="15219" y="4842"/>
                  <a:pt x="15280" y="4887"/>
                </a:cubicBezTo>
                <a:cubicBezTo>
                  <a:pt x="15304" y="4911"/>
                  <a:pt x="15313" y="4920"/>
                  <a:pt x="15329" y="4936"/>
                </a:cubicBezTo>
              </a:path>
              <a:path w="11957" h="2457">
                <a:moveTo>
                  <a:pt x="15379" y="4415"/>
                </a:moveTo>
                <a:cubicBezTo>
                  <a:pt x="15471" y="4415"/>
                  <a:pt x="15538" y="4394"/>
                  <a:pt x="15627" y="4390"/>
                </a:cubicBezTo>
                <a:cubicBezTo>
                  <a:pt x="15679" y="4390"/>
                  <a:pt x="15697" y="4389"/>
                  <a:pt x="15726" y="4366"/>
                </a:cubicBezTo>
              </a:path>
              <a:path w="11957" h="2457">
                <a:moveTo>
                  <a:pt x="15850" y="4118"/>
                </a:moveTo>
                <a:cubicBezTo>
                  <a:pt x="15865" y="4045"/>
                  <a:pt x="15893" y="3971"/>
                  <a:pt x="15999" y="3994"/>
                </a:cubicBezTo>
                <a:cubicBezTo>
                  <a:pt x="16051" y="4005"/>
                  <a:pt x="16134" y="4069"/>
                  <a:pt x="16148" y="4118"/>
                </a:cubicBezTo>
                <a:cubicBezTo>
                  <a:pt x="16165" y="4174"/>
                  <a:pt x="16140" y="4276"/>
                  <a:pt x="16098" y="4316"/>
                </a:cubicBezTo>
                <a:cubicBezTo>
                  <a:pt x="16045" y="4366"/>
                  <a:pt x="15965" y="4407"/>
                  <a:pt x="15900" y="4440"/>
                </a:cubicBezTo>
                <a:cubicBezTo>
                  <a:pt x="15963" y="4448"/>
                  <a:pt x="16067" y="4455"/>
                  <a:pt x="16123" y="4490"/>
                </a:cubicBezTo>
                <a:cubicBezTo>
                  <a:pt x="16182" y="4526"/>
                  <a:pt x="16297" y="4639"/>
                  <a:pt x="16297" y="4713"/>
                </a:cubicBezTo>
                <a:cubicBezTo>
                  <a:pt x="16297" y="4768"/>
                  <a:pt x="16191" y="4820"/>
                  <a:pt x="16148" y="4837"/>
                </a:cubicBezTo>
                <a:cubicBezTo>
                  <a:pt x="16078" y="4865"/>
                  <a:pt x="15978" y="4915"/>
                  <a:pt x="15900" y="4887"/>
                </a:cubicBezTo>
                <a:cubicBezTo>
                  <a:pt x="15892" y="4879"/>
                  <a:pt x="15883" y="4870"/>
                  <a:pt x="15875" y="4862"/>
                </a:cubicBezTo>
              </a:path>
              <a:path w="11957" h="2457">
                <a:moveTo>
                  <a:pt x="16371" y="4688"/>
                </a:moveTo>
                <a:cubicBezTo>
                  <a:pt x="16371" y="4767"/>
                  <a:pt x="16389" y="4866"/>
                  <a:pt x="16346" y="4936"/>
                </a:cubicBezTo>
                <a:cubicBezTo>
                  <a:pt x="16338" y="4944"/>
                  <a:pt x="16329" y="4953"/>
                  <a:pt x="16321" y="4961"/>
                </a:cubicBezTo>
              </a:path>
              <a:path w="11957" h="2457">
                <a:moveTo>
                  <a:pt x="16694" y="4118"/>
                </a:moveTo>
                <a:cubicBezTo>
                  <a:pt x="16724" y="4200"/>
                  <a:pt x="16684" y="4247"/>
                  <a:pt x="16694" y="4316"/>
                </a:cubicBezTo>
                <a:cubicBezTo>
                  <a:pt x="16704" y="4383"/>
                  <a:pt x="16780" y="4428"/>
                  <a:pt x="16842" y="4415"/>
                </a:cubicBezTo>
                <a:cubicBezTo>
                  <a:pt x="16907" y="4402"/>
                  <a:pt x="16978" y="4389"/>
                  <a:pt x="17041" y="4366"/>
                </a:cubicBezTo>
              </a:path>
              <a:path w="11957" h="2457">
                <a:moveTo>
                  <a:pt x="17066" y="4018"/>
                </a:moveTo>
                <a:cubicBezTo>
                  <a:pt x="17060" y="4179"/>
                  <a:pt x="17041" y="4329"/>
                  <a:pt x="17041" y="4490"/>
                </a:cubicBezTo>
                <a:cubicBezTo>
                  <a:pt x="17041" y="4562"/>
                  <a:pt x="17043" y="4695"/>
                  <a:pt x="17066" y="4762"/>
                </a:cubicBezTo>
                <a:cubicBezTo>
                  <a:pt x="17084" y="4815"/>
                  <a:pt x="17098" y="4807"/>
                  <a:pt x="17066" y="4862"/>
                </a:cubicBezTo>
              </a:path>
              <a:path w="11957" h="2457">
                <a:moveTo>
                  <a:pt x="17239" y="3870"/>
                </a:moveTo>
                <a:cubicBezTo>
                  <a:pt x="17283" y="3930"/>
                  <a:pt x="17348" y="3975"/>
                  <a:pt x="17413" y="4018"/>
                </a:cubicBezTo>
                <a:cubicBezTo>
                  <a:pt x="17485" y="4066"/>
                  <a:pt x="17582" y="4085"/>
                  <a:pt x="17661" y="4118"/>
                </a:cubicBezTo>
                <a:cubicBezTo>
                  <a:pt x="17728" y="4146"/>
                  <a:pt x="17770" y="4155"/>
                  <a:pt x="17835" y="4192"/>
                </a:cubicBezTo>
                <a:cubicBezTo>
                  <a:pt x="17785" y="4317"/>
                  <a:pt x="17719" y="4439"/>
                  <a:pt x="17661" y="4564"/>
                </a:cubicBezTo>
                <a:cubicBezTo>
                  <a:pt x="17602" y="4689"/>
                  <a:pt x="17538" y="4907"/>
                  <a:pt x="17462" y="5011"/>
                </a:cubicBezTo>
                <a:cubicBezTo>
                  <a:pt x="17454" y="5011"/>
                  <a:pt x="17446" y="5011"/>
                  <a:pt x="17438" y="5011"/>
                </a:cubicBezTo>
              </a:path>
              <a:path w="11957" h="2457">
                <a:moveTo>
                  <a:pt x="11336" y="3820"/>
                </a:moveTo>
                <a:cubicBezTo>
                  <a:pt x="11252" y="3965"/>
                  <a:pt x="11180" y="4096"/>
                  <a:pt x="11162" y="4266"/>
                </a:cubicBezTo>
                <a:cubicBezTo>
                  <a:pt x="11147" y="4409"/>
                  <a:pt x="11118" y="4568"/>
                  <a:pt x="11137" y="4713"/>
                </a:cubicBezTo>
                <a:cubicBezTo>
                  <a:pt x="11154" y="4843"/>
                  <a:pt x="11198" y="4996"/>
                  <a:pt x="11261" y="5110"/>
                </a:cubicBezTo>
                <a:cubicBezTo>
                  <a:pt x="11336" y="5247"/>
                  <a:pt x="11407" y="5339"/>
                  <a:pt x="11534" y="5432"/>
                </a:cubicBezTo>
                <a:cubicBezTo>
                  <a:pt x="11648" y="5515"/>
                  <a:pt x="11774" y="5564"/>
                  <a:pt x="11906" y="5606"/>
                </a:cubicBezTo>
              </a:path>
              <a:path w="11957" h="2457">
                <a:moveTo>
                  <a:pt x="17760" y="3150"/>
                </a:moveTo>
                <a:cubicBezTo>
                  <a:pt x="17888" y="3196"/>
                  <a:pt x="17967" y="3264"/>
                  <a:pt x="18058" y="3373"/>
                </a:cubicBezTo>
                <a:cubicBezTo>
                  <a:pt x="18159" y="3494"/>
                  <a:pt x="18263" y="3693"/>
                  <a:pt x="18306" y="3845"/>
                </a:cubicBezTo>
                <a:cubicBezTo>
                  <a:pt x="18351" y="4005"/>
                  <a:pt x="18373" y="4200"/>
                  <a:pt x="18355" y="4366"/>
                </a:cubicBezTo>
                <a:cubicBezTo>
                  <a:pt x="18339" y="4518"/>
                  <a:pt x="18294" y="4675"/>
                  <a:pt x="18231" y="4812"/>
                </a:cubicBezTo>
                <a:cubicBezTo>
                  <a:pt x="18179" y="4926"/>
                  <a:pt x="18082" y="5030"/>
                  <a:pt x="17983" y="5110"/>
                </a:cubicBezTo>
                <a:cubicBezTo>
                  <a:pt x="17967" y="5123"/>
                  <a:pt x="17758" y="5238"/>
                  <a:pt x="17760" y="5234"/>
                </a:cubicBezTo>
                <a:cubicBezTo>
                  <a:pt x="17785" y="5209"/>
                  <a:pt x="17810" y="5184"/>
                  <a:pt x="17835" y="5159"/>
                </a:cubicBezTo>
              </a:path>
              <a:path w="11957" h="2457">
                <a:moveTo>
                  <a:pt x="18852" y="4341"/>
                </a:moveTo>
                <a:cubicBezTo>
                  <a:pt x="18808" y="4385"/>
                  <a:pt x="18811" y="4378"/>
                  <a:pt x="18802" y="4440"/>
                </a:cubicBezTo>
                <a:cubicBezTo>
                  <a:pt x="18853" y="4466"/>
                  <a:pt x="18856" y="4435"/>
                  <a:pt x="18901" y="4390"/>
                </a:cubicBezTo>
                <a:cubicBezTo>
                  <a:pt x="18956" y="4336"/>
                  <a:pt x="18942" y="4332"/>
                  <a:pt x="18926" y="4266"/>
                </a:cubicBezTo>
                <a:cubicBezTo>
                  <a:pt x="18904" y="4288"/>
                  <a:pt x="18836" y="4336"/>
                  <a:pt x="18827" y="4366"/>
                </a:cubicBezTo>
                <a:cubicBezTo>
                  <a:pt x="18811" y="4421"/>
                  <a:pt x="18869" y="4484"/>
                  <a:pt x="18926" y="4465"/>
                </a:cubicBezTo>
                <a:cubicBezTo>
                  <a:pt x="19005" y="4439"/>
                  <a:pt x="19000" y="4387"/>
                  <a:pt x="19000" y="4316"/>
                </a:cubicBezTo>
                <a:cubicBezTo>
                  <a:pt x="18961" y="4322"/>
                  <a:pt x="18869" y="4341"/>
                  <a:pt x="18852" y="4390"/>
                </a:cubicBezTo>
                <a:cubicBezTo>
                  <a:pt x="18852" y="4432"/>
                  <a:pt x="18852" y="4440"/>
                  <a:pt x="18852" y="4465"/>
                </a:cubicBezTo>
              </a:path>
              <a:path w="11957" h="2457">
                <a:moveTo>
                  <a:pt x="19918" y="3696"/>
                </a:moveTo>
                <a:cubicBezTo>
                  <a:pt x="19869" y="3795"/>
                  <a:pt x="19827" y="3822"/>
                  <a:pt x="19745" y="3894"/>
                </a:cubicBezTo>
                <a:cubicBezTo>
                  <a:pt x="19655" y="3973"/>
                  <a:pt x="19552" y="4080"/>
                  <a:pt x="19472" y="4167"/>
                </a:cubicBezTo>
                <a:cubicBezTo>
                  <a:pt x="19404" y="4242"/>
                  <a:pt x="19340" y="4316"/>
                  <a:pt x="19273" y="4390"/>
                </a:cubicBezTo>
                <a:cubicBezTo>
                  <a:pt x="19265" y="4398"/>
                  <a:pt x="19256" y="4407"/>
                  <a:pt x="19248" y="4415"/>
                </a:cubicBezTo>
                <a:cubicBezTo>
                  <a:pt x="19288" y="4455"/>
                  <a:pt x="19332" y="4477"/>
                  <a:pt x="19372" y="4514"/>
                </a:cubicBezTo>
                <a:cubicBezTo>
                  <a:pt x="19429" y="4568"/>
                  <a:pt x="19487" y="4614"/>
                  <a:pt x="19546" y="4663"/>
                </a:cubicBezTo>
                <a:cubicBezTo>
                  <a:pt x="19633" y="4735"/>
                  <a:pt x="19727" y="4779"/>
                  <a:pt x="19819" y="4837"/>
                </a:cubicBezTo>
                <a:cubicBezTo>
                  <a:pt x="19867" y="4867"/>
                  <a:pt x="19923" y="4902"/>
                  <a:pt x="19968" y="4936"/>
                </a:cubicBezTo>
                <a:cubicBezTo>
                  <a:pt x="20005" y="4964"/>
                  <a:pt x="19958" y="4953"/>
                  <a:pt x="19993" y="4862"/>
                </a:cubicBezTo>
              </a:path>
              <a:path w="11957" h="2457">
                <a:moveTo>
                  <a:pt x="20439" y="3795"/>
                </a:moveTo>
                <a:cubicBezTo>
                  <a:pt x="20468" y="3872"/>
                  <a:pt x="20486" y="3985"/>
                  <a:pt x="20489" y="4068"/>
                </a:cubicBezTo>
                <a:cubicBezTo>
                  <a:pt x="20497" y="4274"/>
                  <a:pt x="20478" y="4496"/>
                  <a:pt x="20513" y="4688"/>
                </a:cubicBezTo>
                <a:cubicBezTo>
                  <a:pt x="20522" y="4740"/>
                  <a:pt x="20517" y="4768"/>
                  <a:pt x="20489" y="4787"/>
                </a:cubicBezTo>
              </a:path>
              <a:path w="11957" h="2457">
                <a:moveTo>
                  <a:pt x="20811" y="4539"/>
                </a:moveTo>
                <a:cubicBezTo>
                  <a:pt x="20807" y="4649"/>
                  <a:pt x="20760" y="4845"/>
                  <a:pt x="20786" y="4961"/>
                </a:cubicBezTo>
                <a:cubicBezTo>
                  <a:pt x="20814" y="5016"/>
                  <a:pt x="20822" y="5039"/>
                  <a:pt x="20811" y="5085"/>
                </a:cubicBezTo>
              </a:path>
              <a:path w="11957" h="2457">
                <a:moveTo>
                  <a:pt x="21059" y="4217"/>
                </a:moveTo>
                <a:cubicBezTo>
                  <a:pt x="21144" y="4174"/>
                  <a:pt x="21186" y="4167"/>
                  <a:pt x="21282" y="4167"/>
                </a:cubicBezTo>
                <a:cubicBezTo>
                  <a:pt x="21345" y="4167"/>
                  <a:pt x="21396" y="4140"/>
                  <a:pt x="21456" y="4118"/>
                </a:cubicBezTo>
              </a:path>
              <a:path w="11957" h="2457">
                <a:moveTo>
                  <a:pt x="21729" y="3870"/>
                </a:moveTo>
                <a:cubicBezTo>
                  <a:pt x="21703" y="3948"/>
                  <a:pt x="21684" y="4057"/>
                  <a:pt x="21704" y="4142"/>
                </a:cubicBezTo>
                <a:cubicBezTo>
                  <a:pt x="21720" y="4210"/>
                  <a:pt x="21796" y="4239"/>
                  <a:pt x="21853" y="4242"/>
                </a:cubicBezTo>
                <a:cubicBezTo>
                  <a:pt x="21926" y="4246"/>
                  <a:pt x="21988" y="4199"/>
                  <a:pt x="22051" y="4167"/>
                </a:cubicBezTo>
              </a:path>
              <a:path w="11957" h="2457">
                <a:moveTo>
                  <a:pt x="22101" y="3721"/>
                </a:moveTo>
                <a:cubicBezTo>
                  <a:pt x="22062" y="3828"/>
                  <a:pt x="22027" y="3931"/>
                  <a:pt x="22002" y="4043"/>
                </a:cubicBezTo>
                <a:cubicBezTo>
                  <a:pt x="21972" y="4178"/>
                  <a:pt x="21954" y="4351"/>
                  <a:pt x="21977" y="4490"/>
                </a:cubicBezTo>
                <a:cubicBezTo>
                  <a:pt x="21983" y="4530"/>
                  <a:pt x="22022" y="4684"/>
                  <a:pt x="22051" y="4713"/>
                </a:cubicBezTo>
                <a:cubicBezTo>
                  <a:pt x="22051" y="4705"/>
                  <a:pt x="22051" y="4696"/>
                  <a:pt x="22051" y="4688"/>
                </a:cubicBezTo>
              </a:path>
              <a:path w="11957" h="2457">
                <a:moveTo>
                  <a:pt x="22250" y="3473"/>
                </a:moveTo>
                <a:cubicBezTo>
                  <a:pt x="22327" y="3520"/>
                  <a:pt x="22405" y="3586"/>
                  <a:pt x="22473" y="3646"/>
                </a:cubicBezTo>
                <a:cubicBezTo>
                  <a:pt x="22567" y="3729"/>
                  <a:pt x="22656" y="3794"/>
                  <a:pt x="22771" y="3845"/>
                </a:cubicBezTo>
                <a:cubicBezTo>
                  <a:pt x="22833" y="3873"/>
                  <a:pt x="23093" y="3949"/>
                  <a:pt x="23093" y="4018"/>
                </a:cubicBezTo>
                <a:cubicBezTo>
                  <a:pt x="23093" y="4145"/>
                  <a:pt x="22966" y="4252"/>
                  <a:pt x="22895" y="4341"/>
                </a:cubicBezTo>
                <a:cubicBezTo>
                  <a:pt x="22768" y="4500"/>
                  <a:pt x="22604" y="4655"/>
                  <a:pt x="22448" y="4787"/>
                </a:cubicBezTo>
                <a:cubicBezTo>
                  <a:pt x="22359" y="4847"/>
                  <a:pt x="22318" y="4873"/>
                  <a:pt x="22250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Ink 12"/>
          <p:cNvSpPr/>
          <p:nvPr/>
        </p:nvSpPr>
        <p:spPr>
          <a:xfrm>
            <a:off x="1455840" y="2687760"/>
            <a:ext cx="1473120" cy="527040"/>
          </a:xfrm>
          <a:custGeom>
            <a:avLst/>
            <a:gdLst/>
            <a:ahLst/>
            <a:rect l="l" t="t" r="r" b="b"/>
            <a:pathLst>
              <a:path w="4094" h="1465">
                <a:moveTo>
                  <a:pt x="4167" y="7714"/>
                </a:moveTo>
                <a:cubicBezTo>
                  <a:pt x="4134" y="7833"/>
                  <a:pt x="4122" y="7962"/>
                  <a:pt x="4118" y="8086"/>
                </a:cubicBezTo>
                <a:cubicBezTo>
                  <a:pt x="4114" y="8211"/>
                  <a:pt x="4111" y="8359"/>
                  <a:pt x="4093" y="8483"/>
                </a:cubicBezTo>
                <a:cubicBezTo>
                  <a:pt x="4075" y="8604"/>
                  <a:pt x="4048" y="8732"/>
                  <a:pt x="4043" y="8855"/>
                </a:cubicBezTo>
                <a:cubicBezTo>
                  <a:pt x="4043" y="8880"/>
                  <a:pt x="4043" y="8905"/>
                  <a:pt x="4043" y="8930"/>
                </a:cubicBezTo>
                <a:cubicBezTo>
                  <a:pt x="4043" y="8837"/>
                  <a:pt x="4051" y="8747"/>
                  <a:pt x="4068" y="8657"/>
                </a:cubicBezTo>
                <a:cubicBezTo>
                  <a:pt x="4092" y="8528"/>
                  <a:pt x="4128" y="8389"/>
                  <a:pt x="4142" y="8260"/>
                </a:cubicBezTo>
                <a:cubicBezTo>
                  <a:pt x="4157" y="8128"/>
                  <a:pt x="4153" y="7995"/>
                  <a:pt x="4167" y="7863"/>
                </a:cubicBezTo>
                <a:cubicBezTo>
                  <a:pt x="4178" y="7760"/>
                  <a:pt x="4201" y="7662"/>
                  <a:pt x="4217" y="7565"/>
                </a:cubicBezTo>
                <a:cubicBezTo>
                  <a:pt x="4230" y="7490"/>
                  <a:pt x="4237" y="7475"/>
                  <a:pt x="4316" y="7466"/>
                </a:cubicBezTo>
                <a:cubicBezTo>
                  <a:pt x="4398" y="7457"/>
                  <a:pt x="4461" y="7483"/>
                  <a:pt x="4539" y="7491"/>
                </a:cubicBezTo>
                <a:cubicBezTo>
                  <a:pt x="4690" y="7506"/>
                  <a:pt x="4836" y="7469"/>
                  <a:pt x="4986" y="7466"/>
                </a:cubicBezTo>
                <a:cubicBezTo>
                  <a:pt x="5220" y="7461"/>
                  <a:pt x="5451" y="7464"/>
                  <a:pt x="5680" y="7491"/>
                </a:cubicBezTo>
                <a:cubicBezTo>
                  <a:pt x="5724" y="7496"/>
                  <a:pt x="5717" y="7493"/>
                  <a:pt x="5755" y="7516"/>
                </a:cubicBezTo>
              </a:path>
              <a:path w="4094" h="1465">
                <a:moveTo>
                  <a:pt x="5259" y="7764"/>
                </a:moveTo>
                <a:cubicBezTo>
                  <a:pt x="5169" y="7773"/>
                  <a:pt x="5090" y="7790"/>
                  <a:pt x="5011" y="7838"/>
                </a:cubicBezTo>
                <a:cubicBezTo>
                  <a:pt x="4961" y="7869"/>
                  <a:pt x="4812" y="7964"/>
                  <a:pt x="4812" y="8037"/>
                </a:cubicBezTo>
                <a:cubicBezTo>
                  <a:pt x="4812" y="8151"/>
                  <a:pt x="4911" y="8166"/>
                  <a:pt x="4986" y="8186"/>
                </a:cubicBezTo>
                <a:cubicBezTo>
                  <a:pt x="5116" y="8220"/>
                  <a:pt x="5204" y="8199"/>
                  <a:pt x="5333" y="8186"/>
                </a:cubicBezTo>
                <a:cubicBezTo>
                  <a:pt x="5437" y="8176"/>
                  <a:pt x="5520" y="8154"/>
                  <a:pt x="5606" y="8086"/>
                </a:cubicBezTo>
                <a:cubicBezTo>
                  <a:pt x="5684" y="8024"/>
                  <a:pt x="5692" y="7973"/>
                  <a:pt x="5655" y="7888"/>
                </a:cubicBezTo>
                <a:cubicBezTo>
                  <a:pt x="5625" y="7818"/>
                  <a:pt x="5533" y="7776"/>
                  <a:pt x="5457" y="7764"/>
                </a:cubicBezTo>
                <a:cubicBezTo>
                  <a:pt x="5359" y="7749"/>
                  <a:pt x="5249" y="7762"/>
                  <a:pt x="5159" y="7789"/>
                </a:cubicBezTo>
              </a:path>
              <a:path w="4094" h="1465">
                <a:moveTo>
                  <a:pt x="5085" y="8186"/>
                </a:moveTo>
                <a:cubicBezTo>
                  <a:pt x="5019" y="8282"/>
                  <a:pt x="4964" y="8339"/>
                  <a:pt x="4911" y="8434"/>
                </a:cubicBezTo>
                <a:cubicBezTo>
                  <a:pt x="4872" y="8504"/>
                  <a:pt x="4881" y="8590"/>
                  <a:pt x="4961" y="8632"/>
                </a:cubicBezTo>
                <a:cubicBezTo>
                  <a:pt x="5041" y="8674"/>
                  <a:pt x="5239" y="8636"/>
                  <a:pt x="5308" y="8632"/>
                </a:cubicBezTo>
                <a:cubicBezTo>
                  <a:pt x="5432" y="8626"/>
                  <a:pt x="5486" y="8571"/>
                  <a:pt x="5581" y="8508"/>
                </a:cubicBezTo>
                <a:cubicBezTo>
                  <a:pt x="5674" y="8446"/>
                  <a:pt x="5668" y="8367"/>
                  <a:pt x="5606" y="8285"/>
                </a:cubicBezTo>
                <a:cubicBezTo>
                  <a:pt x="5561" y="8226"/>
                  <a:pt x="5503" y="8197"/>
                  <a:pt x="5432" y="8186"/>
                </a:cubicBezTo>
                <a:cubicBezTo>
                  <a:pt x="5352" y="8173"/>
                  <a:pt x="5363" y="8177"/>
                  <a:pt x="5383" y="8235"/>
                </a:cubicBezTo>
              </a:path>
              <a:path w="4094" h="1465">
                <a:moveTo>
                  <a:pt x="6424" y="8111"/>
                </a:moveTo>
                <a:cubicBezTo>
                  <a:pt x="6539" y="8081"/>
                  <a:pt x="6654" y="8049"/>
                  <a:pt x="6772" y="8037"/>
                </a:cubicBezTo>
                <a:cubicBezTo>
                  <a:pt x="6797" y="8037"/>
                  <a:pt x="6821" y="8037"/>
                  <a:pt x="6846" y="8037"/>
                </a:cubicBezTo>
              </a:path>
              <a:path w="4094" h="1465">
                <a:moveTo>
                  <a:pt x="7218" y="7565"/>
                </a:moveTo>
                <a:cubicBezTo>
                  <a:pt x="7381" y="7519"/>
                  <a:pt x="7541" y="7490"/>
                  <a:pt x="7714" y="7516"/>
                </a:cubicBezTo>
                <a:cubicBezTo>
                  <a:pt x="7797" y="7528"/>
                  <a:pt x="7890" y="7568"/>
                  <a:pt x="7938" y="7640"/>
                </a:cubicBezTo>
                <a:cubicBezTo>
                  <a:pt x="7974" y="7694"/>
                  <a:pt x="7977" y="7784"/>
                  <a:pt x="7938" y="7838"/>
                </a:cubicBezTo>
                <a:cubicBezTo>
                  <a:pt x="7873" y="7928"/>
                  <a:pt x="7792" y="8007"/>
                  <a:pt x="7714" y="8086"/>
                </a:cubicBezTo>
                <a:cubicBezTo>
                  <a:pt x="7610" y="8190"/>
                  <a:pt x="7500" y="8288"/>
                  <a:pt x="7417" y="8409"/>
                </a:cubicBezTo>
                <a:cubicBezTo>
                  <a:pt x="7371" y="8477"/>
                  <a:pt x="7232" y="8631"/>
                  <a:pt x="7367" y="8706"/>
                </a:cubicBezTo>
                <a:cubicBezTo>
                  <a:pt x="7426" y="8739"/>
                  <a:pt x="7667" y="8725"/>
                  <a:pt x="7739" y="8731"/>
                </a:cubicBezTo>
                <a:cubicBezTo>
                  <a:pt x="7877" y="8743"/>
                  <a:pt x="7963" y="8747"/>
                  <a:pt x="8086" y="8781"/>
                </a:cubicBezTo>
                <a:cubicBezTo>
                  <a:pt x="8128" y="8781"/>
                  <a:pt x="8153" y="8781"/>
                  <a:pt x="8111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Ink 13"/>
          <p:cNvSpPr/>
          <p:nvPr/>
        </p:nvSpPr>
        <p:spPr>
          <a:xfrm>
            <a:off x="3963960" y="2205000"/>
            <a:ext cx="1716120" cy="1420920"/>
          </a:xfrm>
          <a:custGeom>
            <a:avLst/>
            <a:gdLst/>
            <a:ahLst/>
            <a:rect l="l" t="t" r="r" b="b"/>
            <a:pathLst>
              <a:path w="4764" h="3945">
                <a:moveTo>
                  <a:pt x="11460" y="7094"/>
                </a:moveTo>
                <a:cubicBezTo>
                  <a:pt x="11544" y="7103"/>
                  <a:pt x="11593" y="7119"/>
                  <a:pt x="11683" y="7119"/>
                </a:cubicBezTo>
                <a:cubicBezTo>
                  <a:pt x="11773" y="7119"/>
                  <a:pt x="11844" y="7140"/>
                  <a:pt x="11931" y="7144"/>
                </a:cubicBezTo>
                <a:cubicBezTo>
                  <a:pt x="11981" y="7144"/>
                  <a:pt x="11997" y="7144"/>
                  <a:pt x="12030" y="7144"/>
                </a:cubicBezTo>
              </a:path>
              <a:path w="4764" h="3945">
                <a:moveTo>
                  <a:pt x="12551" y="6598"/>
                </a:moveTo>
                <a:cubicBezTo>
                  <a:pt x="12613" y="6660"/>
                  <a:pt x="12603" y="6725"/>
                  <a:pt x="12576" y="6821"/>
                </a:cubicBezTo>
                <a:cubicBezTo>
                  <a:pt x="12550" y="6910"/>
                  <a:pt x="12530" y="6998"/>
                  <a:pt x="12526" y="7094"/>
                </a:cubicBezTo>
                <a:cubicBezTo>
                  <a:pt x="12522" y="7202"/>
                  <a:pt x="12498" y="7347"/>
                  <a:pt x="12551" y="7441"/>
                </a:cubicBezTo>
                <a:cubicBezTo>
                  <a:pt x="12589" y="7508"/>
                  <a:pt x="12680" y="7611"/>
                  <a:pt x="12774" y="7590"/>
                </a:cubicBezTo>
                <a:cubicBezTo>
                  <a:pt x="12859" y="7571"/>
                  <a:pt x="12929" y="7549"/>
                  <a:pt x="12998" y="7491"/>
                </a:cubicBezTo>
                <a:cubicBezTo>
                  <a:pt x="13070" y="7430"/>
                  <a:pt x="13095" y="7366"/>
                  <a:pt x="13146" y="7293"/>
                </a:cubicBezTo>
                <a:cubicBezTo>
                  <a:pt x="13172" y="7256"/>
                  <a:pt x="13188" y="7188"/>
                  <a:pt x="13122" y="7169"/>
                </a:cubicBezTo>
                <a:cubicBezTo>
                  <a:pt x="13066" y="7153"/>
                  <a:pt x="13002" y="7197"/>
                  <a:pt x="12973" y="7243"/>
                </a:cubicBezTo>
                <a:cubicBezTo>
                  <a:pt x="12941" y="7293"/>
                  <a:pt x="12935" y="7383"/>
                  <a:pt x="12948" y="7441"/>
                </a:cubicBezTo>
                <a:cubicBezTo>
                  <a:pt x="12967" y="7527"/>
                  <a:pt x="12980" y="7527"/>
                  <a:pt x="13047" y="7565"/>
                </a:cubicBezTo>
              </a:path>
              <a:path w="4764" h="3945">
                <a:moveTo>
                  <a:pt x="13965" y="6796"/>
                </a:moveTo>
                <a:cubicBezTo>
                  <a:pt x="14008" y="6882"/>
                  <a:pt x="14015" y="6924"/>
                  <a:pt x="14015" y="7020"/>
                </a:cubicBezTo>
                <a:cubicBezTo>
                  <a:pt x="14015" y="7125"/>
                  <a:pt x="14023" y="7219"/>
                  <a:pt x="14039" y="7317"/>
                </a:cubicBezTo>
                <a:cubicBezTo>
                  <a:pt x="14039" y="7376"/>
                  <a:pt x="14042" y="7402"/>
                  <a:pt x="14064" y="7441"/>
                </a:cubicBezTo>
              </a:path>
              <a:path w="4764" h="3945">
                <a:moveTo>
                  <a:pt x="13667" y="7045"/>
                </a:moveTo>
                <a:cubicBezTo>
                  <a:pt x="13752" y="7076"/>
                  <a:pt x="13822" y="7069"/>
                  <a:pt x="13915" y="7069"/>
                </a:cubicBezTo>
                <a:cubicBezTo>
                  <a:pt x="14031" y="7069"/>
                  <a:pt x="14147" y="7069"/>
                  <a:pt x="14263" y="7069"/>
                </a:cubicBezTo>
              </a:path>
              <a:path w="4764" h="3945">
                <a:moveTo>
                  <a:pt x="15081" y="6598"/>
                </a:moveTo>
                <a:cubicBezTo>
                  <a:pt x="15030" y="6679"/>
                  <a:pt x="14991" y="6757"/>
                  <a:pt x="14957" y="6846"/>
                </a:cubicBezTo>
                <a:cubicBezTo>
                  <a:pt x="14921" y="6941"/>
                  <a:pt x="14944" y="6989"/>
                  <a:pt x="15007" y="7045"/>
                </a:cubicBezTo>
                <a:cubicBezTo>
                  <a:pt x="15058" y="7091"/>
                  <a:pt x="15133" y="7131"/>
                  <a:pt x="15205" y="7119"/>
                </a:cubicBezTo>
                <a:cubicBezTo>
                  <a:pt x="15300" y="7103"/>
                  <a:pt x="15402" y="7086"/>
                  <a:pt x="15478" y="7020"/>
                </a:cubicBezTo>
                <a:cubicBezTo>
                  <a:pt x="15551" y="6957"/>
                  <a:pt x="15658" y="6882"/>
                  <a:pt x="15627" y="6772"/>
                </a:cubicBezTo>
                <a:cubicBezTo>
                  <a:pt x="15602" y="6681"/>
                  <a:pt x="15508" y="6628"/>
                  <a:pt x="15429" y="6598"/>
                </a:cubicBezTo>
                <a:cubicBezTo>
                  <a:pt x="15348" y="6567"/>
                  <a:pt x="15217" y="6553"/>
                  <a:pt x="15131" y="6573"/>
                </a:cubicBezTo>
                <a:cubicBezTo>
                  <a:pt x="15081" y="6598"/>
                  <a:pt x="15065" y="6606"/>
                  <a:pt x="15032" y="6623"/>
                </a:cubicBezTo>
              </a:path>
              <a:path w="4764" h="3945">
                <a:moveTo>
                  <a:pt x="15131" y="7069"/>
                </a:moveTo>
                <a:cubicBezTo>
                  <a:pt x="15068" y="7157"/>
                  <a:pt x="15017" y="7228"/>
                  <a:pt x="14982" y="7317"/>
                </a:cubicBezTo>
                <a:cubicBezTo>
                  <a:pt x="14940" y="7423"/>
                  <a:pt x="14961" y="7483"/>
                  <a:pt x="15081" y="7541"/>
                </a:cubicBezTo>
                <a:cubicBezTo>
                  <a:pt x="15147" y="7572"/>
                  <a:pt x="15303" y="7579"/>
                  <a:pt x="15379" y="7565"/>
                </a:cubicBezTo>
                <a:cubicBezTo>
                  <a:pt x="15488" y="7546"/>
                  <a:pt x="15596" y="7513"/>
                  <a:pt x="15677" y="7441"/>
                </a:cubicBezTo>
                <a:cubicBezTo>
                  <a:pt x="15755" y="7371"/>
                  <a:pt x="15799" y="7339"/>
                  <a:pt x="15751" y="7243"/>
                </a:cubicBezTo>
                <a:cubicBezTo>
                  <a:pt x="15709" y="7159"/>
                  <a:pt x="15633" y="7165"/>
                  <a:pt x="15553" y="7144"/>
                </a:cubicBezTo>
                <a:cubicBezTo>
                  <a:pt x="15488" y="7122"/>
                  <a:pt x="15473" y="7114"/>
                  <a:pt x="15429" y="7119"/>
                </a:cubicBezTo>
              </a:path>
              <a:path w="4764" h="3945">
                <a:moveTo>
                  <a:pt x="14188" y="8930"/>
                </a:moveTo>
                <a:cubicBezTo>
                  <a:pt x="14149" y="8978"/>
                  <a:pt x="14139" y="9023"/>
                  <a:pt x="14114" y="9079"/>
                </a:cubicBezTo>
                <a:cubicBezTo>
                  <a:pt x="14124" y="8972"/>
                  <a:pt x="14139" y="8988"/>
                  <a:pt x="14188" y="8930"/>
                </a:cubicBezTo>
                <a:cubicBezTo>
                  <a:pt x="14263" y="8842"/>
                  <a:pt x="14260" y="8831"/>
                  <a:pt x="14337" y="8781"/>
                </a:cubicBezTo>
                <a:cubicBezTo>
                  <a:pt x="14386" y="8749"/>
                  <a:pt x="14481" y="8740"/>
                  <a:pt x="14536" y="8806"/>
                </a:cubicBezTo>
                <a:cubicBezTo>
                  <a:pt x="14583" y="8862"/>
                  <a:pt x="14582" y="9009"/>
                  <a:pt x="14585" y="9079"/>
                </a:cubicBezTo>
                <a:cubicBezTo>
                  <a:pt x="14589" y="9181"/>
                  <a:pt x="14584" y="9283"/>
                  <a:pt x="14536" y="9376"/>
                </a:cubicBezTo>
                <a:cubicBezTo>
                  <a:pt x="14489" y="9467"/>
                  <a:pt x="14404" y="9560"/>
                  <a:pt x="14337" y="9624"/>
                </a:cubicBezTo>
                <a:cubicBezTo>
                  <a:pt x="14264" y="9693"/>
                  <a:pt x="14225" y="9684"/>
                  <a:pt x="14139" y="9674"/>
                </a:cubicBezTo>
                <a:cubicBezTo>
                  <a:pt x="14050" y="9664"/>
                  <a:pt x="14050" y="9589"/>
                  <a:pt x="14064" y="9500"/>
                </a:cubicBezTo>
                <a:cubicBezTo>
                  <a:pt x="14069" y="9470"/>
                  <a:pt x="14153" y="9376"/>
                  <a:pt x="14188" y="9376"/>
                </a:cubicBezTo>
                <a:cubicBezTo>
                  <a:pt x="14253" y="9376"/>
                  <a:pt x="14342" y="9457"/>
                  <a:pt x="14387" y="9500"/>
                </a:cubicBezTo>
                <a:cubicBezTo>
                  <a:pt x="14467" y="9575"/>
                  <a:pt x="14462" y="9656"/>
                  <a:pt x="14511" y="9748"/>
                </a:cubicBezTo>
                <a:cubicBezTo>
                  <a:pt x="14531" y="9786"/>
                  <a:pt x="14586" y="9889"/>
                  <a:pt x="14585" y="9897"/>
                </a:cubicBezTo>
                <a:cubicBezTo>
                  <a:pt x="14562" y="9920"/>
                  <a:pt x="14554" y="9931"/>
                  <a:pt x="14560" y="9897"/>
                </a:cubicBezTo>
              </a:path>
              <a:path w="4764" h="3945">
                <a:moveTo>
                  <a:pt x="11361" y="6127"/>
                </a:moveTo>
                <a:cubicBezTo>
                  <a:pt x="11276" y="6232"/>
                  <a:pt x="11224" y="6352"/>
                  <a:pt x="11162" y="6474"/>
                </a:cubicBezTo>
                <a:cubicBezTo>
                  <a:pt x="11091" y="6615"/>
                  <a:pt x="11074" y="6767"/>
                  <a:pt x="11038" y="6921"/>
                </a:cubicBezTo>
                <a:cubicBezTo>
                  <a:pt x="11002" y="7078"/>
                  <a:pt x="11029" y="7187"/>
                  <a:pt x="11063" y="7342"/>
                </a:cubicBezTo>
                <a:cubicBezTo>
                  <a:pt x="11071" y="7383"/>
                  <a:pt x="11080" y="7425"/>
                  <a:pt x="11088" y="7466"/>
                </a:cubicBezTo>
              </a:path>
              <a:path w="4764" h="3945">
                <a:moveTo>
                  <a:pt x="13395" y="8310"/>
                </a:moveTo>
                <a:cubicBezTo>
                  <a:pt x="13343" y="8412"/>
                  <a:pt x="13305" y="8522"/>
                  <a:pt x="13271" y="8632"/>
                </a:cubicBezTo>
                <a:cubicBezTo>
                  <a:pt x="13217" y="8807"/>
                  <a:pt x="13176" y="8971"/>
                  <a:pt x="13146" y="9153"/>
                </a:cubicBezTo>
                <a:cubicBezTo>
                  <a:pt x="13114" y="9348"/>
                  <a:pt x="13110" y="9557"/>
                  <a:pt x="13171" y="9748"/>
                </a:cubicBezTo>
                <a:cubicBezTo>
                  <a:pt x="13212" y="9877"/>
                  <a:pt x="13346" y="9997"/>
                  <a:pt x="13469" y="10046"/>
                </a:cubicBezTo>
                <a:cubicBezTo>
                  <a:pt x="13575" y="10073"/>
                  <a:pt x="13615" y="10081"/>
                  <a:pt x="13692" y="10071"/>
                </a:cubicBezTo>
              </a:path>
              <a:path w="4764" h="3945">
                <a:moveTo>
                  <a:pt x="14957" y="8434"/>
                </a:moveTo>
                <a:cubicBezTo>
                  <a:pt x="15085" y="8549"/>
                  <a:pt x="15206" y="8649"/>
                  <a:pt x="15280" y="8806"/>
                </a:cubicBezTo>
                <a:cubicBezTo>
                  <a:pt x="15354" y="8963"/>
                  <a:pt x="15420" y="9132"/>
                  <a:pt x="15429" y="9302"/>
                </a:cubicBezTo>
                <a:cubicBezTo>
                  <a:pt x="15436" y="9437"/>
                  <a:pt x="15397" y="9583"/>
                  <a:pt x="15329" y="9699"/>
                </a:cubicBezTo>
                <a:cubicBezTo>
                  <a:pt x="15271" y="9798"/>
                  <a:pt x="15163" y="9946"/>
                  <a:pt x="15056" y="9971"/>
                </a:cubicBezTo>
                <a:cubicBezTo>
                  <a:pt x="15048" y="9971"/>
                  <a:pt x="15040" y="9971"/>
                  <a:pt x="15032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nk 14"/>
          <p:cNvSpPr/>
          <p:nvPr/>
        </p:nvSpPr>
        <p:spPr>
          <a:xfrm>
            <a:off x="5938920" y="2178000"/>
            <a:ext cx="2446200" cy="849240"/>
          </a:xfrm>
          <a:custGeom>
            <a:avLst/>
            <a:gdLst/>
            <a:ahLst/>
            <a:rect l="l" t="t" r="r" b="b"/>
            <a:pathLst>
              <a:path w="6798" h="2358">
                <a:moveTo>
                  <a:pt x="16495" y="6102"/>
                </a:moveTo>
                <a:cubicBezTo>
                  <a:pt x="16617" y="6102"/>
                  <a:pt x="16752" y="6083"/>
                  <a:pt x="16867" y="6127"/>
                </a:cubicBezTo>
                <a:cubicBezTo>
                  <a:pt x="16958" y="6162"/>
                  <a:pt x="17007" y="6184"/>
                  <a:pt x="17066" y="6251"/>
                </a:cubicBezTo>
                <a:cubicBezTo>
                  <a:pt x="17143" y="6339"/>
                  <a:pt x="17182" y="6411"/>
                  <a:pt x="17214" y="6524"/>
                </a:cubicBezTo>
                <a:cubicBezTo>
                  <a:pt x="17260" y="6689"/>
                  <a:pt x="17285" y="6849"/>
                  <a:pt x="17289" y="7020"/>
                </a:cubicBezTo>
                <a:cubicBezTo>
                  <a:pt x="17293" y="7170"/>
                  <a:pt x="17270" y="7295"/>
                  <a:pt x="17239" y="7441"/>
                </a:cubicBezTo>
                <a:cubicBezTo>
                  <a:pt x="17210" y="7574"/>
                  <a:pt x="17189" y="7680"/>
                  <a:pt x="17115" y="7789"/>
                </a:cubicBezTo>
                <a:cubicBezTo>
                  <a:pt x="17049" y="7886"/>
                  <a:pt x="16975" y="7918"/>
                  <a:pt x="16867" y="7962"/>
                </a:cubicBezTo>
              </a:path>
              <a:path w="6798" h="2358">
                <a:moveTo>
                  <a:pt x="19199" y="6052"/>
                </a:moveTo>
                <a:cubicBezTo>
                  <a:pt x="19134" y="6117"/>
                  <a:pt x="19075" y="6173"/>
                  <a:pt x="19000" y="6226"/>
                </a:cubicBezTo>
                <a:cubicBezTo>
                  <a:pt x="18875" y="6313"/>
                  <a:pt x="18756" y="6389"/>
                  <a:pt x="18628" y="6474"/>
                </a:cubicBezTo>
                <a:cubicBezTo>
                  <a:pt x="18514" y="6550"/>
                  <a:pt x="18413" y="6639"/>
                  <a:pt x="18306" y="6722"/>
                </a:cubicBezTo>
                <a:cubicBezTo>
                  <a:pt x="18232" y="6779"/>
                  <a:pt x="18164" y="6851"/>
                  <a:pt x="18083" y="6896"/>
                </a:cubicBezTo>
                <a:cubicBezTo>
                  <a:pt x="18039" y="6918"/>
                  <a:pt x="18028" y="6921"/>
                  <a:pt x="18008" y="6945"/>
                </a:cubicBezTo>
                <a:cubicBezTo>
                  <a:pt x="18051" y="6993"/>
                  <a:pt x="18096" y="7040"/>
                  <a:pt x="18132" y="7094"/>
                </a:cubicBezTo>
                <a:cubicBezTo>
                  <a:pt x="18186" y="7175"/>
                  <a:pt x="18242" y="7267"/>
                  <a:pt x="18306" y="7342"/>
                </a:cubicBezTo>
                <a:cubicBezTo>
                  <a:pt x="18388" y="7439"/>
                  <a:pt x="18483" y="7557"/>
                  <a:pt x="18579" y="7640"/>
                </a:cubicBezTo>
                <a:cubicBezTo>
                  <a:pt x="18691" y="7737"/>
                  <a:pt x="18780" y="7827"/>
                  <a:pt x="18876" y="7938"/>
                </a:cubicBezTo>
                <a:cubicBezTo>
                  <a:pt x="18933" y="8003"/>
                  <a:pt x="18942" y="8160"/>
                  <a:pt x="19025" y="8136"/>
                </a:cubicBezTo>
                <a:cubicBezTo>
                  <a:pt x="19050" y="8086"/>
                  <a:pt x="19058" y="8070"/>
                  <a:pt x="19075" y="8037"/>
                </a:cubicBezTo>
              </a:path>
              <a:path w="6798" h="2358">
                <a:moveTo>
                  <a:pt x="19918" y="6474"/>
                </a:moveTo>
                <a:cubicBezTo>
                  <a:pt x="19952" y="6564"/>
                  <a:pt x="19943" y="6648"/>
                  <a:pt x="19943" y="6747"/>
                </a:cubicBezTo>
                <a:cubicBezTo>
                  <a:pt x="19943" y="6898"/>
                  <a:pt x="19905" y="7043"/>
                  <a:pt x="19893" y="7193"/>
                </a:cubicBezTo>
                <a:cubicBezTo>
                  <a:pt x="19880" y="7360"/>
                  <a:pt x="19915" y="7527"/>
                  <a:pt x="19869" y="7689"/>
                </a:cubicBezTo>
                <a:cubicBezTo>
                  <a:pt x="19845" y="7773"/>
                  <a:pt x="19830" y="7854"/>
                  <a:pt x="19819" y="7938"/>
                </a:cubicBezTo>
              </a:path>
              <a:path w="6798" h="2358">
                <a:moveTo>
                  <a:pt x="20439" y="7938"/>
                </a:moveTo>
                <a:cubicBezTo>
                  <a:pt x="20407" y="8074"/>
                  <a:pt x="20365" y="8197"/>
                  <a:pt x="20365" y="8334"/>
                </a:cubicBezTo>
                <a:cubicBezTo>
                  <a:pt x="20365" y="8367"/>
                  <a:pt x="20365" y="8384"/>
                  <a:pt x="20365" y="8409"/>
                </a:cubicBezTo>
              </a:path>
              <a:path w="6798" h="2358">
                <a:moveTo>
                  <a:pt x="20613" y="7119"/>
                </a:moveTo>
                <a:cubicBezTo>
                  <a:pt x="20701" y="7089"/>
                  <a:pt x="20815" y="7077"/>
                  <a:pt x="20910" y="7069"/>
                </a:cubicBezTo>
                <a:cubicBezTo>
                  <a:pt x="21021" y="7059"/>
                  <a:pt x="21122" y="7064"/>
                  <a:pt x="21233" y="7045"/>
                </a:cubicBezTo>
              </a:path>
              <a:path w="6798" h="2358">
                <a:moveTo>
                  <a:pt x="21754" y="6821"/>
                </a:moveTo>
                <a:cubicBezTo>
                  <a:pt x="21716" y="6891"/>
                  <a:pt x="21683" y="6961"/>
                  <a:pt x="21630" y="7020"/>
                </a:cubicBezTo>
                <a:cubicBezTo>
                  <a:pt x="21593" y="7061"/>
                  <a:pt x="21564" y="7101"/>
                  <a:pt x="21530" y="7144"/>
                </a:cubicBezTo>
                <a:cubicBezTo>
                  <a:pt x="21578" y="7192"/>
                  <a:pt x="21633" y="7211"/>
                  <a:pt x="21704" y="7218"/>
                </a:cubicBezTo>
                <a:cubicBezTo>
                  <a:pt x="21824" y="7230"/>
                  <a:pt x="21934" y="7201"/>
                  <a:pt x="22051" y="7193"/>
                </a:cubicBezTo>
              </a:path>
              <a:path w="6798" h="2358">
                <a:moveTo>
                  <a:pt x="22225" y="6474"/>
                </a:moveTo>
                <a:cubicBezTo>
                  <a:pt x="22135" y="6698"/>
                  <a:pt x="22047" y="6854"/>
                  <a:pt x="22076" y="7094"/>
                </a:cubicBezTo>
                <a:cubicBezTo>
                  <a:pt x="22093" y="7236"/>
                  <a:pt x="22121" y="7373"/>
                  <a:pt x="22126" y="7516"/>
                </a:cubicBezTo>
                <a:cubicBezTo>
                  <a:pt x="22127" y="7542"/>
                  <a:pt x="22135" y="7740"/>
                  <a:pt x="22175" y="7739"/>
                </a:cubicBezTo>
                <a:cubicBezTo>
                  <a:pt x="22175" y="7711"/>
                  <a:pt x="22177" y="7700"/>
                  <a:pt x="22200" y="7689"/>
                </a:cubicBezTo>
              </a:path>
              <a:path w="6798" h="2358">
                <a:moveTo>
                  <a:pt x="22175" y="6152"/>
                </a:moveTo>
                <a:cubicBezTo>
                  <a:pt x="22272" y="6221"/>
                  <a:pt x="22353" y="6304"/>
                  <a:pt x="22448" y="6375"/>
                </a:cubicBezTo>
                <a:cubicBezTo>
                  <a:pt x="22576" y="6471"/>
                  <a:pt x="22707" y="6568"/>
                  <a:pt x="22845" y="6648"/>
                </a:cubicBezTo>
                <a:cubicBezTo>
                  <a:pt x="22952" y="6710"/>
                  <a:pt x="23061" y="6762"/>
                  <a:pt x="23168" y="6821"/>
                </a:cubicBezTo>
                <a:cubicBezTo>
                  <a:pt x="23209" y="6843"/>
                  <a:pt x="23254" y="6857"/>
                  <a:pt x="23292" y="6871"/>
                </a:cubicBezTo>
                <a:cubicBezTo>
                  <a:pt x="23244" y="6936"/>
                  <a:pt x="23197" y="7008"/>
                  <a:pt x="23143" y="7069"/>
                </a:cubicBezTo>
                <a:cubicBezTo>
                  <a:pt x="23024" y="7204"/>
                  <a:pt x="22893" y="7334"/>
                  <a:pt x="22771" y="7466"/>
                </a:cubicBezTo>
                <a:cubicBezTo>
                  <a:pt x="22682" y="7562"/>
                  <a:pt x="22628" y="7666"/>
                  <a:pt x="22547" y="7764"/>
                </a:cubicBezTo>
                <a:cubicBezTo>
                  <a:pt x="22531" y="7780"/>
                  <a:pt x="22514" y="7797"/>
                  <a:pt x="22498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Ink 15"/>
          <p:cNvSpPr/>
          <p:nvPr/>
        </p:nvSpPr>
        <p:spPr>
          <a:xfrm>
            <a:off x="1133640" y="3187800"/>
            <a:ext cx="2063520" cy="1054080"/>
          </a:xfrm>
          <a:custGeom>
            <a:avLst/>
            <a:gdLst/>
            <a:ahLst/>
            <a:rect l="l" t="t" r="r" b="b"/>
            <a:pathLst>
              <a:path w="5731" h="2928">
                <a:moveTo>
                  <a:pt x="3696" y="9922"/>
                </a:moveTo>
                <a:cubicBezTo>
                  <a:pt x="3700" y="9878"/>
                  <a:pt x="3709" y="9770"/>
                  <a:pt x="3770" y="9748"/>
                </a:cubicBezTo>
                <a:cubicBezTo>
                  <a:pt x="3825" y="9728"/>
                  <a:pt x="4003" y="9735"/>
                  <a:pt x="4043" y="9773"/>
                </a:cubicBezTo>
                <a:cubicBezTo>
                  <a:pt x="4101" y="9827"/>
                  <a:pt x="4093" y="9898"/>
                  <a:pt x="4093" y="9971"/>
                </a:cubicBezTo>
                <a:cubicBezTo>
                  <a:pt x="4093" y="10088"/>
                  <a:pt x="4045" y="10180"/>
                  <a:pt x="3969" y="10269"/>
                </a:cubicBezTo>
                <a:cubicBezTo>
                  <a:pt x="3895" y="10356"/>
                  <a:pt x="3807" y="10424"/>
                  <a:pt x="3746" y="10517"/>
                </a:cubicBezTo>
                <a:cubicBezTo>
                  <a:pt x="3700" y="10588"/>
                  <a:pt x="3658" y="10686"/>
                  <a:pt x="3746" y="10740"/>
                </a:cubicBezTo>
                <a:cubicBezTo>
                  <a:pt x="3818" y="10785"/>
                  <a:pt x="3989" y="10778"/>
                  <a:pt x="4068" y="10765"/>
                </a:cubicBezTo>
                <a:cubicBezTo>
                  <a:pt x="4161" y="10749"/>
                  <a:pt x="4239" y="10689"/>
                  <a:pt x="4316" y="10641"/>
                </a:cubicBezTo>
              </a:path>
              <a:path w="5731" h="2928">
                <a:moveTo>
                  <a:pt x="4539" y="10120"/>
                </a:moveTo>
                <a:cubicBezTo>
                  <a:pt x="4534" y="10284"/>
                  <a:pt x="4514" y="10430"/>
                  <a:pt x="4514" y="10592"/>
                </a:cubicBezTo>
                <a:cubicBezTo>
                  <a:pt x="4514" y="10658"/>
                  <a:pt x="4514" y="10724"/>
                  <a:pt x="4514" y="10790"/>
                </a:cubicBezTo>
                <a:cubicBezTo>
                  <a:pt x="4514" y="10498"/>
                  <a:pt x="4513" y="10211"/>
                  <a:pt x="4539" y="9922"/>
                </a:cubicBezTo>
                <a:cubicBezTo>
                  <a:pt x="4548" y="9818"/>
                  <a:pt x="4549" y="9767"/>
                  <a:pt x="4589" y="9674"/>
                </a:cubicBezTo>
                <a:cubicBezTo>
                  <a:pt x="4628" y="9583"/>
                  <a:pt x="4638" y="9518"/>
                  <a:pt x="4738" y="9475"/>
                </a:cubicBezTo>
                <a:cubicBezTo>
                  <a:pt x="4831" y="9435"/>
                  <a:pt x="4936" y="9451"/>
                  <a:pt x="5035" y="9451"/>
                </a:cubicBezTo>
                <a:cubicBezTo>
                  <a:pt x="5133" y="9451"/>
                  <a:pt x="5216" y="9456"/>
                  <a:pt x="5308" y="9475"/>
                </a:cubicBezTo>
                <a:cubicBezTo>
                  <a:pt x="5316" y="9475"/>
                  <a:pt x="5325" y="9475"/>
                  <a:pt x="5333" y="9475"/>
                </a:cubicBezTo>
              </a:path>
              <a:path w="5731" h="2928">
                <a:moveTo>
                  <a:pt x="4986" y="9748"/>
                </a:moveTo>
                <a:cubicBezTo>
                  <a:pt x="5091" y="9764"/>
                  <a:pt x="5268" y="9754"/>
                  <a:pt x="5333" y="9847"/>
                </a:cubicBezTo>
                <a:cubicBezTo>
                  <a:pt x="5398" y="9940"/>
                  <a:pt x="5344" y="9990"/>
                  <a:pt x="5308" y="10071"/>
                </a:cubicBezTo>
                <a:cubicBezTo>
                  <a:pt x="5252" y="10197"/>
                  <a:pt x="5196" y="10328"/>
                  <a:pt x="5085" y="10418"/>
                </a:cubicBezTo>
                <a:cubicBezTo>
                  <a:pt x="5011" y="10478"/>
                  <a:pt x="4955" y="10539"/>
                  <a:pt x="4936" y="10641"/>
                </a:cubicBezTo>
                <a:cubicBezTo>
                  <a:pt x="4922" y="10715"/>
                  <a:pt x="4996" y="10755"/>
                  <a:pt x="5060" y="10765"/>
                </a:cubicBezTo>
                <a:cubicBezTo>
                  <a:pt x="5173" y="10783"/>
                  <a:pt x="5298" y="10764"/>
                  <a:pt x="5407" y="10740"/>
                </a:cubicBezTo>
                <a:cubicBezTo>
                  <a:pt x="5440" y="10732"/>
                  <a:pt x="5474" y="10724"/>
                  <a:pt x="5507" y="10716"/>
                </a:cubicBezTo>
              </a:path>
              <a:path w="5731" h="2928">
                <a:moveTo>
                  <a:pt x="6077" y="10195"/>
                </a:moveTo>
                <a:cubicBezTo>
                  <a:pt x="6215" y="10195"/>
                  <a:pt x="6339" y="10206"/>
                  <a:pt x="6474" y="10220"/>
                </a:cubicBezTo>
                <a:cubicBezTo>
                  <a:pt x="6556" y="10228"/>
                  <a:pt x="6619" y="10215"/>
                  <a:pt x="6697" y="10195"/>
                </a:cubicBezTo>
              </a:path>
              <a:path w="5731" h="2928">
                <a:moveTo>
                  <a:pt x="6896" y="9674"/>
                </a:moveTo>
                <a:cubicBezTo>
                  <a:pt x="6959" y="9603"/>
                  <a:pt x="6988" y="9576"/>
                  <a:pt x="7094" y="9599"/>
                </a:cubicBezTo>
                <a:cubicBezTo>
                  <a:pt x="7189" y="9620"/>
                  <a:pt x="7290" y="9697"/>
                  <a:pt x="7342" y="9773"/>
                </a:cubicBezTo>
                <a:cubicBezTo>
                  <a:pt x="7416" y="9880"/>
                  <a:pt x="7465" y="9987"/>
                  <a:pt x="7441" y="10120"/>
                </a:cubicBezTo>
                <a:cubicBezTo>
                  <a:pt x="7421" y="10235"/>
                  <a:pt x="7356" y="10324"/>
                  <a:pt x="7293" y="10418"/>
                </a:cubicBezTo>
                <a:cubicBezTo>
                  <a:pt x="7214" y="10537"/>
                  <a:pt x="7107" y="10604"/>
                  <a:pt x="7020" y="10716"/>
                </a:cubicBezTo>
                <a:cubicBezTo>
                  <a:pt x="6994" y="10749"/>
                  <a:pt x="6970" y="10781"/>
                  <a:pt x="6945" y="10815"/>
                </a:cubicBezTo>
                <a:cubicBezTo>
                  <a:pt x="7006" y="10860"/>
                  <a:pt x="7012" y="10864"/>
                  <a:pt x="7094" y="10864"/>
                </a:cubicBezTo>
                <a:cubicBezTo>
                  <a:pt x="7213" y="10864"/>
                  <a:pt x="7323" y="10885"/>
                  <a:pt x="7441" y="10889"/>
                </a:cubicBezTo>
                <a:cubicBezTo>
                  <a:pt x="7557" y="10893"/>
                  <a:pt x="7676" y="10890"/>
                  <a:pt x="7789" y="10914"/>
                </a:cubicBezTo>
                <a:cubicBezTo>
                  <a:pt x="7879" y="10934"/>
                  <a:pt x="7973" y="10942"/>
                  <a:pt x="8062" y="10964"/>
                </a:cubicBezTo>
                <a:cubicBezTo>
                  <a:pt x="8109" y="10975"/>
                  <a:pt x="8113" y="10988"/>
                  <a:pt x="8161" y="10988"/>
                </a:cubicBezTo>
              </a:path>
              <a:path w="5731" h="2928">
                <a:moveTo>
                  <a:pt x="5110" y="8930"/>
                </a:moveTo>
                <a:cubicBezTo>
                  <a:pt x="4989" y="8904"/>
                  <a:pt x="4865" y="8860"/>
                  <a:pt x="4713" y="8880"/>
                </a:cubicBezTo>
                <a:cubicBezTo>
                  <a:pt x="4535" y="8904"/>
                  <a:pt x="4337" y="8963"/>
                  <a:pt x="4167" y="9029"/>
                </a:cubicBezTo>
                <a:cubicBezTo>
                  <a:pt x="3996" y="9096"/>
                  <a:pt x="3817" y="9189"/>
                  <a:pt x="3671" y="9302"/>
                </a:cubicBezTo>
                <a:cubicBezTo>
                  <a:pt x="3524" y="9416"/>
                  <a:pt x="3429" y="9548"/>
                  <a:pt x="3324" y="9699"/>
                </a:cubicBezTo>
                <a:cubicBezTo>
                  <a:pt x="3224" y="9843"/>
                  <a:pt x="3205" y="9959"/>
                  <a:pt x="3175" y="10120"/>
                </a:cubicBezTo>
                <a:cubicBezTo>
                  <a:pt x="3142" y="10297"/>
                  <a:pt x="3156" y="10480"/>
                  <a:pt x="3249" y="10641"/>
                </a:cubicBezTo>
                <a:cubicBezTo>
                  <a:pt x="3375" y="10859"/>
                  <a:pt x="3590" y="11036"/>
                  <a:pt x="3820" y="11137"/>
                </a:cubicBezTo>
                <a:cubicBezTo>
                  <a:pt x="4036" y="11232"/>
                  <a:pt x="4263" y="11298"/>
                  <a:pt x="4490" y="11361"/>
                </a:cubicBezTo>
                <a:cubicBezTo>
                  <a:pt x="4766" y="11437"/>
                  <a:pt x="5028" y="11496"/>
                  <a:pt x="5308" y="11559"/>
                </a:cubicBezTo>
                <a:cubicBezTo>
                  <a:pt x="5673" y="11641"/>
                  <a:pt x="6051" y="11723"/>
                  <a:pt x="6424" y="11757"/>
                </a:cubicBezTo>
                <a:cubicBezTo>
                  <a:pt x="6695" y="11782"/>
                  <a:pt x="6995" y="11802"/>
                  <a:pt x="7268" y="11782"/>
                </a:cubicBezTo>
                <a:cubicBezTo>
                  <a:pt x="7547" y="11762"/>
                  <a:pt x="7845" y="11715"/>
                  <a:pt x="8111" y="11633"/>
                </a:cubicBezTo>
                <a:cubicBezTo>
                  <a:pt x="8351" y="11559"/>
                  <a:pt x="8602" y="11447"/>
                  <a:pt x="8756" y="11237"/>
                </a:cubicBezTo>
                <a:cubicBezTo>
                  <a:pt x="8892" y="11052"/>
                  <a:pt x="8865" y="10921"/>
                  <a:pt x="8880" y="10716"/>
                </a:cubicBezTo>
                <a:cubicBezTo>
                  <a:pt x="8891" y="10559"/>
                  <a:pt x="8849" y="10361"/>
                  <a:pt x="8781" y="10220"/>
                </a:cubicBezTo>
                <a:cubicBezTo>
                  <a:pt x="8710" y="10073"/>
                  <a:pt x="8573" y="9890"/>
                  <a:pt x="8458" y="9773"/>
                </a:cubicBezTo>
                <a:cubicBezTo>
                  <a:pt x="8326" y="9639"/>
                  <a:pt x="8123" y="9494"/>
                  <a:pt x="7962" y="9401"/>
                </a:cubicBezTo>
                <a:cubicBezTo>
                  <a:pt x="7777" y="9294"/>
                  <a:pt x="7582" y="9243"/>
                  <a:pt x="7392" y="9153"/>
                </a:cubicBezTo>
                <a:cubicBezTo>
                  <a:pt x="7194" y="9059"/>
                  <a:pt x="7000" y="9055"/>
                  <a:pt x="6796" y="9004"/>
                </a:cubicBezTo>
                <a:cubicBezTo>
                  <a:pt x="6539" y="8940"/>
                  <a:pt x="6292" y="8918"/>
                  <a:pt x="6028" y="8880"/>
                </a:cubicBezTo>
                <a:cubicBezTo>
                  <a:pt x="5781" y="8844"/>
                  <a:pt x="5533" y="8855"/>
                  <a:pt x="5283" y="8855"/>
                </a:cubicBezTo>
                <a:cubicBezTo>
                  <a:pt x="5044" y="8855"/>
                  <a:pt x="4899" y="8949"/>
                  <a:pt x="4688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Ink 16"/>
          <p:cNvSpPr/>
          <p:nvPr/>
        </p:nvSpPr>
        <p:spPr>
          <a:xfrm>
            <a:off x="5411880" y="4000680"/>
            <a:ext cx="1598400" cy="687240"/>
          </a:xfrm>
          <a:custGeom>
            <a:avLst/>
            <a:gdLst/>
            <a:ahLst/>
            <a:rect l="l" t="t" r="r" b="b"/>
            <a:pathLst>
              <a:path w="4441" h="1911">
                <a:moveTo>
                  <a:pt x="15850" y="11137"/>
                </a:moveTo>
                <a:cubicBezTo>
                  <a:pt x="15690" y="11258"/>
                  <a:pt x="15523" y="11370"/>
                  <a:pt x="15379" y="11509"/>
                </a:cubicBezTo>
                <a:cubicBezTo>
                  <a:pt x="15292" y="11593"/>
                  <a:pt x="15218" y="11674"/>
                  <a:pt x="15131" y="11757"/>
                </a:cubicBezTo>
                <a:cubicBezTo>
                  <a:pt x="15070" y="11815"/>
                  <a:pt x="15037" y="11872"/>
                  <a:pt x="15032" y="11956"/>
                </a:cubicBezTo>
                <a:cubicBezTo>
                  <a:pt x="15028" y="12028"/>
                  <a:pt x="15035" y="12094"/>
                  <a:pt x="15081" y="12154"/>
                </a:cubicBezTo>
                <a:cubicBezTo>
                  <a:pt x="15163" y="12259"/>
                  <a:pt x="15264" y="12332"/>
                  <a:pt x="15354" y="12427"/>
                </a:cubicBezTo>
                <a:cubicBezTo>
                  <a:pt x="15449" y="12527"/>
                  <a:pt x="15550" y="12690"/>
                  <a:pt x="15677" y="12750"/>
                </a:cubicBezTo>
                <a:cubicBezTo>
                  <a:pt x="15791" y="12788"/>
                  <a:pt x="15806" y="12804"/>
                  <a:pt x="15875" y="12799"/>
                </a:cubicBezTo>
              </a:path>
              <a:path w="4441" h="1911">
                <a:moveTo>
                  <a:pt x="16197" y="11609"/>
                </a:moveTo>
                <a:cubicBezTo>
                  <a:pt x="16280" y="11540"/>
                  <a:pt x="16355" y="11463"/>
                  <a:pt x="16470" y="11534"/>
                </a:cubicBezTo>
                <a:cubicBezTo>
                  <a:pt x="16572" y="11597"/>
                  <a:pt x="16630" y="11716"/>
                  <a:pt x="16644" y="11832"/>
                </a:cubicBezTo>
                <a:cubicBezTo>
                  <a:pt x="16663" y="11985"/>
                  <a:pt x="16626" y="12057"/>
                  <a:pt x="16545" y="12179"/>
                </a:cubicBezTo>
                <a:cubicBezTo>
                  <a:pt x="16499" y="12248"/>
                  <a:pt x="16432" y="12354"/>
                  <a:pt x="16346" y="12378"/>
                </a:cubicBezTo>
                <a:cubicBezTo>
                  <a:pt x="16291" y="12393"/>
                  <a:pt x="16200" y="12390"/>
                  <a:pt x="16173" y="12328"/>
                </a:cubicBezTo>
                <a:cubicBezTo>
                  <a:pt x="16173" y="12320"/>
                  <a:pt x="16173" y="12311"/>
                  <a:pt x="16173" y="12303"/>
                </a:cubicBezTo>
                <a:cubicBezTo>
                  <a:pt x="16299" y="12303"/>
                  <a:pt x="16395" y="12357"/>
                  <a:pt x="16495" y="12452"/>
                </a:cubicBezTo>
                <a:cubicBezTo>
                  <a:pt x="16561" y="12514"/>
                  <a:pt x="16623" y="12605"/>
                  <a:pt x="16718" y="12626"/>
                </a:cubicBezTo>
                <a:cubicBezTo>
                  <a:pt x="16735" y="12626"/>
                  <a:pt x="16751" y="12626"/>
                  <a:pt x="16768" y="12626"/>
                </a:cubicBezTo>
              </a:path>
              <a:path w="4441" h="1911">
                <a:moveTo>
                  <a:pt x="17016" y="12427"/>
                </a:moveTo>
                <a:cubicBezTo>
                  <a:pt x="17010" y="12573"/>
                  <a:pt x="16965" y="12752"/>
                  <a:pt x="16991" y="12898"/>
                </a:cubicBezTo>
                <a:cubicBezTo>
                  <a:pt x="17005" y="12978"/>
                  <a:pt x="17016" y="13010"/>
                  <a:pt x="17066" y="12998"/>
                </a:cubicBezTo>
              </a:path>
              <a:path w="4441" h="1911">
                <a:moveTo>
                  <a:pt x="17314" y="12030"/>
                </a:moveTo>
                <a:cubicBezTo>
                  <a:pt x="17464" y="11978"/>
                  <a:pt x="17607" y="11922"/>
                  <a:pt x="17760" y="11881"/>
                </a:cubicBezTo>
              </a:path>
              <a:path w="4441" h="1911">
                <a:moveTo>
                  <a:pt x="18355" y="11708"/>
                </a:moveTo>
                <a:cubicBezTo>
                  <a:pt x="18227" y="11588"/>
                  <a:pt x="18191" y="11570"/>
                  <a:pt x="18033" y="11534"/>
                </a:cubicBezTo>
                <a:cubicBezTo>
                  <a:pt x="17958" y="11517"/>
                  <a:pt x="17843" y="11511"/>
                  <a:pt x="17859" y="11633"/>
                </a:cubicBezTo>
                <a:cubicBezTo>
                  <a:pt x="17877" y="11771"/>
                  <a:pt x="17995" y="11911"/>
                  <a:pt x="18058" y="12030"/>
                </a:cubicBezTo>
                <a:cubicBezTo>
                  <a:pt x="18145" y="12195"/>
                  <a:pt x="18232" y="12345"/>
                  <a:pt x="18281" y="12526"/>
                </a:cubicBezTo>
                <a:cubicBezTo>
                  <a:pt x="18308" y="12626"/>
                  <a:pt x="18329" y="12678"/>
                  <a:pt x="18256" y="12750"/>
                </a:cubicBezTo>
                <a:cubicBezTo>
                  <a:pt x="18248" y="12758"/>
                  <a:pt x="18239" y="12766"/>
                  <a:pt x="18231" y="12774"/>
                </a:cubicBezTo>
                <a:cubicBezTo>
                  <a:pt x="18154" y="12713"/>
                  <a:pt x="18127" y="12692"/>
                  <a:pt x="18083" y="12601"/>
                </a:cubicBezTo>
                <a:cubicBezTo>
                  <a:pt x="18010" y="12451"/>
                  <a:pt x="17986" y="12385"/>
                  <a:pt x="18033" y="12229"/>
                </a:cubicBezTo>
                <a:cubicBezTo>
                  <a:pt x="18066" y="12117"/>
                  <a:pt x="18118" y="12015"/>
                  <a:pt x="18157" y="11906"/>
                </a:cubicBezTo>
                <a:cubicBezTo>
                  <a:pt x="18165" y="11881"/>
                  <a:pt x="18174" y="11857"/>
                  <a:pt x="18182" y="11832"/>
                </a:cubicBezTo>
              </a:path>
              <a:path w="4441" h="1911">
                <a:moveTo>
                  <a:pt x="18306" y="11112"/>
                </a:moveTo>
                <a:cubicBezTo>
                  <a:pt x="18350" y="11179"/>
                  <a:pt x="18397" y="11227"/>
                  <a:pt x="18455" y="11286"/>
                </a:cubicBezTo>
                <a:cubicBezTo>
                  <a:pt x="18576" y="11407"/>
                  <a:pt x="18713" y="11488"/>
                  <a:pt x="18852" y="11584"/>
                </a:cubicBezTo>
                <a:cubicBezTo>
                  <a:pt x="19027" y="11705"/>
                  <a:pt x="19183" y="11856"/>
                  <a:pt x="19372" y="11956"/>
                </a:cubicBezTo>
                <a:cubicBezTo>
                  <a:pt x="19444" y="11994"/>
                  <a:pt x="19426" y="11975"/>
                  <a:pt x="19472" y="11981"/>
                </a:cubicBezTo>
                <a:cubicBezTo>
                  <a:pt x="19355" y="12111"/>
                  <a:pt x="19246" y="12284"/>
                  <a:pt x="19149" y="12427"/>
                </a:cubicBezTo>
                <a:cubicBezTo>
                  <a:pt x="19052" y="12570"/>
                  <a:pt x="18958" y="12735"/>
                  <a:pt x="18901" y="12898"/>
                </a:cubicBezTo>
                <a:cubicBezTo>
                  <a:pt x="18893" y="12931"/>
                  <a:pt x="18884" y="12965"/>
                  <a:pt x="18876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Ink 17"/>
          <p:cNvSpPr/>
          <p:nvPr/>
        </p:nvSpPr>
        <p:spPr>
          <a:xfrm>
            <a:off x="5902200" y="3143160"/>
            <a:ext cx="1839960" cy="687600"/>
          </a:xfrm>
          <a:custGeom>
            <a:avLst/>
            <a:gdLst/>
            <a:ahLst/>
            <a:rect l="l" t="t" r="r" b="b"/>
            <a:pathLst>
              <a:path w="5111" h="1911">
                <a:moveTo>
                  <a:pt x="16446" y="9376"/>
                </a:moveTo>
                <a:cubicBezTo>
                  <a:pt x="16430" y="9402"/>
                  <a:pt x="16377" y="9485"/>
                  <a:pt x="16421" y="9500"/>
                </a:cubicBezTo>
                <a:cubicBezTo>
                  <a:pt x="16472" y="9517"/>
                  <a:pt x="16490" y="9480"/>
                  <a:pt x="16520" y="9451"/>
                </a:cubicBezTo>
                <a:cubicBezTo>
                  <a:pt x="16477" y="9429"/>
                  <a:pt x="16468" y="9428"/>
                  <a:pt x="16495" y="9401"/>
                </a:cubicBezTo>
              </a:path>
              <a:path w="5111" h="1911">
                <a:moveTo>
                  <a:pt x="17661" y="8731"/>
                </a:moveTo>
                <a:cubicBezTo>
                  <a:pt x="17594" y="8865"/>
                  <a:pt x="17547" y="8903"/>
                  <a:pt x="17438" y="9004"/>
                </a:cubicBezTo>
                <a:cubicBezTo>
                  <a:pt x="17347" y="9088"/>
                  <a:pt x="17294" y="9183"/>
                  <a:pt x="17190" y="9252"/>
                </a:cubicBezTo>
                <a:cubicBezTo>
                  <a:pt x="17105" y="9309"/>
                  <a:pt x="17062" y="9394"/>
                  <a:pt x="16991" y="9451"/>
                </a:cubicBezTo>
                <a:cubicBezTo>
                  <a:pt x="16972" y="9466"/>
                  <a:pt x="16941" y="9476"/>
                  <a:pt x="16917" y="9500"/>
                </a:cubicBezTo>
                <a:cubicBezTo>
                  <a:pt x="16966" y="9561"/>
                  <a:pt x="17010" y="9624"/>
                  <a:pt x="17066" y="9674"/>
                </a:cubicBezTo>
                <a:cubicBezTo>
                  <a:pt x="17151" y="9751"/>
                  <a:pt x="17231" y="9811"/>
                  <a:pt x="17314" y="9897"/>
                </a:cubicBezTo>
                <a:cubicBezTo>
                  <a:pt x="17412" y="9999"/>
                  <a:pt x="17583" y="10088"/>
                  <a:pt x="17661" y="10195"/>
                </a:cubicBezTo>
                <a:cubicBezTo>
                  <a:pt x="17724" y="10281"/>
                  <a:pt x="17700" y="10269"/>
                  <a:pt x="17810" y="10269"/>
                </a:cubicBezTo>
                <a:cubicBezTo>
                  <a:pt x="17818" y="10269"/>
                  <a:pt x="17827" y="10269"/>
                  <a:pt x="17835" y="10269"/>
                </a:cubicBezTo>
              </a:path>
              <a:path w="5111" h="1911">
                <a:moveTo>
                  <a:pt x="18281" y="9103"/>
                </a:moveTo>
                <a:cubicBezTo>
                  <a:pt x="18293" y="9327"/>
                  <a:pt x="18281" y="9524"/>
                  <a:pt x="18281" y="9748"/>
                </a:cubicBezTo>
                <a:cubicBezTo>
                  <a:pt x="18281" y="9911"/>
                  <a:pt x="18273" y="10063"/>
                  <a:pt x="18256" y="10220"/>
                </a:cubicBezTo>
                <a:cubicBezTo>
                  <a:pt x="18245" y="10326"/>
                  <a:pt x="18227" y="10388"/>
                  <a:pt x="18256" y="10492"/>
                </a:cubicBezTo>
              </a:path>
              <a:path w="5111" h="1911">
                <a:moveTo>
                  <a:pt x="18752" y="10195"/>
                </a:moveTo>
                <a:cubicBezTo>
                  <a:pt x="18724" y="10304"/>
                  <a:pt x="18682" y="10405"/>
                  <a:pt x="18678" y="10517"/>
                </a:cubicBezTo>
                <a:cubicBezTo>
                  <a:pt x="18676" y="10582"/>
                  <a:pt x="18665" y="10616"/>
                  <a:pt x="18703" y="10641"/>
                </a:cubicBezTo>
              </a:path>
              <a:path w="5111" h="1911">
                <a:moveTo>
                  <a:pt x="18976" y="9748"/>
                </a:moveTo>
                <a:cubicBezTo>
                  <a:pt x="19103" y="9724"/>
                  <a:pt x="19348" y="9723"/>
                  <a:pt x="19472" y="9674"/>
                </a:cubicBezTo>
                <a:cubicBezTo>
                  <a:pt x="19497" y="9657"/>
                  <a:pt x="19521" y="9641"/>
                  <a:pt x="19546" y="9624"/>
                </a:cubicBezTo>
              </a:path>
              <a:path w="5111" h="1911">
                <a:moveTo>
                  <a:pt x="19968" y="9376"/>
                </a:moveTo>
                <a:cubicBezTo>
                  <a:pt x="19932" y="9421"/>
                  <a:pt x="19891" y="9471"/>
                  <a:pt x="19869" y="9525"/>
                </a:cubicBezTo>
                <a:cubicBezTo>
                  <a:pt x="19844" y="9585"/>
                  <a:pt x="19811" y="9681"/>
                  <a:pt x="19893" y="9699"/>
                </a:cubicBezTo>
                <a:cubicBezTo>
                  <a:pt x="19983" y="9718"/>
                  <a:pt x="20013" y="9748"/>
                  <a:pt x="20117" y="9748"/>
                </a:cubicBezTo>
                <a:cubicBezTo>
                  <a:pt x="20133" y="9748"/>
                  <a:pt x="20150" y="9748"/>
                  <a:pt x="20166" y="9748"/>
                </a:cubicBezTo>
              </a:path>
              <a:path w="5111" h="1911">
                <a:moveTo>
                  <a:pt x="20365" y="9103"/>
                </a:moveTo>
                <a:cubicBezTo>
                  <a:pt x="20293" y="9299"/>
                  <a:pt x="20221" y="9466"/>
                  <a:pt x="20216" y="9674"/>
                </a:cubicBezTo>
                <a:cubicBezTo>
                  <a:pt x="20212" y="9812"/>
                  <a:pt x="20231" y="9938"/>
                  <a:pt x="20241" y="10071"/>
                </a:cubicBezTo>
                <a:cubicBezTo>
                  <a:pt x="20250" y="10188"/>
                  <a:pt x="20258" y="10302"/>
                  <a:pt x="20265" y="10418"/>
                </a:cubicBezTo>
                <a:cubicBezTo>
                  <a:pt x="20265" y="10443"/>
                  <a:pt x="20265" y="10451"/>
                  <a:pt x="20265" y="10418"/>
                </a:cubicBezTo>
              </a:path>
              <a:path w="5111" h="1911">
                <a:moveTo>
                  <a:pt x="20513" y="8855"/>
                </a:moveTo>
                <a:cubicBezTo>
                  <a:pt x="20643" y="8947"/>
                  <a:pt x="20733" y="9054"/>
                  <a:pt x="20861" y="9153"/>
                </a:cubicBezTo>
                <a:cubicBezTo>
                  <a:pt x="20980" y="9244"/>
                  <a:pt x="21081" y="9328"/>
                  <a:pt x="21208" y="9401"/>
                </a:cubicBezTo>
                <a:cubicBezTo>
                  <a:pt x="21286" y="9446"/>
                  <a:pt x="21364" y="9566"/>
                  <a:pt x="21431" y="9599"/>
                </a:cubicBezTo>
                <a:cubicBezTo>
                  <a:pt x="21476" y="9599"/>
                  <a:pt x="21489" y="9596"/>
                  <a:pt x="21506" y="9624"/>
                </a:cubicBezTo>
                <a:cubicBezTo>
                  <a:pt x="21492" y="9672"/>
                  <a:pt x="21409" y="9787"/>
                  <a:pt x="21357" y="9823"/>
                </a:cubicBezTo>
                <a:cubicBezTo>
                  <a:pt x="21248" y="9898"/>
                  <a:pt x="21138" y="9978"/>
                  <a:pt x="21034" y="10071"/>
                </a:cubicBezTo>
                <a:cubicBezTo>
                  <a:pt x="20928" y="10166"/>
                  <a:pt x="20864" y="10300"/>
                  <a:pt x="20786" y="10418"/>
                </a:cubicBezTo>
                <a:cubicBezTo>
                  <a:pt x="20737" y="10492"/>
                  <a:pt x="20720" y="10517"/>
                  <a:pt x="20687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Ink 18"/>
          <p:cNvSpPr/>
          <p:nvPr/>
        </p:nvSpPr>
        <p:spPr>
          <a:xfrm>
            <a:off x="5867280" y="4822920"/>
            <a:ext cx="1160640" cy="436320"/>
          </a:xfrm>
          <a:custGeom>
            <a:avLst/>
            <a:gdLst/>
            <a:ahLst/>
            <a:rect l="l" t="t" r="r" b="b"/>
            <a:pathLst>
              <a:path w="3225" h="1216">
                <a:moveTo>
                  <a:pt x="16297" y="13742"/>
                </a:moveTo>
                <a:cubicBezTo>
                  <a:pt x="16306" y="13850"/>
                  <a:pt x="16318" y="13958"/>
                  <a:pt x="16346" y="14064"/>
                </a:cubicBezTo>
                <a:cubicBezTo>
                  <a:pt x="16388" y="14221"/>
                  <a:pt x="16433" y="14385"/>
                  <a:pt x="16495" y="14536"/>
                </a:cubicBezTo>
                <a:cubicBezTo>
                  <a:pt x="16517" y="14579"/>
                  <a:pt x="16521" y="14591"/>
                  <a:pt x="16545" y="14610"/>
                </a:cubicBezTo>
                <a:cubicBezTo>
                  <a:pt x="16545" y="14489"/>
                  <a:pt x="16542" y="14379"/>
                  <a:pt x="16570" y="14263"/>
                </a:cubicBezTo>
                <a:cubicBezTo>
                  <a:pt x="16609" y="14105"/>
                  <a:pt x="16646" y="13947"/>
                  <a:pt x="16694" y="13791"/>
                </a:cubicBezTo>
                <a:cubicBezTo>
                  <a:pt x="16716" y="13724"/>
                  <a:pt x="16720" y="13706"/>
                  <a:pt x="16743" y="13667"/>
                </a:cubicBezTo>
              </a:path>
              <a:path w="3225" h="1216">
                <a:moveTo>
                  <a:pt x="16917" y="13841"/>
                </a:moveTo>
                <a:cubicBezTo>
                  <a:pt x="16997" y="13921"/>
                  <a:pt x="17054" y="14000"/>
                  <a:pt x="17165" y="14015"/>
                </a:cubicBezTo>
                <a:cubicBezTo>
                  <a:pt x="17256" y="14027"/>
                  <a:pt x="17297" y="13978"/>
                  <a:pt x="17314" y="13891"/>
                </a:cubicBezTo>
                <a:cubicBezTo>
                  <a:pt x="17330" y="13812"/>
                  <a:pt x="17261" y="13743"/>
                  <a:pt x="17214" y="13692"/>
                </a:cubicBezTo>
                <a:cubicBezTo>
                  <a:pt x="17145" y="13616"/>
                  <a:pt x="17090" y="13693"/>
                  <a:pt x="17041" y="13742"/>
                </a:cubicBezTo>
                <a:cubicBezTo>
                  <a:pt x="16964" y="13818"/>
                  <a:pt x="16945" y="13882"/>
                  <a:pt x="16942" y="13990"/>
                </a:cubicBezTo>
                <a:cubicBezTo>
                  <a:pt x="16938" y="14111"/>
                  <a:pt x="16979" y="14222"/>
                  <a:pt x="17016" y="14337"/>
                </a:cubicBezTo>
                <a:cubicBezTo>
                  <a:pt x="17048" y="14436"/>
                  <a:pt x="17093" y="14449"/>
                  <a:pt x="17190" y="14461"/>
                </a:cubicBezTo>
              </a:path>
              <a:path w="3225" h="1216">
                <a:moveTo>
                  <a:pt x="17810" y="13866"/>
                </a:moveTo>
                <a:cubicBezTo>
                  <a:pt x="17802" y="13810"/>
                  <a:pt x="17775" y="13759"/>
                  <a:pt x="17711" y="13742"/>
                </a:cubicBezTo>
                <a:cubicBezTo>
                  <a:pt x="17637" y="13722"/>
                  <a:pt x="17559" y="13797"/>
                  <a:pt x="17512" y="13841"/>
                </a:cubicBezTo>
                <a:cubicBezTo>
                  <a:pt x="17436" y="13913"/>
                  <a:pt x="17441" y="14018"/>
                  <a:pt x="17462" y="14114"/>
                </a:cubicBezTo>
                <a:cubicBezTo>
                  <a:pt x="17490" y="14244"/>
                  <a:pt x="17528" y="14349"/>
                  <a:pt x="17636" y="14436"/>
                </a:cubicBezTo>
                <a:cubicBezTo>
                  <a:pt x="17707" y="14472"/>
                  <a:pt x="17747" y="14485"/>
                  <a:pt x="17810" y="14486"/>
                </a:cubicBezTo>
              </a:path>
              <a:path w="3225" h="1216">
                <a:moveTo>
                  <a:pt x="18083" y="13395"/>
                </a:moveTo>
                <a:cubicBezTo>
                  <a:pt x="18083" y="13517"/>
                  <a:pt x="18076" y="13624"/>
                  <a:pt x="18083" y="13742"/>
                </a:cubicBezTo>
                <a:cubicBezTo>
                  <a:pt x="18091" y="13891"/>
                  <a:pt x="18083" y="14041"/>
                  <a:pt x="18107" y="14188"/>
                </a:cubicBezTo>
                <a:cubicBezTo>
                  <a:pt x="18123" y="14284"/>
                  <a:pt x="18132" y="14364"/>
                  <a:pt x="18132" y="14461"/>
                </a:cubicBezTo>
                <a:cubicBezTo>
                  <a:pt x="18132" y="14503"/>
                  <a:pt x="18140" y="14519"/>
                  <a:pt x="18107" y="14511"/>
                </a:cubicBezTo>
              </a:path>
              <a:path w="3225" h="1216">
                <a:moveTo>
                  <a:pt x="18008" y="13717"/>
                </a:moveTo>
                <a:cubicBezTo>
                  <a:pt x="18146" y="13740"/>
                  <a:pt x="18228" y="13765"/>
                  <a:pt x="18355" y="13816"/>
                </a:cubicBezTo>
                <a:cubicBezTo>
                  <a:pt x="18431" y="13846"/>
                  <a:pt x="18502" y="13876"/>
                  <a:pt x="18579" y="13891"/>
                </a:cubicBezTo>
                <a:cubicBezTo>
                  <a:pt x="18569" y="13966"/>
                  <a:pt x="18539" y="14020"/>
                  <a:pt x="18504" y="14089"/>
                </a:cubicBezTo>
                <a:cubicBezTo>
                  <a:pt x="18474" y="14149"/>
                  <a:pt x="18464" y="14243"/>
                  <a:pt x="18479" y="14312"/>
                </a:cubicBezTo>
                <a:cubicBezTo>
                  <a:pt x="18497" y="14394"/>
                  <a:pt x="18538" y="14459"/>
                  <a:pt x="18604" y="14511"/>
                </a:cubicBezTo>
                <a:cubicBezTo>
                  <a:pt x="18620" y="14519"/>
                  <a:pt x="18637" y="14528"/>
                  <a:pt x="18653" y="14536"/>
                </a:cubicBezTo>
                <a:cubicBezTo>
                  <a:pt x="18724" y="14485"/>
                  <a:pt x="18752" y="14442"/>
                  <a:pt x="18777" y="14362"/>
                </a:cubicBezTo>
                <a:cubicBezTo>
                  <a:pt x="18816" y="14235"/>
                  <a:pt x="18771" y="14134"/>
                  <a:pt x="18728" y="14015"/>
                </a:cubicBezTo>
                <a:cubicBezTo>
                  <a:pt x="18694" y="13923"/>
                  <a:pt x="18624" y="13839"/>
                  <a:pt x="18604" y="13742"/>
                </a:cubicBezTo>
                <a:cubicBezTo>
                  <a:pt x="18604" y="13725"/>
                  <a:pt x="18604" y="13709"/>
                  <a:pt x="18604" y="13692"/>
                </a:cubicBezTo>
                <a:cubicBezTo>
                  <a:pt x="18657" y="13696"/>
                  <a:pt x="18727" y="13706"/>
                  <a:pt x="18802" y="13742"/>
                </a:cubicBezTo>
                <a:cubicBezTo>
                  <a:pt x="18912" y="13794"/>
                  <a:pt x="18946" y="13906"/>
                  <a:pt x="18976" y="14015"/>
                </a:cubicBezTo>
                <a:cubicBezTo>
                  <a:pt x="19010" y="14137"/>
                  <a:pt x="19034" y="14285"/>
                  <a:pt x="19050" y="14412"/>
                </a:cubicBezTo>
                <a:cubicBezTo>
                  <a:pt x="19050" y="14478"/>
                  <a:pt x="19050" y="14495"/>
                  <a:pt x="19050" y="14536"/>
                </a:cubicBezTo>
                <a:cubicBezTo>
                  <a:pt x="19050" y="14341"/>
                  <a:pt x="19021" y="14127"/>
                  <a:pt x="19075" y="13940"/>
                </a:cubicBezTo>
                <a:cubicBezTo>
                  <a:pt x="19117" y="13794"/>
                  <a:pt x="19198" y="13741"/>
                  <a:pt x="19348" y="13717"/>
                </a:cubicBezTo>
                <a:cubicBezTo>
                  <a:pt x="19413" y="13707"/>
                  <a:pt x="19462" y="13722"/>
                  <a:pt x="19521" y="137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nk 2"/>
          <p:cNvSpPr/>
          <p:nvPr/>
        </p:nvSpPr>
        <p:spPr>
          <a:xfrm>
            <a:off x="285840" y="1204920"/>
            <a:ext cx="312480" cy="2779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315" y="3572"/>
                </a:moveTo>
                <a:cubicBezTo>
                  <a:pt x="1228" y="3581"/>
                  <a:pt x="1174" y="3585"/>
                  <a:pt x="1191" y="3696"/>
                </a:cubicBezTo>
                <a:cubicBezTo>
                  <a:pt x="1205" y="3785"/>
                  <a:pt x="1276" y="3863"/>
                  <a:pt x="1315" y="3944"/>
                </a:cubicBezTo>
                <a:cubicBezTo>
                  <a:pt x="1348" y="4012"/>
                  <a:pt x="1322" y="4028"/>
                  <a:pt x="1290" y="4093"/>
                </a:cubicBezTo>
                <a:cubicBezTo>
                  <a:pt x="1228" y="4019"/>
                  <a:pt x="1263" y="3974"/>
                  <a:pt x="1339" y="3894"/>
                </a:cubicBezTo>
                <a:cubicBezTo>
                  <a:pt x="1411" y="3819"/>
                  <a:pt x="1483" y="3735"/>
                  <a:pt x="1538" y="3646"/>
                </a:cubicBezTo>
                <a:cubicBezTo>
                  <a:pt x="1592" y="3559"/>
                  <a:pt x="1636" y="3504"/>
                  <a:pt x="1563" y="3423"/>
                </a:cubicBezTo>
                <a:cubicBezTo>
                  <a:pt x="1515" y="3370"/>
                  <a:pt x="1435" y="3338"/>
                  <a:pt x="1364" y="3349"/>
                </a:cubicBezTo>
                <a:cubicBezTo>
                  <a:pt x="1263" y="3364"/>
                  <a:pt x="1114" y="3425"/>
                  <a:pt x="1042" y="3497"/>
                </a:cubicBezTo>
                <a:cubicBezTo>
                  <a:pt x="972" y="3567"/>
                  <a:pt x="815" y="3735"/>
                  <a:pt x="794" y="3845"/>
                </a:cubicBezTo>
                <a:cubicBezTo>
                  <a:pt x="782" y="3908"/>
                  <a:pt x="786" y="4002"/>
                  <a:pt x="843" y="4043"/>
                </a:cubicBezTo>
                <a:cubicBezTo>
                  <a:pt x="900" y="4084"/>
                  <a:pt x="1025" y="4123"/>
                  <a:pt x="1091" y="4118"/>
                </a:cubicBezTo>
                <a:cubicBezTo>
                  <a:pt x="1192" y="4110"/>
                  <a:pt x="1277" y="4065"/>
                  <a:pt x="1364" y="4018"/>
                </a:cubicBezTo>
                <a:cubicBezTo>
                  <a:pt x="1451" y="3971"/>
                  <a:pt x="1540" y="3910"/>
                  <a:pt x="1588" y="3820"/>
                </a:cubicBezTo>
                <a:cubicBezTo>
                  <a:pt x="1619" y="3762"/>
                  <a:pt x="1676" y="3638"/>
                  <a:pt x="1662" y="3572"/>
                </a:cubicBezTo>
                <a:cubicBezTo>
                  <a:pt x="1639" y="3463"/>
                  <a:pt x="1587" y="3411"/>
                  <a:pt x="1488" y="3373"/>
                </a:cubicBezTo>
                <a:cubicBezTo>
                  <a:pt x="1398" y="3339"/>
                  <a:pt x="1261" y="3334"/>
                  <a:pt x="1166" y="3349"/>
                </a:cubicBezTo>
                <a:cubicBezTo>
                  <a:pt x="1081" y="3376"/>
                  <a:pt x="1046" y="3389"/>
                  <a:pt x="992" y="34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Ink 3"/>
          <p:cNvSpPr/>
          <p:nvPr/>
        </p:nvSpPr>
        <p:spPr>
          <a:xfrm>
            <a:off x="820800" y="938160"/>
            <a:ext cx="1036440" cy="507960"/>
          </a:xfrm>
          <a:custGeom>
            <a:avLst/>
            <a:gdLst/>
            <a:ahLst/>
            <a:rect l="l" t="t" r="r" b="b"/>
            <a:pathLst>
              <a:path w="2878" h="1415">
                <a:moveTo>
                  <a:pt x="2778" y="2753"/>
                </a:moveTo>
                <a:cubicBezTo>
                  <a:pt x="2778" y="2737"/>
                  <a:pt x="2778" y="2720"/>
                  <a:pt x="2778" y="2704"/>
                </a:cubicBezTo>
                <a:cubicBezTo>
                  <a:pt x="2719" y="2751"/>
                  <a:pt x="2664" y="2806"/>
                  <a:pt x="2604" y="2853"/>
                </a:cubicBezTo>
                <a:cubicBezTo>
                  <a:pt x="2494" y="2939"/>
                  <a:pt x="2448" y="3031"/>
                  <a:pt x="2381" y="3150"/>
                </a:cubicBezTo>
                <a:cubicBezTo>
                  <a:pt x="2319" y="3260"/>
                  <a:pt x="2295" y="3371"/>
                  <a:pt x="2282" y="3497"/>
                </a:cubicBezTo>
                <a:cubicBezTo>
                  <a:pt x="2272" y="3595"/>
                  <a:pt x="2289" y="3701"/>
                  <a:pt x="2307" y="3795"/>
                </a:cubicBezTo>
                <a:cubicBezTo>
                  <a:pt x="2327" y="3903"/>
                  <a:pt x="2356" y="3945"/>
                  <a:pt x="2431" y="4018"/>
                </a:cubicBezTo>
              </a:path>
              <a:path w="2878" h="1415">
                <a:moveTo>
                  <a:pt x="2927" y="3646"/>
                </a:moveTo>
                <a:cubicBezTo>
                  <a:pt x="2929" y="3690"/>
                  <a:pt x="2900" y="3890"/>
                  <a:pt x="3001" y="3919"/>
                </a:cubicBezTo>
                <a:cubicBezTo>
                  <a:pt x="3074" y="3940"/>
                  <a:pt x="3126" y="3919"/>
                  <a:pt x="3175" y="3870"/>
                </a:cubicBezTo>
                <a:cubicBezTo>
                  <a:pt x="3237" y="3809"/>
                  <a:pt x="3236" y="3759"/>
                  <a:pt x="3274" y="3696"/>
                </a:cubicBezTo>
                <a:cubicBezTo>
                  <a:pt x="3260" y="3751"/>
                  <a:pt x="3251" y="3843"/>
                  <a:pt x="3349" y="3820"/>
                </a:cubicBezTo>
                <a:cubicBezTo>
                  <a:pt x="3400" y="3808"/>
                  <a:pt x="3483" y="3745"/>
                  <a:pt x="3497" y="3696"/>
                </a:cubicBezTo>
                <a:cubicBezTo>
                  <a:pt x="3515" y="3633"/>
                  <a:pt x="3506" y="3502"/>
                  <a:pt x="3473" y="3448"/>
                </a:cubicBezTo>
                <a:cubicBezTo>
                  <a:pt x="3453" y="3416"/>
                  <a:pt x="3429" y="3406"/>
                  <a:pt x="3398" y="3398"/>
                </a:cubicBezTo>
              </a:path>
              <a:path w="2878" h="1415">
                <a:moveTo>
                  <a:pt x="3944" y="3473"/>
                </a:moveTo>
                <a:cubicBezTo>
                  <a:pt x="3944" y="3481"/>
                  <a:pt x="3944" y="3489"/>
                  <a:pt x="3944" y="3497"/>
                </a:cubicBezTo>
              </a:path>
              <a:path w="2878" h="1415">
                <a:moveTo>
                  <a:pt x="4242" y="3522"/>
                </a:moveTo>
                <a:cubicBezTo>
                  <a:pt x="4260" y="3613"/>
                  <a:pt x="4254" y="3714"/>
                  <a:pt x="4341" y="3770"/>
                </a:cubicBezTo>
                <a:cubicBezTo>
                  <a:pt x="4408" y="3813"/>
                  <a:pt x="4475" y="3756"/>
                  <a:pt x="4514" y="3696"/>
                </a:cubicBezTo>
                <a:cubicBezTo>
                  <a:pt x="4550" y="3640"/>
                  <a:pt x="4578" y="3560"/>
                  <a:pt x="4589" y="3497"/>
                </a:cubicBezTo>
                <a:cubicBezTo>
                  <a:pt x="4589" y="3448"/>
                  <a:pt x="4589" y="3431"/>
                  <a:pt x="4589" y="3398"/>
                </a:cubicBezTo>
                <a:cubicBezTo>
                  <a:pt x="4542" y="3503"/>
                  <a:pt x="4547" y="3541"/>
                  <a:pt x="4564" y="3646"/>
                </a:cubicBezTo>
                <a:cubicBezTo>
                  <a:pt x="4574" y="3709"/>
                  <a:pt x="4581" y="3780"/>
                  <a:pt x="4663" y="3795"/>
                </a:cubicBezTo>
                <a:cubicBezTo>
                  <a:pt x="4731" y="3795"/>
                  <a:pt x="4750" y="3798"/>
                  <a:pt x="4787" y="3770"/>
                </a:cubicBezTo>
              </a:path>
              <a:path w="2878" h="1415">
                <a:moveTo>
                  <a:pt x="4911" y="2629"/>
                </a:moveTo>
                <a:cubicBezTo>
                  <a:pt x="4953" y="2619"/>
                  <a:pt x="5030" y="2705"/>
                  <a:pt x="5060" y="2778"/>
                </a:cubicBezTo>
                <a:cubicBezTo>
                  <a:pt x="5119" y="2918"/>
                  <a:pt x="5148" y="3074"/>
                  <a:pt x="5159" y="3225"/>
                </a:cubicBezTo>
                <a:cubicBezTo>
                  <a:pt x="5169" y="3355"/>
                  <a:pt x="5167" y="3495"/>
                  <a:pt x="5135" y="3621"/>
                </a:cubicBezTo>
                <a:cubicBezTo>
                  <a:pt x="5109" y="3721"/>
                  <a:pt x="5079" y="3818"/>
                  <a:pt x="5011" y="3894"/>
                </a:cubicBezTo>
                <a:cubicBezTo>
                  <a:pt x="4983" y="3925"/>
                  <a:pt x="4902" y="4002"/>
                  <a:pt x="4862" y="3994"/>
                </a:cubicBezTo>
                <a:cubicBezTo>
                  <a:pt x="4837" y="3969"/>
                  <a:pt x="4829" y="3961"/>
                  <a:pt x="4812" y="39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Ink 4"/>
          <p:cNvSpPr/>
          <p:nvPr/>
        </p:nvSpPr>
        <p:spPr>
          <a:xfrm>
            <a:off x="2071800" y="1116000"/>
            <a:ext cx="374400" cy="268200"/>
          </a:xfrm>
          <a:custGeom>
            <a:avLst/>
            <a:gdLst/>
            <a:ahLst/>
            <a:rect l="l" t="t" r="r" b="b"/>
            <a:pathLst>
              <a:path w="1042" h="745">
                <a:moveTo>
                  <a:pt x="5755" y="3324"/>
                </a:moveTo>
                <a:cubicBezTo>
                  <a:pt x="5763" y="3324"/>
                  <a:pt x="5771" y="3324"/>
                  <a:pt x="5779" y="3324"/>
                </a:cubicBezTo>
              </a:path>
              <a:path w="1042" h="745">
                <a:moveTo>
                  <a:pt x="6201" y="3547"/>
                </a:moveTo>
                <a:cubicBezTo>
                  <a:pt x="6250" y="3660"/>
                  <a:pt x="6269" y="3739"/>
                  <a:pt x="6350" y="3820"/>
                </a:cubicBezTo>
                <a:cubicBezTo>
                  <a:pt x="6358" y="3828"/>
                  <a:pt x="6367" y="3837"/>
                  <a:pt x="6375" y="3845"/>
                </a:cubicBezTo>
                <a:cubicBezTo>
                  <a:pt x="6418" y="3780"/>
                  <a:pt x="6418" y="3716"/>
                  <a:pt x="6449" y="3646"/>
                </a:cubicBezTo>
                <a:cubicBezTo>
                  <a:pt x="6484" y="3569"/>
                  <a:pt x="6528" y="3494"/>
                  <a:pt x="6573" y="3423"/>
                </a:cubicBezTo>
                <a:cubicBezTo>
                  <a:pt x="6623" y="3343"/>
                  <a:pt x="6697" y="3279"/>
                  <a:pt x="6747" y="3200"/>
                </a:cubicBezTo>
                <a:cubicBezTo>
                  <a:pt x="6769" y="3165"/>
                  <a:pt x="6787" y="3136"/>
                  <a:pt x="6796" y="3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Ink 5"/>
          <p:cNvSpPr/>
          <p:nvPr/>
        </p:nvSpPr>
        <p:spPr>
          <a:xfrm>
            <a:off x="5330880" y="1017720"/>
            <a:ext cx="420480" cy="428400"/>
          </a:xfrm>
          <a:custGeom>
            <a:avLst/>
            <a:gdLst/>
            <a:ahLst/>
            <a:rect l="l" t="t" r="r" b="b"/>
            <a:pathLst>
              <a:path w="1167" h="1191">
                <a:moveTo>
                  <a:pt x="15726" y="3125"/>
                </a:moveTo>
                <a:cubicBezTo>
                  <a:pt x="15612" y="3052"/>
                  <a:pt x="15583" y="3026"/>
                  <a:pt x="15453" y="3076"/>
                </a:cubicBezTo>
                <a:cubicBezTo>
                  <a:pt x="15375" y="3106"/>
                  <a:pt x="15261" y="3188"/>
                  <a:pt x="15205" y="3249"/>
                </a:cubicBezTo>
                <a:cubicBezTo>
                  <a:pt x="15142" y="3319"/>
                  <a:pt x="15089" y="3437"/>
                  <a:pt x="15081" y="3522"/>
                </a:cubicBezTo>
                <a:cubicBezTo>
                  <a:pt x="15077" y="3562"/>
                  <a:pt x="15110" y="3633"/>
                  <a:pt x="15156" y="3646"/>
                </a:cubicBezTo>
                <a:cubicBezTo>
                  <a:pt x="15222" y="3665"/>
                  <a:pt x="15308" y="3615"/>
                  <a:pt x="15354" y="3572"/>
                </a:cubicBezTo>
                <a:cubicBezTo>
                  <a:pt x="15427" y="3504"/>
                  <a:pt x="15477" y="3430"/>
                  <a:pt x="15528" y="3349"/>
                </a:cubicBezTo>
                <a:cubicBezTo>
                  <a:pt x="15572" y="3280"/>
                  <a:pt x="15577" y="3228"/>
                  <a:pt x="15577" y="3150"/>
                </a:cubicBezTo>
                <a:cubicBezTo>
                  <a:pt x="15577" y="3299"/>
                  <a:pt x="15543" y="3485"/>
                  <a:pt x="15553" y="3621"/>
                </a:cubicBezTo>
                <a:cubicBezTo>
                  <a:pt x="15559" y="3702"/>
                  <a:pt x="15590" y="3765"/>
                  <a:pt x="15553" y="3845"/>
                </a:cubicBezTo>
                <a:cubicBezTo>
                  <a:pt x="15513" y="3885"/>
                  <a:pt x="15504" y="3872"/>
                  <a:pt x="15528" y="3770"/>
                </a:cubicBezTo>
              </a:path>
              <a:path w="1167" h="1191">
                <a:moveTo>
                  <a:pt x="15379" y="2828"/>
                </a:moveTo>
                <a:cubicBezTo>
                  <a:pt x="15195" y="2840"/>
                  <a:pt x="15106" y="2892"/>
                  <a:pt x="14982" y="3051"/>
                </a:cubicBezTo>
                <a:cubicBezTo>
                  <a:pt x="14909" y="3145"/>
                  <a:pt x="14823" y="3329"/>
                  <a:pt x="14808" y="3448"/>
                </a:cubicBezTo>
                <a:cubicBezTo>
                  <a:pt x="14793" y="3574"/>
                  <a:pt x="14822" y="3716"/>
                  <a:pt x="14883" y="3820"/>
                </a:cubicBezTo>
                <a:cubicBezTo>
                  <a:pt x="14948" y="3930"/>
                  <a:pt x="15011" y="3961"/>
                  <a:pt x="15131" y="3994"/>
                </a:cubicBezTo>
                <a:cubicBezTo>
                  <a:pt x="15261" y="4030"/>
                  <a:pt x="15378" y="4019"/>
                  <a:pt x="15503" y="3969"/>
                </a:cubicBezTo>
                <a:cubicBezTo>
                  <a:pt x="15634" y="3916"/>
                  <a:pt x="15800" y="3817"/>
                  <a:pt x="15875" y="3696"/>
                </a:cubicBezTo>
                <a:cubicBezTo>
                  <a:pt x="15941" y="3590"/>
                  <a:pt x="15970" y="3472"/>
                  <a:pt x="15974" y="3349"/>
                </a:cubicBezTo>
                <a:cubicBezTo>
                  <a:pt x="15977" y="3236"/>
                  <a:pt x="15920" y="3117"/>
                  <a:pt x="15850" y="3026"/>
                </a:cubicBezTo>
                <a:cubicBezTo>
                  <a:pt x="15804" y="2967"/>
                  <a:pt x="15710" y="2859"/>
                  <a:pt x="15627" y="2877"/>
                </a:cubicBezTo>
                <a:cubicBezTo>
                  <a:pt x="15599" y="2905"/>
                  <a:pt x="15590" y="2919"/>
                  <a:pt x="15602" y="29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Ink 6"/>
          <p:cNvSpPr/>
          <p:nvPr/>
        </p:nvSpPr>
        <p:spPr>
          <a:xfrm>
            <a:off x="6037200" y="1224000"/>
            <a:ext cx="214200" cy="17784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16768" y="3398"/>
                </a:moveTo>
                <a:cubicBezTo>
                  <a:pt x="16806" y="3461"/>
                  <a:pt x="16815" y="3542"/>
                  <a:pt x="16818" y="3621"/>
                </a:cubicBezTo>
                <a:cubicBezTo>
                  <a:pt x="16821" y="3694"/>
                  <a:pt x="16823" y="3790"/>
                  <a:pt x="16867" y="3845"/>
                </a:cubicBezTo>
                <a:cubicBezTo>
                  <a:pt x="16914" y="3904"/>
                  <a:pt x="16980" y="3907"/>
                  <a:pt x="17041" y="3870"/>
                </a:cubicBezTo>
                <a:cubicBezTo>
                  <a:pt x="17100" y="3834"/>
                  <a:pt x="17141" y="3758"/>
                  <a:pt x="17165" y="3696"/>
                </a:cubicBezTo>
                <a:cubicBezTo>
                  <a:pt x="17182" y="3652"/>
                  <a:pt x="17218" y="3517"/>
                  <a:pt x="17214" y="3473"/>
                </a:cubicBezTo>
                <a:cubicBezTo>
                  <a:pt x="17206" y="3448"/>
                  <a:pt x="17198" y="3423"/>
                  <a:pt x="17190" y="3398"/>
                </a:cubicBezTo>
                <a:cubicBezTo>
                  <a:pt x="17196" y="3467"/>
                  <a:pt x="17191" y="3582"/>
                  <a:pt x="17214" y="3646"/>
                </a:cubicBezTo>
                <a:cubicBezTo>
                  <a:pt x="17235" y="3703"/>
                  <a:pt x="17316" y="3739"/>
                  <a:pt x="17363" y="37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Ink 7"/>
          <p:cNvSpPr/>
          <p:nvPr/>
        </p:nvSpPr>
        <p:spPr>
          <a:xfrm>
            <a:off x="6473880" y="1035000"/>
            <a:ext cx="581040" cy="349200"/>
          </a:xfrm>
          <a:custGeom>
            <a:avLst/>
            <a:gdLst/>
            <a:ahLst/>
            <a:rect l="l" t="t" r="r" b="b"/>
            <a:pathLst>
              <a:path w="1614" h="969">
                <a:moveTo>
                  <a:pt x="18008" y="3398"/>
                </a:moveTo>
                <a:cubicBezTo>
                  <a:pt x="17986" y="3463"/>
                  <a:pt x="17978" y="3478"/>
                  <a:pt x="17983" y="3522"/>
                </a:cubicBezTo>
                <a:cubicBezTo>
                  <a:pt x="18018" y="3487"/>
                  <a:pt x="18033" y="3411"/>
                  <a:pt x="18033" y="3448"/>
                </a:cubicBezTo>
              </a:path>
              <a:path w="1614" h="969">
                <a:moveTo>
                  <a:pt x="18380" y="2977"/>
                </a:moveTo>
                <a:cubicBezTo>
                  <a:pt x="18481" y="2923"/>
                  <a:pt x="18543" y="2883"/>
                  <a:pt x="18653" y="2877"/>
                </a:cubicBezTo>
                <a:cubicBezTo>
                  <a:pt x="18704" y="2874"/>
                  <a:pt x="18807" y="2857"/>
                  <a:pt x="18827" y="2927"/>
                </a:cubicBezTo>
                <a:cubicBezTo>
                  <a:pt x="18849" y="3003"/>
                  <a:pt x="18801" y="3082"/>
                  <a:pt x="18777" y="3150"/>
                </a:cubicBezTo>
                <a:cubicBezTo>
                  <a:pt x="18741" y="3255"/>
                  <a:pt x="18675" y="3362"/>
                  <a:pt x="18604" y="3448"/>
                </a:cubicBezTo>
                <a:cubicBezTo>
                  <a:pt x="18546" y="3518"/>
                  <a:pt x="18437" y="3617"/>
                  <a:pt x="18455" y="3721"/>
                </a:cubicBezTo>
                <a:cubicBezTo>
                  <a:pt x="18471" y="3814"/>
                  <a:pt x="18521" y="3831"/>
                  <a:pt x="18604" y="3845"/>
                </a:cubicBezTo>
                <a:cubicBezTo>
                  <a:pt x="18687" y="3859"/>
                  <a:pt x="18791" y="3795"/>
                  <a:pt x="18852" y="3746"/>
                </a:cubicBezTo>
                <a:cubicBezTo>
                  <a:pt x="18868" y="3729"/>
                  <a:pt x="18885" y="3713"/>
                  <a:pt x="18901" y="3696"/>
                </a:cubicBezTo>
              </a:path>
              <a:path w="1614" h="969">
                <a:moveTo>
                  <a:pt x="19149" y="3324"/>
                </a:moveTo>
                <a:cubicBezTo>
                  <a:pt x="19170" y="3406"/>
                  <a:pt x="19173" y="3495"/>
                  <a:pt x="19199" y="3572"/>
                </a:cubicBezTo>
                <a:cubicBezTo>
                  <a:pt x="19219" y="3632"/>
                  <a:pt x="19254" y="3677"/>
                  <a:pt x="19298" y="3721"/>
                </a:cubicBezTo>
                <a:cubicBezTo>
                  <a:pt x="19326" y="3749"/>
                  <a:pt x="19339" y="3758"/>
                  <a:pt x="19372" y="3746"/>
                </a:cubicBezTo>
                <a:cubicBezTo>
                  <a:pt x="19382" y="3676"/>
                  <a:pt x="19435" y="3619"/>
                  <a:pt x="19447" y="3547"/>
                </a:cubicBezTo>
                <a:cubicBezTo>
                  <a:pt x="19463" y="3455"/>
                  <a:pt x="19460" y="3361"/>
                  <a:pt x="19496" y="3274"/>
                </a:cubicBezTo>
                <a:cubicBezTo>
                  <a:pt x="19522" y="3212"/>
                  <a:pt x="19555" y="3152"/>
                  <a:pt x="19596" y="3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Ink 8"/>
          <p:cNvSpPr/>
          <p:nvPr/>
        </p:nvSpPr>
        <p:spPr>
          <a:xfrm>
            <a:off x="347760" y="1401840"/>
            <a:ext cx="3170160" cy="911160"/>
          </a:xfrm>
          <a:custGeom>
            <a:avLst/>
            <a:gdLst/>
            <a:ahLst/>
            <a:rect l="l" t="t" r="r" b="b"/>
            <a:pathLst>
              <a:path w="8807" h="2531">
                <a:moveTo>
                  <a:pt x="1811" y="4936"/>
                </a:moveTo>
                <a:cubicBezTo>
                  <a:pt x="1765" y="4994"/>
                  <a:pt x="1739" y="5055"/>
                  <a:pt x="1687" y="5110"/>
                </a:cubicBezTo>
                <a:cubicBezTo>
                  <a:pt x="1607" y="5195"/>
                  <a:pt x="1522" y="5276"/>
                  <a:pt x="1439" y="5358"/>
                </a:cubicBezTo>
                <a:cubicBezTo>
                  <a:pt x="1381" y="5416"/>
                  <a:pt x="1325" y="5458"/>
                  <a:pt x="1265" y="5507"/>
                </a:cubicBezTo>
                <a:cubicBezTo>
                  <a:pt x="1189" y="5569"/>
                  <a:pt x="1229" y="5581"/>
                  <a:pt x="1290" y="5631"/>
                </a:cubicBezTo>
                <a:cubicBezTo>
                  <a:pt x="1342" y="5673"/>
                  <a:pt x="1403" y="5700"/>
                  <a:pt x="1463" y="5730"/>
                </a:cubicBezTo>
                <a:cubicBezTo>
                  <a:pt x="1528" y="5763"/>
                  <a:pt x="1576" y="5817"/>
                  <a:pt x="1637" y="5854"/>
                </a:cubicBezTo>
                <a:cubicBezTo>
                  <a:pt x="1689" y="5886"/>
                  <a:pt x="1738" y="5915"/>
                  <a:pt x="1786" y="5953"/>
                </a:cubicBezTo>
              </a:path>
              <a:path w="8807" h="2531">
                <a:moveTo>
                  <a:pt x="2356" y="5011"/>
                </a:moveTo>
                <a:cubicBezTo>
                  <a:pt x="2367" y="5113"/>
                  <a:pt x="2381" y="5202"/>
                  <a:pt x="2381" y="5308"/>
                </a:cubicBezTo>
                <a:cubicBezTo>
                  <a:pt x="2381" y="5513"/>
                  <a:pt x="2368" y="5740"/>
                  <a:pt x="2406" y="5928"/>
                </a:cubicBezTo>
                <a:cubicBezTo>
                  <a:pt x="2406" y="5945"/>
                  <a:pt x="2406" y="5961"/>
                  <a:pt x="2406" y="5978"/>
                </a:cubicBezTo>
              </a:path>
              <a:path w="8807" h="2531">
                <a:moveTo>
                  <a:pt x="2753" y="6003"/>
                </a:moveTo>
                <a:cubicBezTo>
                  <a:pt x="2732" y="6111"/>
                  <a:pt x="2729" y="6137"/>
                  <a:pt x="2704" y="6201"/>
                </a:cubicBezTo>
              </a:path>
              <a:path w="8807" h="2531">
                <a:moveTo>
                  <a:pt x="3125" y="5482"/>
                </a:moveTo>
                <a:cubicBezTo>
                  <a:pt x="3224" y="5461"/>
                  <a:pt x="3306" y="5448"/>
                  <a:pt x="3398" y="5407"/>
                </a:cubicBezTo>
              </a:path>
              <a:path w="8807" h="2531">
                <a:moveTo>
                  <a:pt x="3746" y="5234"/>
                </a:moveTo>
                <a:cubicBezTo>
                  <a:pt x="3728" y="5301"/>
                  <a:pt x="3678" y="5403"/>
                  <a:pt x="3770" y="5432"/>
                </a:cubicBezTo>
                <a:cubicBezTo>
                  <a:pt x="3839" y="5454"/>
                  <a:pt x="3920" y="5397"/>
                  <a:pt x="3969" y="5358"/>
                </a:cubicBezTo>
              </a:path>
              <a:path w="8807" h="2531">
                <a:moveTo>
                  <a:pt x="4118" y="4961"/>
                </a:moveTo>
                <a:cubicBezTo>
                  <a:pt x="4074" y="5049"/>
                  <a:pt x="4064" y="5116"/>
                  <a:pt x="4043" y="5209"/>
                </a:cubicBezTo>
                <a:cubicBezTo>
                  <a:pt x="4017" y="5326"/>
                  <a:pt x="4018" y="5434"/>
                  <a:pt x="4018" y="5556"/>
                </a:cubicBezTo>
                <a:cubicBezTo>
                  <a:pt x="4018" y="5644"/>
                  <a:pt x="3998" y="5718"/>
                  <a:pt x="3994" y="5804"/>
                </a:cubicBezTo>
                <a:cubicBezTo>
                  <a:pt x="3994" y="5846"/>
                  <a:pt x="3994" y="5854"/>
                  <a:pt x="3994" y="5879"/>
                </a:cubicBezTo>
              </a:path>
              <a:path w="8807" h="2531">
                <a:moveTo>
                  <a:pt x="4539" y="4812"/>
                </a:moveTo>
                <a:cubicBezTo>
                  <a:pt x="4589" y="4890"/>
                  <a:pt x="4644" y="4998"/>
                  <a:pt x="4713" y="5060"/>
                </a:cubicBezTo>
                <a:cubicBezTo>
                  <a:pt x="4778" y="5119"/>
                  <a:pt x="4881" y="5178"/>
                  <a:pt x="4961" y="5209"/>
                </a:cubicBezTo>
                <a:cubicBezTo>
                  <a:pt x="5003" y="5225"/>
                  <a:pt x="5141" y="5255"/>
                  <a:pt x="5159" y="5308"/>
                </a:cubicBezTo>
                <a:cubicBezTo>
                  <a:pt x="5184" y="5379"/>
                  <a:pt x="5054" y="5464"/>
                  <a:pt x="5011" y="5507"/>
                </a:cubicBezTo>
                <a:cubicBezTo>
                  <a:pt x="4912" y="5606"/>
                  <a:pt x="4818" y="5715"/>
                  <a:pt x="4738" y="5829"/>
                </a:cubicBezTo>
                <a:cubicBezTo>
                  <a:pt x="4714" y="5863"/>
                  <a:pt x="4608" y="5979"/>
                  <a:pt x="4614" y="6028"/>
                </a:cubicBezTo>
                <a:cubicBezTo>
                  <a:pt x="4622" y="6028"/>
                  <a:pt x="4630" y="6028"/>
                  <a:pt x="4638" y="6028"/>
                </a:cubicBezTo>
              </a:path>
              <a:path w="8807" h="2531">
                <a:moveTo>
                  <a:pt x="6573" y="4688"/>
                </a:moveTo>
                <a:cubicBezTo>
                  <a:pt x="6513" y="4784"/>
                  <a:pt x="6424" y="4831"/>
                  <a:pt x="6350" y="4911"/>
                </a:cubicBezTo>
                <a:cubicBezTo>
                  <a:pt x="6260" y="5009"/>
                  <a:pt x="6155" y="5103"/>
                  <a:pt x="6077" y="5209"/>
                </a:cubicBezTo>
                <a:cubicBezTo>
                  <a:pt x="6026" y="5278"/>
                  <a:pt x="5950" y="5337"/>
                  <a:pt x="5904" y="5407"/>
                </a:cubicBezTo>
                <a:cubicBezTo>
                  <a:pt x="5866" y="5464"/>
                  <a:pt x="5833" y="5498"/>
                  <a:pt x="5879" y="5556"/>
                </a:cubicBezTo>
                <a:cubicBezTo>
                  <a:pt x="5936" y="5627"/>
                  <a:pt x="6020" y="5661"/>
                  <a:pt x="6077" y="5730"/>
                </a:cubicBezTo>
                <a:cubicBezTo>
                  <a:pt x="6152" y="5820"/>
                  <a:pt x="6240" y="5872"/>
                  <a:pt x="6325" y="5953"/>
                </a:cubicBezTo>
                <a:cubicBezTo>
                  <a:pt x="6401" y="6025"/>
                  <a:pt x="6445" y="6043"/>
                  <a:pt x="6548" y="6052"/>
                </a:cubicBezTo>
              </a:path>
              <a:path w="8807" h="2531">
                <a:moveTo>
                  <a:pt x="6871" y="5135"/>
                </a:moveTo>
                <a:cubicBezTo>
                  <a:pt x="6977" y="5081"/>
                  <a:pt x="7033" y="5025"/>
                  <a:pt x="7094" y="5159"/>
                </a:cubicBezTo>
                <a:cubicBezTo>
                  <a:pt x="7150" y="5283"/>
                  <a:pt x="7129" y="5333"/>
                  <a:pt x="7094" y="5457"/>
                </a:cubicBezTo>
                <a:cubicBezTo>
                  <a:pt x="7053" y="5601"/>
                  <a:pt x="6997" y="5719"/>
                  <a:pt x="6896" y="5829"/>
                </a:cubicBezTo>
                <a:cubicBezTo>
                  <a:pt x="6866" y="5862"/>
                  <a:pt x="6794" y="5920"/>
                  <a:pt x="6747" y="5904"/>
                </a:cubicBezTo>
                <a:cubicBezTo>
                  <a:pt x="6689" y="5885"/>
                  <a:pt x="6685" y="5850"/>
                  <a:pt x="6672" y="5804"/>
                </a:cubicBezTo>
                <a:cubicBezTo>
                  <a:pt x="6734" y="5743"/>
                  <a:pt x="6744" y="5765"/>
                  <a:pt x="6821" y="5804"/>
                </a:cubicBezTo>
                <a:cubicBezTo>
                  <a:pt x="6918" y="5853"/>
                  <a:pt x="7013" y="5915"/>
                  <a:pt x="7119" y="5928"/>
                </a:cubicBezTo>
              </a:path>
              <a:path w="8807" h="2531">
                <a:moveTo>
                  <a:pt x="7491" y="5978"/>
                </a:moveTo>
                <a:cubicBezTo>
                  <a:pt x="7491" y="6052"/>
                  <a:pt x="7491" y="6077"/>
                  <a:pt x="7491" y="6127"/>
                </a:cubicBezTo>
              </a:path>
              <a:path w="8807" h="2531">
                <a:moveTo>
                  <a:pt x="7789" y="5184"/>
                </a:moveTo>
                <a:cubicBezTo>
                  <a:pt x="7843" y="5117"/>
                  <a:pt x="7931" y="4945"/>
                  <a:pt x="8062" y="4986"/>
                </a:cubicBezTo>
                <a:cubicBezTo>
                  <a:pt x="8123" y="5005"/>
                  <a:pt x="8158" y="5051"/>
                  <a:pt x="8161" y="5110"/>
                </a:cubicBezTo>
                <a:cubicBezTo>
                  <a:pt x="8166" y="5213"/>
                  <a:pt x="8144" y="5286"/>
                  <a:pt x="8111" y="5383"/>
                </a:cubicBezTo>
                <a:cubicBezTo>
                  <a:pt x="8083" y="5467"/>
                  <a:pt x="8027" y="5526"/>
                  <a:pt x="7987" y="5606"/>
                </a:cubicBezTo>
                <a:cubicBezTo>
                  <a:pt x="7951" y="5678"/>
                  <a:pt x="7899" y="5723"/>
                  <a:pt x="7888" y="5804"/>
                </a:cubicBezTo>
                <a:cubicBezTo>
                  <a:pt x="7874" y="5913"/>
                  <a:pt x="7914" y="5902"/>
                  <a:pt x="7987" y="5928"/>
                </a:cubicBezTo>
                <a:cubicBezTo>
                  <a:pt x="8075" y="5959"/>
                  <a:pt x="8189" y="5970"/>
                  <a:pt x="8285" y="5953"/>
                </a:cubicBezTo>
                <a:cubicBezTo>
                  <a:pt x="8359" y="5928"/>
                  <a:pt x="8384" y="5920"/>
                  <a:pt x="8434" y="5904"/>
                </a:cubicBezTo>
              </a:path>
              <a:path w="8807" h="2531">
                <a:moveTo>
                  <a:pt x="8607" y="4713"/>
                </a:moveTo>
                <a:cubicBezTo>
                  <a:pt x="8664" y="4777"/>
                  <a:pt x="8708" y="4839"/>
                  <a:pt x="8781" y="4887"/>
                </a:cubicBezTo>
                <a:cubicBezTo>
                  <a:pt x="8868" y="4945"/>
                  <a:pt x="8965" y="4985"/>
                  <a:pt x="9054" y="5035"/>
                </a:cubicBezTo>
                <a:cubicBezTo>
                  <a:pt x="9133" y="5079"/>
                  <a:pt x="9227" y="5111"/>
                  <a:pt x="9302" y="5159"/>
                </a:cubicBezTo>
                <a:cubicBezTo>
                  <a:pt x="9352" y="5191"/>
                  <a:pt x="9398" y="5229"/>
                  <a:pt x="9451" y="5259"/>
                </a:cubicBezTo>
                <a:cubicBezTo>
                  <a:pt x="9441" y="5329"/>
                  <a:pt x="9401" y="5398"/>
                  <a:pt x="9351" y="5457"/>
                </a:cubicBezTo>
                <a:cubicBezTo>
                  <a:pt x="9233" y="5596"/>
                  <a:pt x="9120" y="5742"/>
                  <a:pt x="9004" y="5879"/>
                </a:cubicBezTo>
                <a:cubicBezTo>
                  <a:pt x="8916" y="5982"/>
                  <a:pt x="8835" y="6045"/>
                  <a:pt x="8806" y="6176"/>
                </a:cubicBezTo>
              </a:path>
              <a:path w="8807" h="2531">
                <a:moveTo>
                  <a:pt x="5581" y="5407"/>
                </a:moveTo>
                <a:cubicBezTo>
                  <a:pt x="5559" y="5466"/>
                  <a:pt x="5556" y="5492"/>
                  <a:pt x="5556" y="5556"/>
                </a:cubicBezTo>
                <a:cubicBezTo>
                  <a:pt x="5616" y="5548"/>
                  <a:pt x="5668" y="5539"/>
                  <a:pt x="5705" y="5482"/>
                </a:cubicBezTo>
                <a:cubicBezTo>
                  <a:pt x="5744" y="5421"/>
                  <a:pt x="5733" y="5388"/>
                  <a:pt x="5705" y="5333"/>
                </a:cubicBezTo>
                <a:cubicBezTo>
                  <a:pt x="5640" y="5390"/>
                  <a:pt x="5579" y="5434"/>
                  <a:pt x="5531" y="5507"/>
                </a:cubicBezTo>
                <a:cubicBezTo>
                  <a:pt x="5508" y="5555"/>
                  <a:pt x="5500" y="5569"/>
                  <a:pt x="5507" y="5606"/>
                </a:cubicBezTo>
              </a:path>
              <a:path w="8807" h="2531">
                <a:moveTo>
                  <a:pt x="1414" y="4465"/>
                </a:moveTo>
                <a:cubicBezTo>
                  <a:pt x="1327" y="4541"/>
                  <a:pt x="1301" y="4634"/>
                  <a:pt x="1240" y="4738"/>
                </a:cubicBezTo>
                <a:cubicBezTo>
                  <a:pt x="1172" y="4854"/>
                  <a:pt x="1110" y="4956"/>
                  <a:pt x="1067" y="5085"/>
                </a:cubicBezTo>
                <a:cubicBezTo>
                  <a:pt x="1018" y="5233"/>
                  <a:pt x="1013" y="5381"/>
                  <a:pt x="992" y="5531"/>
                </a:cubicBezTo>
                <a:cubicBezTo>
                  <a:pt x="973" y="5670"/>
                  <a:pt x="978" y="5792"/>
                  <a:pt x="1017" y="5928"/>
                </a:cubicBezTo>
                <a:cubicBezTo>
                  <a:pt x="1051" y="6048"/>
                  <a:pt x="1130" y="6138"/>
                  <a:pt x="1215" y="6226"/>
                </a:cubicBezTo>
                <a:cubicBezTo>
                  <a:pt x="1240" y="6251"/>
                  <a:pt x="1265" y="6275"/>
                  <a:pt x="1290" y="6300"/>
                </a:cubicBezTo>
              </a:path>
              <a:path w="8807" h="2531">
                <a:moveTo>
                  <a:pt x="9128" y="3919"/>
                </a:moveTo>
                <a:cubicBezTo>
                  <a:pt x="9279" y="3891"/>
                  <a:pt x="9245" y="3936"/>
                  <a:pt x="9327" y="4043"/>
                </a:cubicBezTo>
                <a:cubicBezTo>
                  <a:pt x="9461" y="4219"/>
                  <a:pt x="9574" y="4400"/>
                  <a:pt x="9649" y="4614"/>
                </a:cubicBezTo>
                <a:cubicBezTo>
                  <a:pt x="9722" y="4822"/>
                  <a:pt x="9768" y="5014"/>
                  <a:pt x="9773" y="5234"/>
                </a:cubicBezTo>
                <a:cubicBezTo>
                  <a:pt x="9777" y="5407"/>
                  <a:pt x="9700" y="5613"/>
                  <a:pt x="9649" y="5779"/>
                </a:cubicBezTo>
                <a:cubicBezTo>
                  <a:pt x="9609" y="5909"/>
                  <a:pt x="9538" y="6057"/>
                  <a:pt x="9475" y="6176"/>
                </a:cubicBezTo>
                <a:cubicBezTo>
                  <a:pt x="9445" y="6232"/>
                  <a:pt x="9393" y="6316"/>
                  <a:pt x="9376" y="6375"/>
                </a:cubicBezTo>
                <a:cubicBezTo>
                  <a:pt x="9376" y="6419"/>
                  <a:pt x="9373" y="6439"/>
                  <a:pt x="9401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Ink 9"/>
          <p:cNvSpPr/>
          <p:nvPr/>
        </p:nvSpPr>
        <p:spPr>
          <a:xfrm>
            <a:off x="3973680" y="1554120"/>
            <a:ext cx="1401480" cy="660600"/>
          </a:xfrm>
          <a:custGeom>
            <a:avLst/>
            <a:gdLst/>
            <a:ahLst/>
            <a:rect l="l" t="t" r="r" b="b"/>
            <a:pathLst>
              <a:path w="3895" h="1837">
                <a:moveTo>
                  <a:pt x="11683" y="4316"/>
                </a:moveTo>
                <a:cubicBezTo>
                  <a:pt x="11695" y="4381"/>
                  <a:pt x="11709" y="4459"/>
                  <a:pt x="11683" y="4539"/>
                </a:cubicBezTo>
                <a:cubicBezTo>
                  <a:pt x="11640" y="4672"/>
                  <a:pt x="11541" y="4805"/>
                  <a:pt x="11460" y="4911"/>
                </a:cubicBezTo>
                <a:cubicBezTo>
                  <a:pt x="11374" y="5024"/>
                  <a:pt x="11309" y="5139"/>
                  <a:pt x="11237" y="5259"/>
                </a:cubicBezTo>
                <a:cubicBezTo>
                  <a:pt x="11190" y="5338"/>
                  <a:pt x="11132" y="5404"/>
                  <a:pt x="11088" y="5482"/>
                </a:cubicBezTo>
                <a:cubicBezTo>
                  <a:pt x="11059" y="5534"/>
                  <a:pt x="11010" y="5617"/>
                  <a:pt x="11038" y="5680"/>
                </a:cubicBezTo>
                <a:cubicBezTo>
                  <a:pt x="11073" y="5760"/>
                  <a:pt x="11167" y="5830"/>
                  <a:pt x="11237" y="5879"/>
                </a:cubicBezTo>
                <a:cubicBezTo>
                  <a:pt x="11310" y="5931"/>
                  <a:pt x="11378" y="5964"/>
                  <a:pt x="11460" y="6003"/>
                </a:cubicBezTo>
                <a:cubicBezTo>
                  <a:pt x="11498" y="6021"/>
                  <a:pt x="11593" y="6102"/>
                  <a:pt x="11633" y="6102"/>
                </a:cubicBezTo>
                <a:cubicBezTo>
                  <a:pt x="11641" y="6094"/>
                  <a:pt x="11650" y="6085"/>
                  <a:pt x="11658" y="6077"/>
                </a:cubicBezTo>
              </a:path>
              <a:path w="3895" h="1837">
                <a:moveTo>
                  <a:pt x="11931" y="5383"/>
                </a:moveTo>
                <a:cubicBezTo>
                  <a:pt x="12058" y="5361"/>
                  <a:pt x="12159" y="5341"/>
                  <a:pt x="12278" y="5308"/>
                </a:cubicBezTo>
              </a:path>
              <a:path w="3895" h="1837">
                <a:moveTo>
                  <a:pt x="12452" y="4911"/>
                </a:moveTo>
                <a:cubicBezTo>
                  <a:pt x="12541" y="4847"/>
                  <a:pt x="12608" y="4784"/>
                  <a:pt x="12725" y="4812"/>
                </a:cubicBezTo>
                <a:cubicBezTo>
                  <a:pt x="12797" y="4829"/>
                  <a:pt x="12862" y="4912"/>
                  <a:pt x="12849" y="4986"/>
                </a:cubicBezTo>
                <a:cubicBezTo>
                  <a:pt x="12833" y="5078"/>
                  <a:pt x="12771" y="5153"/>
                  <a:pt x="12700" y="5209"/>
                </a:cubicBezTo>
                <a:cubicBezTo>
                  <a:pt x="12629" y="5265"/>
                  <a:pt x="12547" y="5303"/>
                  <a:pt x="12477" y="5358"/>
                </a:cubicBezTo>
                <a:cubicBezTo>
                  <a:pt x="12469" y="5366"/>
                  <a:pt x="12460" y="5375"/>
                  <a:pt x="12452" y="5383"/>
                </a:cubicBezTo>
                <a:cubicBezTo>
                  <a:pt x="12550" y="5374"/>
                  <a:pt x="12604" y="5352"/>
                  <a:pt x="12700" y="5383"/>
                </a:cubicBezTo>
                <a:cubicBezTo>
                  <a:pt x="12860" y="5436"/>
                  <a:pt x="12902" y="5585"/>
                  <a:pt x="12849" y="5730"/>
                </a:cubicBezTo>
                <a:cubicBezTo>
                  <a:pt x="12813" y="5828"/>
                  <a:pt x="12785" y="5872"/>
                  <a:pt x="12700" y="5928"/>
                </a:cubicBezTo>
                <a:cubicBezTo>
                  <a:pt x="12639" y="5968"/>
                  <a:pt x="12533" y="6039"/>
                  <a:pt x="12452" y="6003"/>
                </a:cubicBezTo>
                <a:cubicBezTo>
                  <a:pt x="12427" y="5986"/>
                  <a:pt x="12403" y="5970"/>
                  <a:pt x="12378" y="5953"/>
                </a:cubicBezTo>
              </a:path>
              <a:path w="3895" h="1837">
                <a:moveTo>
                  <a:pt x="13097" y="5779"/>
                </a:moveTo>
                <a:cubicBezTo>
                  <a:pt x="13076" y="5902"/>
                  <a:pt x="13049" y="6012"/>
                  <a:pt x="13022" y="6127"/>
                </a:cubicBezTo>
                <a:cubicBezTo>
                  <a:pt x="13022" y="6135"/>
                  <a:pt x="13022" y="6144"/>
                  <a:pt x="13022" y="6152"/>
                </a:cubicBezTo>
              </a:path>
              <a:path w="3895" h="1837">
                <a:moveTo>
                  <a:pt x="13469" y="5085"/>
                </a:moveTo>
                <a:cubicBezTo>
                  <a:pt x="13465" y="5102"/>
                  <a:pt x="13368" y="5308"/>
                  <a:pt x="13370" y="5333"/>
                </a:cubicBezTo>
                <a:cubicBezTo>
                  <a:pt x="13376" y="5406"/>
                  <a:pt x="13513" y="5436"/>
                  <a:pt x="13568" y="5432"/>
                </a:cubicBezTo>
                <a:cubicBezTo>
                  <a:pt x="13639" y="5427"/>
                  <a:pt x="13794" y="5366"/>
                  <a:pt x="13841" y="5308"/>
                </a:cubicBezTo>
                <a:cubicBezTo>
                  <a:pt x="13866" y="5267"/>
                  <a:pt x="13890" y="5225"/>
                  <a:pt x="13915" y="5184"/>
                </a:cubicBezTo>
              </a:path>
              <a:path w="3895" h="1837">
                <a:moveTo>
                  <a:pt x="13891" y="4787"/>
                </a:moveTo>
                <a:cubicBezTo>
                  <a:pt x="13852" y="4913"/>
                  <a:pt x="13843" y="5031"/>
                  <a:pt x="13816" y="5159"/>
                </a:cubicBezTo>
                <a:cubicBezTo>
                  <a:pt x="13787" y="5296"/>
                  <a:pt x="13770" y="5465"/>
                  <a:pt x="13791" y="5606"/>
                </a:cubicBezTo>
                <a:cubicBezTo>
                  <a:pt x="13804" y="5694"/>
                  <a:pt x="13859" y="5766"/>
                  <a:pt x="13866" y="5854"/>
                </a:cubicBezTo>
                <a:cubicBezTo>
                  <a:pt x="13866" y="5862"/>
                  <a:pt x="13866" y="5871"/>
                  <a:pt x="13866" y="5879"/>
                </a:cubicBezTo>
              </a:path>
              <a:path w="3895" h="1837">
                <a:moveTo>
                  <a:pt x="14064" y="4564"/>
                </a:moveTo>
                <a:cubicBezTo>
                  <a:pt x="14231" y="4640"/>
                  <a:pt x="14321" y="4704"/>
                  <a:pt x="14461" y="4812"/>
                </a:cubicBezTo>
                <a:cubicBezTo>
                  <a:pt x="14545" y="4877"/>
                  <a:pt x="14636" y="4924"/>
                  <a:pt x="14734" y="4961"/>
                </a:cubicBezTo>
                <a:cubicBezTo>
                  <a:pt x="14806" y="4988"/>
                  <a:pt x="14864" y="5020"/>
                  <a:pt x="14932" y="5035"/>
                </a:cubicBezTo>
                <a:cubicBezTo>
                  <a:pt x="14885" y="5132"/>
                  <a:pt x="14820" y="5192"/>
                  <a:pt x="14759" y="5283"/>
                </a:cubicBezTo>
                <a:cubicBezTo>
                  <a:pt x="14647" y="5450"/>
                  <a:pt x="14513" y="5597"/>
                  <a:pt x="14387" y="5755"/>
                </a:cubicBezTo>
                <a:cubicBezTo>
                  <a:pt x="14293" y="5873"/>
                  <a:pt x="14187" y="5970"/>
                  <a:pt x="14114" y="61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Ink 10"/>
          <p:cNvSpPr/>
          <p:nvPr/>
        </p:nvSpPr>
        <p:spPr>
          <a:xfrm>
            <a:off x="5653080" y="1697040"/>
            <a:ext cx="1276200" cy="446040"/>
          </a:xfrm>
          <a:custGeom>
            <a:avLst/>
            <a:gdLst/>
            <a:ahLst/>
            <a:rect l="l" t="t" r="r" b="b"/>
            <a:pathLst>
              <a:path w="3548" h="1241">
                <a:moveTo>
                  <a:pt x="16371" y="4738"/>
                </a:moveTo>
                <a:cubicBezTo>
                  <a:pt x="16301" y="4720"/>
                  <a:pt x="16311" y="4815"/>
                  <a:pt x="16272" y="4887"/>
                </a:cubicBezTo>
                <a:cubicBezTo>
                  <a:pt x="16214" y="4995"/>
                  <a:pt x="16100" y="5115"/>
                  <a:pt x="16024" y="5209"/>
                </a:cubicBezTo>
                <a:cubicBezTo>
                  <a:pt x="15969" y="5278"/>
                  <a:pt x="15866" y="5376"/>
                  <a:pt x="15801" y="5432"/>
                </a:cubicBezTo>
                <a:cubicBezTo>
                  <a:pt x="15737" y="5487"/>
                  <a:pt x="15714" y="5468"/>
                  <a:pt x="15701" y="5556"/>
                </a:cubicBezTo>
                <a:cubicBezTo>
                  <a:pt x="15792" y="5601"/>
                  <a:pt x="15881" y="5640"/>
                  <a:pt x="15974" y="5680"/>
                </a:cubicBezTo>
                <a:cubicBezTo>
                  <a:pt x="16059" y="5716"/>
                  <a:pt x="16144" y="5763"/>
                  <a:pt x="16222" y="5804"/>
                </a:cubicBezTo>
                <a:cubicBezTo>
                  <a:pt x="16272" y="5831"/>
                  <a:pt x="16286" y="5846"/>
                  <a:pt x="16346" y="5854"/>
                </a:cubicBezTo>
              </a:path>
              <a:path w="3548" h="1241">
                <a:moveTo>
                  <a:pt x="16594" y="5159"/>
                </a:moveTo>
                <a:cubicBezTo>
                  <a:pt x="16634" y="5059"/>
                  <a:pt x="16639" y="5041"/>
                  <a:pt x="16669" y="4986"/>
                </a:cubicBezTo>
                <a:cubicBezTo>
                  <a:pt x="16734" y="5033"/>
                  <a:pt x="16779" y="5097"/>
                  <a:pt x="16793" y="5184"/>
                </a:cubicBezTo>
                <a:cubicBezTo>
                  <a:pt x="16814" y="5318"/>
                  <a:pt x="16798" y="5503"/>
                  <a:pt x="16768" y="5631"/>
                </a:cubicBezTo>
                <a:cubicBezTo>
                  <a:pt x="16762" y="5659"/>
                  <a:pt x="16701" y="5746"/>
                  <a:pt x="16669" y="5755"/>
                </a:cubicBezTo>
                <a:cubicBezTo>
                  <a:pt x="16616" y="5770"/>
                  <a:pt x="16491" y="5730"/>
                  <a:pt x="16495" y="5655"/>
                </a:cubicBezTo>
                <a:cubicBezTo>
                  <a:pt x="16503" y="5639"/>
                  <a:pt x="16512" y="5622"/>
                  <a:pt x="16520" y="5606"/>
                </a:cubicBezTo>
                <a:cubicBezTo>
                  <a:pt x="16619" y="5617"/>
                  <a:pt x="16649" y="5636"/>
                  <a:pt x="16718" y="5705"/>
                </a:cubicBezTo>
                <a:cubicBezTo>
                  <a:pt x="16775" y="5762"/>
                  <a:pt x="16818" y="5793"/>
                  <a:pt x="16892" y="5804"/>
                </a:cubicBezTo>
              </a:path>
              <a:path w="3548" h="1241">
                <a:moveTo>
                  <a:pt x="17140" y="5631"/>
                </a:moveTo>
                <a:cubicBezTo>
                  <a:pt x="17126" y="5765"/>
                  <a:pt x="17121" y="6012"/>
                  <a:pt x="17140" y="5879"/>
                </a:cubicBezTo>
              </a:path>
              <a:path w="3548" h="1241">
                <a:moveTo>
                  <a:pt x="17314" y="5135"/>
                </a:moveTo>
                <a:cubicBezTo>
                  <a:pt x="17352" y="5044"/>
                  <a:pt x="17406" y="4859"/>
                  <a:pt x="17512" y="5011"/>
                </a:cubicBezTo>
                <a:cubicBezTo>
                  <a:pt x="17569" y="5093"/>
                  <a:pt x="17584" y="5186"/>
                  <a:pt x="17587" y="5283"/>
                </a:cubicBezTo>
                <a:cubicBezTo>
                  <a:pt x="17591" y="5405"/>
                  <a:pt x="17560" y="5470"/>
                  <a:pt x="17537" y="5581"/>
                </a:cubicBezTo>
                <a:cubicBezTo>
                  <a:pt x="17522" y="5651"/>
                  <a:pt x="17510" y="5744"/>
                  <a:pt x="17413" y="5680"/>
                </a:cubicBezTo>
                <a:cubicBezTo>
                  <a:pt x="17351" y="5639"/>
                  <a:pt x="17347" y="5618"/>
                  <a:pt x="17338" y="5556"/>
                </a:cubicBezTo>
                <a:cubicBezTo>
                  <a:pt x="17346" y="5548"/>
                  <a:pt x="17355" y="5539"/>
                  <a:pt x="17363" y="5531"/>
                </a:cubicBezTo>
                <a:cubicBezTo>
                  <a:pt x="17438" y="5569"/>
                  <a:pt x="17479" y="5609"/>
                  <a:pt x="17537" y="5655"/>
                </a:cubicBezTo>
                <a:cubicBezTo>
                  <a:pt x="17589" y="5697"/>
                  <a:pt x="17636" y="5705"/>
                  <a:pt x="17686" y="5730"/>
                </a:cubicBezTo>
                <a:cubicBezTo>
                  <a:pt x="17756" y="5765"/>
                  <a:pt x="17764" y="5745"/>
                  <a:pt x="17835" y="5705"/>
                </a:cubicBezTo>
              </a:path>
              <a:path w="3548" h="1241">
                <a:moveTo>
                  <a:pt x="17859" y="4713"/>
                </a:moveTo>
                <a:cubicBezTo>
                  <a:pt x="17920" y="4761"/>
                  <a:pt x="17996" y="4770"/>
                  <a:pt x="18058" y="4812"/>
                </a:cubicBezTo>
                <a:cubicBezTo>
                  <a:pt x="18142" y="4869"/>
                  <a:pt x="18208" y="4857"/>
                  <a:pt x="18306" y="4887"/>
                </a:cubicBezTo>
                <a:cubicBezTo>
                  <a:pt x="18348" y="4900"/>
                  <a:pt x="18460" y="4949"/>
                  <a:pt x="18455" y="5011"/>
                </a:cubicBezTo>
                <a:cubicBezTo>
                  <a:pt x="18451" y="5061"/>
                  <a:pt x="18377" y="5218"/>
                  <a:pt x="18355" y="5259"/>
                </a:cubicBezTo>
                <a:cubicBezTo>
                  <a:pt x="18303" y="5358"/>
                  <a:pt x="18273" y="5452"/>
                  <a:pt x="18231" y="5556"/>
                </a:cubicBezTo>
                <a:cubicBezTo>
                  <a:pt x="18213" y="5602"/>
                  <a:pt x="18145" y="5733"/>
                  <a:pt x="18157" y="5779"/>
                </a:cubicBezTo>
                <a:cubicBezTo>
                  <a:pt x="18165" y="5779"/>
                  <a:pt x="18174" y="5779"/>
                  <a:pt x="18182" y="5779"/>
                </a:cubicBezTo>
              </a:path>
              <a:path w="3548" h="1241">
                <a:moveTo>
                  <a:pt x="19050" y="5085"/>
                </a:moveTo>
                <a:cubicBezTo>
                  <a:pt x="19045" y="5132"/>
                  <a:pt x="19007" y="5214"/>
                  <a:pt x="19075" y="5234"/>
                </a:cubicBezTo>
                <a:cubicBezTo>
                  <a:pt x="19151" y="5256"/>
                  <a:pt x="19195" y="5190"/>
                  <a:pt x="19224" y="5135"/>
                </a:cubicBezTo>
                <a:cubicBezTo>
                  <a:pt x="19232" y="5118"/>
                  <a:pt x="19240" y="5102"/>
                  <a:pt x="19248" y="5085"/>
                </a:cubicBezTo>
                <a:cubicBezTo>
                  <a:pt x="19180" y="5032"/>
                  <a:pt x="19134" y="5085"/>
                  <a:pt x="19075" y="5135"/>
                </a:cubicBezTo>
                <a:cubicBezTo>
                  <a:pt x="19030" y="5174"/>
                  <a:pt x="19032" y="5205"/>
                  <a:pt x="19025" y="5259"/>
                </a:cubicBezTo>
                <a:cubicBezTo>
                  <a:pt x="19130" y="5247"/>
                  <a:pt x="19141" y="5236"/>
                  <a:pt x="19199" y="5159"/>
                </a:cubicBezTo>
                <a:cubicBezTo>
                  <a:pt x="19229" y="5130"/>
                  <a:pt x="19240" y="5116"/>
                  <a:pt x="19248" y="5085"/>
                </a:cubicBezTo>
                <a:cubicBezTo>
                  <a:pt x="19195" y="5140"/>
                  <a:pt x="19126" y="5190"/>
                  <a:pt x="19050" y="5209"/>
                </a:cubicBezTo>
                <a:cubicBezTo>
                  <a:pt x="19033" y="5209"/>
                  <a:pt x="19017" y="5209"/>
                  <a:pt x="19000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Ink 11"/>
          <p:cNvSpPr/>
          <p:nvPr/>
        </p:nvSpPr>
        <p:spPr>
          <a:xfrm>
            <a:off x="7188120" y="1509840"/>
            <a:ext cx="1278000" cy="527040"/>
          </a:xfrm>
          <a:custGeom>
            <a:avLst/>
            <a:gdLst/>
            <a:ahLst/>
            <a:rect l="l" t="t" r="r" b="b"/>
            <a:pathLst>
              <a:path w="3548" h="1464">
                <a:moveTo>
                  <a:pt x="20687" y="4316"/>
                </a:moveTo>
                <a:cubicBezTo>
                  <a:pt x="20618" y="4419"/>
                  <a:pt x="20541" y="4494"/>
                  <a:pt x="20464" y="4589"/>
                </a:cubicBezTo>
                <a:cubicBezTo>
                  <a:pt x="20390" y="4680"/>
                  <a:pt x="20317" y="4774"/>
                  <a:pt x="20241" y="4862"/>
                </a:cubicBezTo>
                <a:cubicBezTo>
                  <a:pt x="20188" y="4924"/>
                  <a:pt x="20148" y="5033"/>
                  <a:pt x="20092" y="5085"/>
                </a:cubicBezTo>
                <a:cubicBezTo>
                  <a:pt x="20032" y="5141"/>
                  <a:pt x="20029" y="5166"/>
                  <a:pt x="19993" y="5234"/>
                </a:cubicBezTo>
                <a:cubicBezTo>
                  <a:pt x="19966" y="5286"/>
                  <a:pt x="19987" y="5344"/>
                  <a:pt x="20042" y="5383"/>
                </a:cubicBezTo>
                <a:cubicBezTo>
                  <a:pt x="20114" y="5433"/>
                  <a:pt x="20181" y="5476"/>
                  <a:pt x="20265" y="5507"/>
                </a:cubicBezTo>
                <a:cubicBezTo>
                  <a:pt x="20370" y="5546"/>
                  <a:pt x="20505" y="5613"/>
                  <a:pt x="20613" y="5631"/>
                </a:cubicBezTo>
                <a:cubicBezTo>
                  <a:pt x="20671" y="5631"/>
                  <a:pt x="20679" y="5631"/>
                  <a:pt x="20712" y="5631"/>
                </a:cubicBezTo>
              </a:path>
              <a:path w="3548" h="1464">
                <a:moveTo>
                  <a:pt x="20762" y="5085"/>
                </a:moveTo>
                <a:cubicBezTo>
                  <a:pt x="20842" y="5063"/>
                  <a:pt x="20933" y="5059"/>
                  <a:pt x="21010" y="5035"/>
                </a:cubicBezTo>
                <a:cubicBezTo>
                  <a:pt x="21026" y="5027"/>
                  <a:pt x="21043" y="5019"/>
                  <a:pt x="21059" y="5011"/>
                </a:cubicBezTo>
              </a:path>
              <a:path w="3548" h="1464">
                <a:moveTo>
                  <a:pt x="21357" y="4465"/>
                </a:moveTo>
                <a:cubicBezTo>
                  <a:pt x="21357" y="4558"/>
                  <a:pt x="21335" y="4623"/>
                  <a:pt x="21307" y="4713"/>
                </a:cubicBezTo>
                <a:cubicBezTo>
                  <a:pt x="21270" y="4831"/>
                  <a:pt x="21237" y="4937"/>
                  <a:pt x="21233" y="5060"/>
                </a:cubicBezTo>
                <a:cubicBezTo>
                  <a:pt x="21230" y="5161"/>
                  <a:pt x="21238" y="5219"/>
                  <a:pt x="21282" y="5308"/>
                </a:cubicBezTo>
                <a:cubicBezTo>
                  <a:pt x="21314" y="5372"/>
                  <a:pt x="21384" y="5418"/>
                  <a:pt x="21456" y="5432"/>
                </a:cubicBezTo>
                <a:cubicBezTo>
                  <a:pt x="21530" y="5447"/>
                  <a:pt x="21619" y="5430"/>
                  <a:pt x="21679" y="5383"/>
                </a:cubicBezTo>
                <a:cubicBezTo>
                  <a:pt x="21751" y="5327"/>
                  <a:pt x="21774" y="5246"/>
                  <a:pt x="21779" y="5159"/>
                </a:cubicBezTo>
                <a:cubicBezTo>
                  <a:pt x="21779" y="5108"/>
                  <a:pt x="21778" y="5089"/>
                  <a:pt x="21754" y="5060"/>
                </a:cubicBezTo>
                <a:cubicBezTo>
                  <a:pt x="21635" y="5090"/>
                  <a:pt x="21628" y="5172"/>
                  <a:pt x="21580" y="5283"/>
                </a:cubicBezTo>
                <a:cubicBezTo>
                  <a:pt x="21540" y="5374"/>
                  <a:pt x="21567" y="5439"/>
                  <a:pt x="21605" y="5531"/>
                </a:cubicBezTo>
                <a:cubicBezTo>
                  <a:pt x="21613" y="5548"/>
                  <a:pt x="21622" y="5564"/>
                  <a:pt x="21630" y="5581"/>
                </a:cubicBezTo>
              </a:path>
              <a:path w="3548" h="1464">
                <a:moveTo>
                  <a:pt x="22027" y="5482"/>
                </a:moveTo>
                <a:cubicBezTo>
                  <a:pt x="22007" y="5581"/>
                  <a:pt x="21999" y="5596"/>
                  <a:pt x="22002" y="5655"/>
                </a:cubicBezTo>
              </a:path>
              <a:path w="3548" h="1464">
                <a:moveTo>
                  <a:pt x="22597" y="4688"/>
                </a:moveTo>
                <a:cubicBezTo>
                  <a:pt x="22586" y="4568"/>
                  <a:pt x="22614" y="4445"/>
                  <a:pt x="22448" y="4465"/>
                </a:cubicBezTo>
                <a:cubicBezTo>
                  <a:pt x="22413" y="4469"/>
                  <a:pt x="22265" y="4493"/>
                  <a:pt x="22250" y="4564"/>
                </a:cubicBezTo>
                <a:cubicBezTo>
                  <a:pt x="22227" y="4671"/>
                  <a:pt x="22302" y="4752"/>
                  <a:pt x="22349" y="4837"/>
                </a:cubicBezTo>
                <a:cubicBezTo>
                  <a:pt x="22403" y="4935"/>
                  <a:pt x="22481" y="5045"/>
                  <a:pt x="22498" y="5159"/>
                </a:cubicBezTo>
                <a:cubicBezTo>
                  <a:pt x="22506" y="5213"/>
                  <a:pt x="22498" y="5278"/>
                  <a:pt x="22498" y="5333"/>
                </a:cubicBezTo>
                <a:cubicBezTo>
                  <a:pt x="22407" y="5322"/>
                  <a:pt x="22349" y="5308"/>
                  <a:pt x="22324" y="5209"/>
                </a:cubicBezTo>
                <a:cubicBezTo>
                  <a:pt x="22305" y="5134"/>
                  <a:pt x="22342" y="5074"/>
                  <a:pt x="22374" y="5011"/>
                </a:cubicBezTo>
                <a:cubicBezTo>
                  <a:pt x="22412" y="4936"/>
                  <a:pt x="22486" y="4884"/>
                  <a:pt x="22523" y="4812"/>
                </a:cubicBezTo>
                <a:cubicBezTo>
                  <a:pt x="22545" y="4745"/>
                  <a:pt x="22549" y="4727"/>
                  <a:pt x="22572" y="4688"/>
                </a:cubicBezTo>
              </a:path>
              <a:path w="3548" h="1464">
                <a:moveTo>
                  <a:pt x="22771" y="4192"/>
                </a:moveTo>
                <a:cubicBezTo>
                  <a:pt x="22902" y="4284"/>
                  <a:pt x="22986" y="4321"/>
                  <a:pt x="23118" y="4390"/>
                </a:cubicBezTo>
                <a:cubicBezTo>
                  <a:pt x="23202" y="4434"/>
                  <a:pt x="23298" y="4515"/>
                  <a:pt x="23391" y="4539"/>
                </a:cubicBezTo>
                <a:cubicBezTo>
                  <a:pt x="23444" y="4553"/>
                  <a:pt x="23530" y="4556"/>
                  <a:pt x="23515" y="4638"/>
                </a:cubicBezTo>
                <a:cubicBezTo>
                  <a:pt x="23490" y="4777"/>
                  <a:pt x="23360" y="4919"/>
                  <a:pt x="23292" y="5035"/>
                </a:cubicBezTo>
                <a:cubicBezTo>
                  <a:pt x="23194" y="5202"/>
                  <a:pt x="23089" y="5363"/>
                  <a:pt x="22994" y="5531"/>
                </a:cubicBezTo>
                <a:cubicBezTo>
                  <a:pt x="22986" y="5548"/>
                  <a:pt x="22977" y="5564"/>
                  <a:pt x="22969" y="55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Ink 12"/>
          <p:cNvSpPr/>
          <p:nvPr/>
        </p:nvSpPr>
        <p:spPr>
          <a:xfrm>
            <a:off x="982800" y="2419200"/>
            <a:ext cx="1411200" cy="1144800"/>
          </a:xfrm>
          <a:custGeom>
            <a:avLst/>
            <a:gdLst/>
            <a:ahLst/>
            <a:rect l="l" t="t" r="r" b="b"/>
            <a:pathLst>
              <a:path w="3920" h="3176">
                <a:moveTo>
                  <a:pt x="2977" y="7441"/>
                </a:moveTo>
                <a:cubicBezTo>
                  <a:pt x="3009" y="7401"/>
                  <a:pt x="3038" y="7326"/>
                  <a:pt x="3076" y="7293"/>
                </a:cubicBezTo>
                <a:cubicBezTo>
                  <a:pt x="3120" y="7255"/>
                  <a:pt x="3231" y="7250"/>
                  <a:pt x="3274" y="7293"/>
                </a:cubicBezTo>
                <a:cubicBezTo>
                  <a:pt x="3327" y="7346"/>
                  <a:pt x="3358" y="7494"/>
                  <a:pt x="3349" y="7565"/>
                </a:cubicBezTo>
                <a:cubicBezTo>
                  <a:pt x="3333" y="7692"/>
                  <a:pt x="3314" y="7815"/>
                  <a:pt x="3274" y="7938"/>
                </a:cubicBezTo>
                <a:cubicBezTo>
                  <a:pt x="3252" y="8004"/>
                  <a:pt x="3222" y="8059"/>
                  <a:pt x="3175" y="8111"/>
                </a:cubicBezTo>
                <a:cubicBezTo>
                  <a:pt x="3138" y="8152"/>
                  <a:pt x="3056" y="8104"/>
                  <a:pt x="3026" y="8062"/>
                </a:cubicBezTo>
                <a:cubicBezTo>
                  <a:pt x="2994" y="8017"/>
                  <a:pt x="2975" y="7925"/>
                  <a:pt x="3001" y="7888"/>
                </a:cubicBezTo>
                <a:cubicBezTo>
                  <a:pt x="3061" y="7802"/>
                  <a:pt x="3126" y="7840"/>
                  <a:pt x="3200" y="7888"/>
                </a:cubicBezTo>
                <a:cubicBezTo>
                  <a:pt x="3259" y="7926"/>
                  <a:pt x="3255" y="8012"/>
                  <a:pt x="3299" y="8062"/>
                </a:cubicBezTo>
                <a:cubicBezTo>
                  <a:pt x="3334" y="8101"/>
                  <a:pt x="3394" y="8173"/>
                  <a:pt x="3448" y="8186"/>
                </a:cubicBezTo>
                <a:cubicBezTo>
                  <a:pt x="3499" y="8186"/>
                  <a:pt x="3518" y="8185"/>
                  <a:pt x="3547" y="8161"/>
                </a:cubicBezTo>
              </a:path>
              <a:path w="3920" h="3176">
                <a:moveTo>
                  <a:pt x="4142" y="7342"/>
                </a:moveTo>
                <a:cubicBezTo>
                  <a:pt x="4142" y="7533"/>
                  <a:pt x="4134" y="7738"/>
                  <a:pt x="4167" y="7913"/>
                </a:cubicBezTo>
                <a:cubicBezTo>
                  <a:pt x="4167" y="7964"/>
                  <a:pt x="4168" y="7983"/>
                  <a:pt x="4192" y="8012"/>
                </a:cubicBezTo>
              </a:path>
              <a:path w="3920" h="3176">
                <a:moveTo>
                  <a:pt x="4018" y="7714"/>
                </a:moveTo>
                <a:cubicBezTo>
                  <a:pt x="4108" y="7669"/>
                  <a:pt x="4169" y="7703"/>
                  <a:pt x="4266" y="7714"/>
                </a:cubicBezTo>
                <a:cubicBezTo>
                  <a:pt x="4358" y="7714"/>
                  <a:pt x="4400" y="7711"/>
                  <a:pt x="4465" y="7689"/>
                </a:cubicBezTo>
              </a:path>
              <a:path w="3920" h="3176">
                <a:moveTo>
                  <a:pt x="4862" y="7516"/>
                </a:moveTo>
                <a:cubicBezTo>
                  <a:pt x="4983" y="7522"/>
                  <a:pt x="5089" y="7541"/>
                  <a:pt x="5209" y="7541"/>
                </a:cubicBezTo>
              </a:path>
              <a:path w="3920" h="3176">
                <a:moveTo>
                  <a:pt x="5655" y="7342"/>
                </a:moveTo>
                <a:cubicBezTo>
                  <a:pt x="5585" y="7413"/>
                  <a:pt x="5506" y="7478"/>
                  <a:pt x="5457" y="7565"/>
                </a:cubicBezTo>
                <a:cubicBezTo>
                  <a:pt x="5407" y="7655"/>
                  <a:pt x="5443" y="7674"/>
                  <a:pt x="5507" y="7739"/>
                </a:cubicBezTo>
                <a:cubicBezTo>
                  <a:pt x="5550" y="7782"/>
                  <a:pt x="5644" y="7787"/>
                  <a:pt x="5705" y="7789"/>
                </a:cubicBezTo>
                <a:cubicBezTo>
                  <a:pt x="5806" y="7793"/>
                  <a:pt x="5879" y="7752"/>
                  <a:pt x="5953" y="7689"/>
                </a:cubicBezTo>
                <a:cubicBezTo>
                  <a:pt x="6015" y="7636"/>
                  <a:pt x="6049" y="7598"/>
                  <a:pt x="6052" y="7516"/>
                </a:cubicBezTo>
                <a:cubicBezTo>
                  <a:pt x="6057" y="7401"/>
                  <a:pt x="6021" y="7389"/>
                  <a:pt x="5928" y="7342"/>
                </a:cubicBezTo>
                <a:cubicBezTo>
                  <a:pt x="5844" y="7300"/>
                  <a:pt x="5809" y="7327"/>
                  <a:pt x="5730" y="7367"/>
                </a:cubicBezTo>
                <a:cubicBezTo>
                  <a:pt x="5631" y="7417"/>
                  <a:pt x="5620" y="7435"/>
                  <a:pt x="5581" y="7541"/>
                </a:cubicBezTo>
              </a:path>
              <a:path w="3920" h="3176">
                <a:moveTo>
                  <a:pt x="5705" y="7739"/>
                </a:moveTo>
                <a:cubicBezTo>
                  <a:pt x="5631" y="7799"/>
                  <a:pt x="5578" y="7853"/>
                  <a:pt x="5531" y="7938"/>
                </a:cubicBezTo>
                <a:cubicBezTo>
                  <a:pt x="5497" y="7999"/>
                  <a:pt x="5500" y="8084"/>
                  <a:pt x="5556" y="8136"/>
                </a:cubicBezTo>
                <a:cubicBezTo>
                  <a:pt x="5598" y="8175"/>
                  <a:pt x="5702" y="8203"/>
                  <a:pt x="5755" y="8210"/>
                </a:cubicBezTo>
                <a:cubicBezTo>
                  <a:pt x="5828" y="8219"/>
                  <a:pt x="5943" y="8180"/>
                  <a:pt x="6003" y="8136"/>
                </a:cubicBezTo>
                <a:cubicBezTo>
                  <a:pt x="6065" y="8090"/>
                  <a:pt x="6160" y="8034"/>
                  <a:pt x="6127" y="7938"/>
                </a:cubicBezTo>
                <a:cubicBezTo>
                  <a:pt x="6091" y="7833"/>
                  <a:pt x="5999" y="7800"/>
                  <a:pt x="5904" y="7789"/>
                </a:cubicBezTo>
                <a:cubicBezTo>
                  <a:pt x="5879" y="7789"/>
                  <a:pt x="5854" y="7789"/>
                  <a:pt x="5829" y="7789"/>
                </a:cubicBezTo>
              </a:path>
              <a:path w="3920" h="3176">
                <a:moveTo>
                  <a:pt x="3994" y="9103"/>
                </a:moveTo>
                <a:cubicBezTo>
                  <a:pt x="4060" y="9153"/>
                  <a:pt x="4128" y="9168"/>
                  <a:pt x="4217" y="9178"/>
                </a:cubicBezTo>
                <a:cubicBezTo>
                  <a:pt x="4291" y="9178"/>
                  <a:pt x="4316" y="9178"/>
                  <a:pt x="4366" y="9178"/>
                </a:cubicBezTo>
              </a:path>
              <a:path w="3920" h="3176">
                <a:moveTo>
                  <a:pt x="4862" y="8930"/>
                </a:moveTo>
                <a:cubicBezTo>
                  <a:pt x="4819" y="9079"/>
                  <a:pt x="4722" y="9299"/>
                  <a:pt x="4762" y="9475"/>
                </a:cubicBezTo>
                <a:cubicBezTo>
                  <a:pt x="4783" y="9568"/>
                  <a:pt x="4821" y="9643"/>
                  <a:pt x="4887" y="9674"/>
                </a:cubicBezTo>
                <a:cubicBezTo>
                  <a:pt x="4988" y="9722"/>
                  <a:pt x="4991" y="9748"/>
                  <a:pt x="5110" y="9748"/>
                </a:cubicBezTo>
                <a:cubicBezTo>
                  <a:pt x="5190" y="9748"/>
                  <a:pt x="5233" y="9737"/>
                  <a:pt x="5283" y="9674"/>
                </a:cubicBezTo>
                <a:cubicBezTo>
                  <a:pt x="5334" y="9610"/>
                  <a:pt x="5343" y="9569"/>
                  <a:pt x="5308" y="9500"/>
                </a:cubicBezTo>
                <a:cubicBezTo>
                  <a:pt x="5275" y="9435"/>
                  <a:pt x="5198" y="9429"/>
                  <a:pt x="5135" y="9475"/>
                </a:cubicBezTo>
                <a:cubicBezTo>
                  <a:pt x="5096" y="9503"/>
                  <a:pt x="4996" y="9628"/>
                  <a:pt x="4986" y="9674"/>
                </a:cubicBezTo>
                <a:cubicBezTo>
                  <a:pt x="4978" y="9708"/>
                  <a:pt x="4986" y="9785"/>
                  <a:pt x="4986" y="9823"/>
                </a:cubicBezTo>
              </a:path>
              <a:path w="3920" h="3176">
                <a:moveTo>
                  <a:pt x="4068" y="8582"/>
                </a:moveTo>
                <a:cubicBezTo>
                  <a:pt x="3980" y="8670"/>
                  <a:pt x="3810" y="8800"/>
                  <a:pt x="3770" y="8930"/>
                </a:cubicBezTo>
                <a:cubicBezTo>
                  <a:pt x="3724" y="9081"/>
                  <a:pt x="3711" y="9223"/>
                  <a:pt x="3746" y="9376"/>
                </a:cubicBezTo>
                <a:cubicBezTo>
                  <a:pt x="3769" y="9477"/>
                  <a:pt x="3826" y="9525"/>
                  <a:pt x="3894" y="9599"/>
                </a:cubicBezTo>
              </a:path>
              <a:path w="3920" h="3176">
                <a:moveTo>
                  <a:pt x="5556" y="8781"/>
                </a:moveTo>
                <a:cubicBezTo>
                  <a:pt x="5626" y="9019"/>
                  <a:pt x="5699" y="9228"/>
                  <a:pt x="5705" y="9475"/>
                </a:cubicBezTo>
                <a:cubicBezTo>
                  <a:pt x="5708" y="9587"/>
                  <a:pt x="5693" y="9737"/>
                  <a:pt x="5606" y="9823"/>
                </a:cubicBezTo>
                <a:cubicBezTo>
                  <a:pt x="5548" y="9880"/>
                  <a:pt x="5415" y="9930"/>
                  <a:pt x="5333" y="9897"/>
                </a:cubicBezTo>
                <a:cubicBezTo>
                  <a:pt x="5292" y="9872"/>
                  <a:pt x="5250" y="9848"/>
                  <a:pt x="5209" y="9823"/>
                </a:cubicBezTo>
              </a:path>
              <a:path w="3920" h="3176">
                <a:moveTo>
                  <a:pt x="3026" y="6722"/>
                </a:moveTo>
                <a:cubicBezTo>
                  <a:pt x="2920" y="6838"/>
                  <a:pt x="2887" y="6927"/>
                  <a:pt x="2828" y="7069"/>
                </a:cubicBezTo>
                <a:cubicBezTo>
                  <a:pt x="2769" y="7210"/>
                  <a:pt x="2739" y="7337"/>
                  <a:pt x="2729" y="7491"/>
                </a:cubicBezTo>
                <a:cubicBezTo>
                  <a:pt x="2719" y="7646"/>
                  <a:pt x="2767" y="7797"/>
                  <a:pt x="2828" y="7938"/>
                </a:cubicBezTo>
                <a:cubicBezTo>
                  <a:pt x="2897" y="8097"/>
                  <a:pt x="3035" y="8152"/>
                  <a:pt x="3175" y="8235"/>
                </a:cubicBezTo>
              </a:path>
              <a:path w="3920" h="3176">
                <a:moveTo>
                  <a:pt x="6424" y="6970"/>
                </a:moveTo>
                <a:cubicBezTo>
                  <a:pt x="6537" y="7144"/>
                  <a:pt x="6586" y="7286"/>
                  <a:pt x="6623" y="7491"/>
                </a:cubicBezTo>
                <a:cubicBezTo>
                  <a:pt x="6654" y="7666"/>
                  <a:pt x="6663" y="7838"/>
                  <a:pt x="6623" y="8012"/>
                </a:cubicBezTo>
                <a:cubicBezTo>
                  <a:pt x="6593" y="8142"/>
                  <a:pt x="6523" y="8234"/>
                  <a:pt x="6449" y="8334"/>
                </a:cubicBezTo>
                <a:cubicBezTo>
                  <a:pt x="6398" y="8413"/>
                  <a:pt x="6377" y="8439"/>
                  <a:pt x="6300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nk 13"/>
          <p:cNvSpPr/>
          <p:nvPr/>
        </p:nvSpPr>
        <p:spPr>
          <a:xfrm>
            <a:off x="2536920" y="3187800"/>
            <a:ext cx="1463760" cy="509400"/>
          </a:xfrm>
          <a:custGeom>
            <a:avLst/>
            <a:gdLst/>
            <a:ahLst/>
            <a:rect l="l" t="t" r="r" b="b"/>
            <a:pathLst>
              <a:path w="4068" h="1415">
                <a:moveTo>
                  <a:pt x="7665" y="8855"/>
                </a:moveTo>
                <a:cubicBezTo>
                  <a:pt x="7663" y="8874"/>
                  <a:pt x="7664" y="8973"/>
                  <a:pt x="7615" y="9029"/>
                </a:cubicBezTo>
                <a:cubicBezTo>
                  <a:pt x="7552" y="9101"/>
                  <a:pt x="7497" y="9174"/>
                  <a:pt x="7417" y="9227"/>
                </a:cubicBezTo>
                <a:cubicBezTo>
                  <a:pt x="7340" y="9278"/>
                  <a:pt x="7261" y="9313"/>
                  <a:pt x="7193" y="9376"/>
                </a:cubicBezTo>
                <a:cubicBezTo>
                  <a:pt x="7170" y="9397"/>
                  <a:pt x="6982" y="9549"/>
                  <a:pt x="7045" y="9599"/>
                </a:cubicBezTo>
                <a:cubicBezTo>
                  <a:pt x="7091" y="9635"/>
                  <a:pt x="7223" y="9642"/>
                  <a:pt x="7268" y="9674"/>
                </a:cubicBezTo>
                <a:cubicBezTo>
                  <a:pt x="7355" y="9736"/>
                  <a:pt x="7418" y="9767"/>
                  <a:pt x="7516" y="9823"/>
                </a:cubicBezTo>
                <a:cubicBezTo>
                  <a:pt x="7575" y="9856"/>
                  <a:pt x="7629" y="9910"/>
                  <a:pt x="7689" y="9922"/>
                </a:cubicBezTo>
                <a:cubicBezTo>
                  <a:pt x="7794" y="9943"/>
                  <a:pt x="7713" y="9979"/>
                  <a:pt x="7813" y="9922"/>
                </a:cubicBezTo>
              </a:path>
              <a:path w="4068" h="1415">
                <a:moveTo>
                  <a:pt x="7838" y="9451"/>
                </a:moveTo>
                <a:cubicBezTo>
                  <a:pt x="8003" y="9451"/>
                  <a:pt x="8129" y="9456"/>
                  <a:pt x="8285" y="9401"/>
                </a:cubicBezTo>
              </a:path>
              <a:path w="4068" h="1415">
                <a:moveTo>
                  <a:pt x="8434" y="9227"/>
                </a:moveTo>
                <a:cubicBezTo>
                  <a:pt x="8467" y="9150"/>
                  <a:pt x="8488" y="9113"/>
                  <a:pt x="8582" y="9103"/>
                </a:cubicBezTo>
                <a:cubicBezTo>
                  <a:pt x="8678" y="9092"/>
                  <a:pt x="8736" y="9093"/>
                  <a:pt x="8806" y="9153"/>
                </a:cubicBezTo>
                <a:cubicBezTo>
                  <a:pt x="8868" y="9206"/>
                  <a:pt x="8849" y="9243"/>
                  <a:pt x="8806" y="9302"/>
                </a:cubicBezTo>
                <a:cubicBezTo>
                  <a:pt x="8742" y="9388"/>
                  <a:pt x="8710" y="9346"/>
                  <a:pt x="8632" y="9376"/>
                </a:cubicBezTo>
                <a:cubicBezTo>
                  <a:pt x="8577" y="9397"/>
                  <a:pt x="8571" y="9405"/>
                  <a:pt x="8533" y="9451"/>
                </a:cubicBezTo>
                <a:cubicBezTo>
                  <a:pt x="8627" y="9459"/>
                  <a:pt x="8714" y="9472"/>
                  <a:pt x="8781" y="9550"/>
                </a:cubicBezTo>
                <a:cubicBezTo>
                  <a:pt x="8849" y="9629"/>
                  <a:pt x="8913" y="9711"/>
                  <a:pt x="8880" y="9823"/>
                </a:cubicBezTo>
                <a:cubicBezTo>
                  <a:pt x="8867" y="9867"/>
                  <a:pt x="8772" y="9955"/>
                  <a:pt x="8731" y="9971"/>
                </a:cubicBezTo>
                <a:cubicBezTo>
                  <a:pt x="8661" y="9998"/>
                  <a:pt x="8534" y="9971"/>
                  <a:pt x="8458" y="9971"/>
                </a:cubicBezTo>
              </a:path>
              <a:path w="4068" h="1415">
                <a:moveTo>
                  <a:pt x="9277" y="9823"/>
                </a:moveTo>
                <a:cubicBezTo>
                  <a:pt x="9251" y="9932"/>
                  <a:pt x="9113" y="10160"/>
                  <a:pt x="9153" y="10269"/>
                </a:cubicBezTo>
                <a:cubicBezTo>
                  <a:pt x="9161" y="10269"/>
                  <a:pt x="9170" y="10269"/>
                  <a:pt x="9178" y="10269"/>
                </a:cubicBezTo>
              </a:path>
              <a:path w="4068" h="1415">
                <a:moveTo>
                  <a:pt x="9674" y="9302"/>
                </a:moveTo>
                <a:cubicBezTo>
                  <a:pt x="9638" y="9381"/>
                  <a:pt x="9617" y="9375"/>
                  <a:pt x="9575" y="9451"/>
                </a:cubicBezTo>
                <a:cubicBezTo>
                  <a:pt x="9640" y="9503"/>
                  <a:pt x="9665" y="9521"/>
                  <a:pt x="9748" y="9525"/>
                </a:cubicBezTo>
                <a:cubicBezTo>
                  <a:pt x="9806" y="9528"/>
                  <a:pt x="9864" y="9525"/>
                  <a:pt x="9922" y="9525"/>
                </a:cubicBezTo>
              </a:path>
              <a:path w="4068" h="1415">
                <a:moveTo>
                  <a:pt x="10120" y="9079"/>
                </a:moveTo>
                <a:cubicBezTo>
                  <a:pt x="10063" y="9226"/>
                  <a:pt x="10011" y="9369"/>
                  <a:pt x="9996" y="9525"/>
                </a:cubicBezTo>
                <a:cubicBezTo>
                  <a:pt x="9986" y="9630"/>
                  <a:pt x="10000" y="9800"/>
                  <a:pt x="10046" y="9897"/>
                </a:cubicBezTo>
                <a:cubicBezTo>
                  <a:pt x="10070" y="9949"/>
                  <a:pt x="10063" y="10095"/>
                  <a:pt x="10096" y="9996"/>
                </a:cubicBezTo>
              </a:path>
              <a:path w="4068" h="1415">
                <a:moveTo>
                  <a:pt x="10220" y="8855"/>
                </a:moveTo>
                <a:cubicBezTo>
                  <a:pt x="10340" y="8870"/>
                  <a:pt x="10343" y="8943"/>
                  <a:pt x="10443" y="9004"/>
                </a:cubicBezTo>
                <a:cubicBezTo>
                  <a:pt x="10544" y="9066"/>
                  <a:pt x="10666" y="9115"/>
                  <a:pt x="10765" y="9178"/>
                </a:cubicBezTo>
                <a:cubicBezTo>
                  <a:pt x="10873" y="9246"/>
                  <a:pt x="10985" y="9321"/>
                  <a:pt x="11088" y="9376"/>
                </a:cubicBezTo>
                <a:cubicBezTo>
                  <a:pt x="11096" y="9384"/>
                  <a:pt x="11104" y="9393"/>
                  <a:pt x="11112" y="9401"/>
                </a:cubicBezTo>
                <a:cubicBezTo>
                  <a:pt x="11067" y="9456"/>
                  <a:pt x="10990" y="9506"/>
                  <a:pt x="10914" y="9550"/>
                </a:cubicBezTo>
                <a:cubicBezTo>
                  <a:pt x="10788" y="9623"/>
                  <a:pt x="10632" y="9728"/>
                  <a:pt x="10542" y="9847"/>
                </a:cubicBezTo>
                <a:cubicBezTo>
                  <a:pt x="10483" y="9946"/>
                  <a:pt x="10485" y="9974"/>
                  <a:pt x="10418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k 14"/>
          <p:cNvSpPr/>
          <p:nvPr/>
        </p:nvSpPr>
        <p:spPr>
          <a:xfrm>
            <a:off x="5867280" y="2455920"/>
            <a:ext cx="768600" cy="366480"/>
          </a:xfrm>
          <a:custGeom>
            <a:avLst/>
            <a:gdLst/>
            <a:ahLst/>
            <a:rect l="l" t="t" r="r" b="b"/>
            <a:pathLst>
              <a:path w="2134" h="1018">
                <a:moveTo>
                  <a:pt x="16421" y="7094"/>
                </a:moveTo>
                <a:cubicBezTo>
                  <a:pt x="16421" y="7036"/>
                  <a:pt x="16422" y="6969"/>
                  <a:pt x="16446" y="6921"/>
                </a:cubicBezTo>
                <a:cubicBezTo>
                  <a:pt x="16473" y="6866"/>
                  <a:pt x="16540" y="6824"/>
                  <a:pt x="16594" y="6821"/>
                </a:cubicBezTo>
                <a:cubicBezTo>
                  <a:pt x="16668" y="6817"/>
                  <a:pt x="16701" y="6850"/>
                  <a:pt x="16743" y="6896"/>
                </a:cubicBezTo>
                <a:cubicBezTo>
                  <a:pt x="16786" y="6943"/>
                  <a:pt x="16832" y="7053"/>
                  <a:pt x="16842" y="7119"/>
                </a:cubicBezTo>
                <a:cubicBezTo>
                  <a:pt x="16857" y="7221"/>
                  <a:pt x="16844" y="7343"/>
                  <a:pt x="16818" y="7441"/>
                </a:cubicBezTo>
                <a:cubicBezTo>
                  <a:pt x="16793" y="7534"/>
                  <a:pt x="16767" y="7649"/>
                  <a:pt x="16694" y="7714"/>
                </a:cubicBezTo>
                <a:cubicBezTo>
                  <a:pt x="16623" y="7777"/>
                  <a:pt x="16563" y="7833"/>
                  <a:pt x="16470" y="7838"/>
                </a:cubicBezTo>
                <a:cubicBezTo>
                  <a:pt x="16426" y="7840"/>
                  <a:pt x="16336" y="7817"/>
                  <a:pt x="16321" y="7764"/>
                </a:cubicBezTo>
                <a:cubicBezTo>
                  <a:pt x="16309" y="7720"/>
                  <a:pt x="16279" y="7639"/>
                  <a:pt x="16297" y="7590"/>
                </a:cubicBezTo>
                <a:cubicBezTo>
                  <a:pt x="16309" y="7557"/>
                  <a:pt x="16390" y="7497"/>
                  <a:pt x="16421" y="7491"/>
                </a:cubicBezTo>
                <a:cubicBezTo>
                  <a:pt x="16496" y="7477"/>
                  <a:pt x="16565" y="7517"/>
                  <a:pt x="16619" y="7565"/>
                </a:cubicBezTo>
                <a:cubicBezTo>
                  <a:pt x="16655" y="7597"/>
                  <a:pt x="16707" y="7640"/>
                  <a:pt x="16718" y="7689"/>
                </a:cubicBezTo>
                <a:cubicBezTo>
                  <a:pt x="16718" y="7731"/>
                  <a:pt x="16718" y="7739"/>
                  <a:pt x="16718" y="7764"/>
                </a:cubicBezTo>
              </a:path>
              <a:path w="2134" h="1018">
                <a:moveTo>
                  <a:pt x="17214" y="7392"/>
                </a:moveTo>
                <a:cubicBezTo>
                  <a:pt x="17175" y="7433"/>
                  <a:pt x="17201" y="7432"/>
                  <a:pt x="17239" y="7441"/>
                </a:cubicBezTo>
              </a:path>
              <a:path w="2134" h="1018">
                <a:moveTo>
                  <a:pt x="17363" y="7144"/>
                </a:moveTo>
                <a:cubicBezTo>
                  <a:pt x="17438" y="7144"/>
                  <a:pt x="17493" y="7157"/>
                  <a:pt x="17562" y="7169"/>
                </a:cubicBezTo>
                <a:cubicBezTo>
                  <a:pt x="17611" y="7169"/>
                  <a:pt x="17628" y="7169"/>
                  <a:pt x="17661" y="7169"/>
                </a:cubicBezTo>
              </a:path>
              <a:path w="2134" h="1018">
                <a:moveTo>
                  <a:pt x="18058" y="6871"/>
                </a:moveTo>
                <a:cubicBezTo>
                  <a:pt x="18058" y="6941"/>
                  <a:pt x="18050" y="7004"/>
                  <a:pt x="18033" y="7069"/>
                </a:cubicBezTo>
                <a:cubicBezTo>
                  <a:pt x="18012" y="7148"/>
                  <a:pt x="17972" y="7239"/>
                  <a:pt x="17959" y="7317"/>
                </a:cubicBezTo>
                <a:cubicBezTo>
                  <a:pt x="17948" y="7383"/>
                  <a:pt x="17912" y="7496"/>
                  <a:pt x="17934" y="7565"/>
                </a:cubicBezTo>
                <a:cubicBezTo>
                  <a:pt x="17954" y="7628"/>
                  <a:pt x="17968" y="7655"/>
                  <a:pt x="18033" y="7689"/>
                </a:cubicBezTo>
                <a:cubicBezTo>
                  <a:pt x="18085" y="7716"/>
                  <a:pt x="18172" y="7731"/>
                  <a:pt x="18231" y="7714"/>
                </a:cubicBezTo>
                <a:cubicBezTo>
                  <a:pt x="18291" y="7697"/>
                  <a:pt x="18337" y="7658"/>
                  <a:pt x="18380" y="7615"/>
                </a:cubicBezTo>
                <a:cubicBezTo>
                  <a:pt x="18435" y="7560"/>
                  <a:pt x="18438" y="7527"/>
                  <a:pt x="18405" y="7466"/>
                </a:cubicBezTo>
                <a:cubicBezTo>
                  <a:pt x="18364" y="7391"/>
                  <a:pt x="18249" y="7400"/>
                  <a:pt x="18207" y="7491"/>
                </a:cubicBezTo>
                <a:cubicBezTo>
                  <a:pt x="18180" y="7549"/>
                  <a:pt x="18186" y="7588"/>
                  <a:pt x="18207" y="7640"/>
                </a:cubicBezTo>
                <a:cubicBezTo>
                  <a:pt x="18242" y="7730"/>
                  <a:pt x="18228" y="7719"/>
                  <a:pt x="18306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nk 15"/>
          <p:cNvSpPr/>
          <p:nvPr/>
        </p:nvSpPr>
        <p:spPr>
          <a:xfrm>
            <a:off x="6804000" y="2517840"/>
            <a:ext cx="189000" cy="2412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19124" y="6995"/>
                </a:moveTo>
                <a:cubicBezTo>
                  <a:pt x="19075" y="7071"/>
                  <a:pt x="19075" y="7128"/>
                  <a:pt x="19075" y="7218"/>
                </a:cubicBezTo>
                <a:cubicBezTo>
                  <a:pt x="19075" y="7307"/>
                  <a:pt x="19086" y="7381"/>
                  <a:pt x="19100" y="7466"/>
                </a:cubicBezTo>
                <a:cubicBezTo>
                  <a:pt x="19113" y="7545"/>
                  <a:pt x="19124" y="7591"/>
                  <a:pt x="19124" y="7665"/>
                </a:cubicBezTo>
              </a:path>
              <a:path w="522" h="671">
                <a:moveTo>
                  <a:pt x="18901" y="7293"/>
                </a:moveTo>
                <a:cubicBezTo>
                  <a:pt x="18978" y="7247"/>
                  <a:pt x="19013" y="7283"/>
                  <a:pt x="19100" y="7293"/>
                </a:cubicBezTo>
                <a:cubicBezTo>
                  <a:pt x="19191" y="7304"/>
                  <a:pt x="19282" y="7313"/>
                  <a:pt x="19372" y="7317"/>
                </a:cubicBezTo>
                <a:cubicBezTo>
                  <a:pt x="19389" y="7317"/>
                  <a:pt x="19405" y="7317"/>
                  <a:pt x="19422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nk 16"/>
          <p:cNvSpPr/>
          <p:nvPr/>
        </p:nvSpPr>
        <p:spPr>
          <a:xfrm>
            <a:off x="7153200" y="2463840"/>
            <a:ext cx="187560" cy="341280"/>
          </a:xfrm>
          <a:custGeom>
            <a:avLst/>
            <a:gdLst/>
            <a:ahLst/>
            <a:rect l="l" t="t" r="r" b="b"/>
            <a:pathLst>
              <a:path w="521" h="944">
                <a:moveTo>
                  <a:pt x="19869" y="6970"/>
                </a:moveTo>
                <a:cubicBezTo>
                  <a:pt x="19910" y="6928"/>
                  <a:pt x="19941" y="6899"/>
                  <a:pt x="19993" y="6871"/>
                </a:cubicBezTo>
                <a:cubicBezTo>
                  <a:pt x="20057" y="6837"/>
                  <a:pt x="20127" y="6832"/>
                  <a:pt x="20191" y="6871"/>
                </a:cubicBezTo>
                <a:cubicBezTo>
                  <a:pt x="20264" y="6916"/>
                  <a:pt x="20305" y="6975"/>
                  <a:pt x="20340" y="7045"/>
                </a:cubicBezTo>
                <a:cubicBezTo>
                  <a:pt x="20383" y="7129"/>
                  <a:pt x="20406" y="7221"/>
                  <a:pt x="20389" y="7317"/>
                </a:cubicBezTo>
                <a:cubicBezTo>
                  <a:pt x="20370" y="7424"/>
                  <a:pt x="20321" y="7592"/>
                  <a:pt x="20241" y="7665"/>
                </a:cubicBezTo>
                <a:cubicBezTo>
                  <a:pt x="20141" y="7756"/>
                  <a:pt x="20082" y="7804"/>
                  <a:pt x="19968" y="7764"/>
                </a:cubicBezTo>
                <a:cubicBezTo>
                  <a:pt x="19892" y="7737"/>
                  <a:pt x="19911" y="7691"/>
                  <a:pt x="19918" y="7640"/>
                </a:cubicBezTo>
                <a:cubicBezTo>
                  <a:pt x="19926" y="7577"/>
                  <a:pt x="19937" y="7506"/>
                  <a:pt x="20017" y="7491"/>
                </a:cubicBezTo>
                <a:cubicBezTo>
                  <a:pt x="20113" y="7473"/>
                  <a:pt x="20147" y="7497"/>
                  <a:pt x="20216" y="7541"/>
                </a:cubicBezTo>
                <a:cubicBezTo>
                  <a:pt x="20294" y="7591"/>
                  <a:pt x="20281" y="7621"/>
                  <a:pt x="20315" y="7689"/>
                </a:cubicBezTo>
                <a:cubicBezTo>
                  <a:pt x="20338" y="7712"/>
                  <a:pt x="20342" y="7720"/>
                  <a:pt x="20365" y="77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nk 17"/>
          <p:cNvSpPr/>
          <p:nvPr/>
        </p:nvSpPr>
        <p:spPr>
          <a:xfrm>
            <a:off x="7535880" y="2446200"/>
            <a:ext cx="250920" cy="393840"/>
          </a:xfrm>
          <a:custGeom>
            <a:avLst/>
            <a:gdLst/>
            <a:ahLst/>
            <a:rect l="l" t="t" r="r" b="b"/>
            <a:pathLst>
              <a:path w="696" h="1093">
                <a:moveTo>
                  <a:pt x="20935" y="7268"/>
                </a:moveTo>
                <a:cubicBezTo>
                  <a:pt x="20943" y="7284"/>
                  <a:pt x="20952" y="7301"/>
                  <a:pt x="20960" y="7317"/>
                </a:cubicBezTo>
              </a:path>
              <a:path w="696" h="1093">
                <a:moveTo>
                  <a:pt x="21555" y="6871"/>
                </a:moveTo>
                <a:cubicBezTo>
                  <a:pt x="21445" y="6837"/>
                  <a:pt x="21300" y="6749"/>
                  <a:pt x="21183" y="6821"/>
                </a:cubicBezTo>
                <a:cubicBezTo>
                  <a:pt x="21125" y="6857"/>
                  <a:pt x="21163" y="6950"/>
                  <a:pt x="21183" y="6995"/>
                </a:cubicBezTo>
                <a:cubicBezTo>
                  <a:pt x="21228" y="7096"/>
                  <a:pt x="21310" y="7165"/>
                  <a:pt x="21382" y="7243"/>
                </a:cubicBezTo>
                <a:cubicBezTo>
                  <a:pt x="21485" y="7355"/>
                  <a:pt x="21515" y="7461"/>
                  <a:pt x="21580" y="7590"/>
                </a:cubicBezTo>
                <a:cubicBezTo>
                  <a:pt x="21616" y="7662"/>
                  <a:pt x="21655" y="7725"/>
                  <a:pt x="21630" y="7813"/>
                </a:cubicBezTo>
                <a:cubicBezTo>
                  <a:pt x="21608" y="7892"/>
                  <a:pt x="21502" y="7913"/>
                  <a:pt x="21431" y="7888"/>
                </a:cubicBezTo>
                <a:cubicBezTo>
                  <a:pt x="21390" y="7873"/>
                  <a:pt x="21320" y="7777"/>
                  <a:pt x="21307" y="7739"/>
                </a:cubicBezTo>
                <a:cubicBezTo>
                  <a:pt x="21288" y="7682"/>
                  <a:pt x="21359" y="7604"/>
                  <a:pt x="21382" y="7565"/>
                </a:cubicBezTo>
                <a:cubicBezTo>
                  <a:pt x="21440" y="7470"/>
                  <a:pt x="21491" y="7372"/>
                  <a:pt x="21530" y="7268"/>
                </a:cubicBezTo>
                <a:cubicBezTo>
                  <a:pt x="21563" y="7179"/>
                  <a:pt x="21597" y="7129"/>
                  <a:pt x="21555" y="7045"/>
                </a:cubicBezTo>
                <a:cubicBezTo>
                  <a:pt x="21547" y="7028"/>
                  <a:pt x="21538" y="7012"/>
                  <a:pt x="21530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nk 18"/>
          <p:cNvSpPr/>
          <p:nvPr/>
        </p:nvSpPr>
        <p:spPr>
          <a:xfrm>
            <a:off x="5983200" y="3081240"/>
            <a:ext cx="588960" cy="339840"/>
          </a:xfrm>
          <a:custGeom>
            <a:avLst/>
            <a:gdLst/>
            <a:ahLst/>
            <a:rect l="l" t="t" r="r" b="b"/>
            <a:pathLst>
              <a:path w="1638" h="943">
                <a:moveTo>
                  <a:pt x="16619" y="8706"/>
                </a:moveTo>
                <a:cubicBezTo>
                  <a:pt x="16713" y="8714"/>
                  <a:pt x="16796" y="8731"/>
                  <a:pt x="16892" y="8731"/>
                </a:cubicBezTo>
                <a:cubicBezTo>
                  <a:pt x="16966" y="8731"/>
                  <a:pt x="17041" y="8731"/>
                  <a:pt x="17115" y="8731"/>
                </a:cubicBezTo>
              </a:path>
              <a:path w="1638" h="943">
                <a:moveTo>
                  <a:pt x="17487" y="8558"/>
                </a:moveTo>
                <a:cubicBezTo>
                  <a:pt x="17487" y="8671"/>
                  <a:pt x="17503" y="8773"/>
                  <a:pt x="17512" y="8880"/>
                </a:cubicBezTo>
                <a:cubicBezTo>
                  <a:pt x="17522" y="8998"/>
                  <a:pt x="17487" y="9108"/>
                  <a:pt x="17487" y="9227"/>
                </a:cubicBezTo>
                <a:cubicBezTo>
                  <a:pt x="17487" y="9314"/>
                  <a:pt x="17467" y="9375"/>
                  <a:pt x="17462" y="9451"/>
                </a:cubicBezTo>
                <a:cubicBezTo>
                  <a:pt x="17462" y="9467"/>
                  <a:pt x="17462" y="9484"/>
                  <a:pt x="17462" y="9500"/>
                </a:cubicBezTo>
              </a:path>
              <a:path w="1638" h="943">
                <a:moveTo>
                  <a:pt x="17760" y="8781"/>
                </a:moveTo>
                <a:cubicBezTo>
                  <a:pt x="17858" y="8669"/>
                  <a:pt x="17854" y="8632"/>
                  <a:pt x="17983" y="8632"/>
                </a:cubicBezTo>
                <a:cubicBezTo>
                  <a:pt x="18055" y="8632"/>
                  <a:pt x="18100" y="8629"/>
                  <a:pt x="18132" y="8706"/>
                </a:cubicBezTo>
                <a:cubicBezTo>
                  <a:pt x="18149" y="8746"/>
                  <a:pt x="18168" y="8808"/>
                  <a:pt x="18157" y="8855"/>
                </a:cubicBezTo>
                <a:cubicBezTo>
                  <a:pt x="18131" y="8970"/>
                  <a:pt x="18108" y="8987"/>
                  <a:pt x="18058" y="9079"/>
                </a:cubicBezTo>
                <a:cubicBezTo>
                  <a:pt x="18014" y="9160"/>
                  <a:pt x="17941" y="9248"/>
                  <a:pt x="17909" y="9327"/>
                </a:cubicBezTo>
                <a:cubicBezTo>
                  <a:pt x="17909" y="9385"/>
                  <a:pt x="17909" y="9410"/>
                  <a:pt x="17909" y="9451"/>
                </a:cubicBezTo>
                <a:cubicBezTo>
                  <a:pt x="17982" y="9451"/>
                  <a:pt x="18037" y="9472"/>
                  <a:pt x="18107" y="9475"/>
                </a:cubicBezTo>
                <a:cubicBezTo>
                  <a:pt x="18182" y="9475"/>
                  <a:pt x="18206" y="9475"/>
                  <a:pt x="18256" y="94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nk 19"/>
          <p:cNvSpPr/>
          <p:nvPr/>
        </p:nvSpPr>
        <p:spPr>
          <a:xfrm>
            <a:off x="6777000" y="3187800"/>
            <a:ext cx="1620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9075" y="8855"/>
                </a:moveTo>
                <a:cubicBezTo>
                  <a:pt x="19057" y="8965"/>
                  <a:pt x="19050" y="9044"/>
                  <a:pt x="19050" y="9153"/>
                </a:cubicBezTo>
                <a:cubicBezTo>
                  <a:pt x="19050" y="9248"/>
                  <a:pt x="19081" y="9426"/>
                  <a:pt x="19025" y="9500"/>
                </a:cubicBezTo>
              </a:path>
              <a:path w="447" h="646">
                <a:moveTo>
                  <a:pt x="18827" y="9103"/>
                </a:moveTo>
                <a:cubicBezTo>
                  <a:pt x="18899" y="9061"/>
                  <a:pt x="18925" y="9095"/>
                  <a:pt x="19000" y="9103"/>
                </a:cubicBezTo>
                <a:cubicBezTo>
                  <a:pt x="19107" y="9114"/>
                  <a:pt x="19167" y="9139"/>
                  <a:pt x="19273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nk 20"/>
          <p:cNvSpPr/>
          <p:nvPr/>
        </p:nvSpPr>
        <p:spPr>
          <a:xfrm>
            <a:off x="7170840" y="3133800"/>
            <a:ext cx="339480" cy="349200"/>
          </a:xfrm>
          <a:custGeom>
            <a:avLst/>
            <a:gdLst/>
            <a:ahLst/>
            <a:rect l="l" t="t" r="r" b="b"/>
            <a:pathLst>
              <a:path w="944" h="969">
                <a:moveTo>
                  <a:pt x="19918" y="8706"/>
                </a:moveTo>
                <a:cubicBezTo>
                  <a:pt x="19949" y="8809"/>
                  <a:pt x="19903" y="8851"/>
                  <a:pt x="19918" y="8954"/>
                </a:cubicBezTo>
                <a:cubicBezTo>
                  <a:pt x="19933" y="9056"/>
                  <a:pt x="19943" y="9146"/>
                  <a:pt x="19943" y="9252"/>
                </a:cubicBezTo>
                <a:cubicBezTo>
                  <a:pt x="19943" y="9284"/>
                  <a:pt x="19922" y="9625"/>
                  <a:pt x="19968" y="9624"/>
                </a:cubicBezTo>
                <a:cubicBezTo>
                  <a:pt x="19968" y="9616"/>
                  <a:pt x="19968" y="9607"/>
                  <a:pt x="19968" y="9599"/>
                </a:cubicBezTo>
              </a:path>
              <a:path w="944" h="969">
                <a:moveTo>
                  <a:pt x="20389" y="8781"/>
                </a:moveTo>
                <a:cubicBezTo>
                  <a:pt x="20357" y="8878"/>
                  <a:pt x="20326" y="8979"/>
                  <a:pt x="20315" y="9079"/>
                </a:cubicBezTo>
                <a:cubicBezTo>
                  <a:pt x="20302" y="9192"/>
                  <a:pt x="20303" y="9265"/>
                  <a:pt x="20315" y="9376"/>
                </a:cubicBezTo>
                <a:cubicBezTo>
                  <a:pt x="20323" y="9451"/>
                  <a:pt x="20363" y="9554"/>
                  <a:pt x="20439" y="9599"/>
                </a:cubicBezTo>
                <a:cubicBezTo>
                  <a:pt x="20529" y="9652"/>
                  <a:pt x="20582" y="9674"/>
                  <a:pt x="20687" y="9674"/>
                </a:cubicBezTo>
                <a:cubicBezTo>
                  <a:pt x="20743" y="9674"/>
                  <a:pt x="20843" y="9662"/>
                  <a:pt x="20861" y="9599"/>
                </a:cubicBezTo>
                <a:cubicBezTo>
                  <a:pt x="20883" y="9521"/>
                  <a:pt x="20864" y="9433"/>
                  <a:pt x="20811" y="9376"/>
                </a:cubicBezTo>
                <a:cubicBezTo>
                  <a:pt x="20774" y="9337"/>
                  <a:pt x="20673" y="9283"/>
                  <a:pt x="20613" y="9302"/>
                </a:cubicBezTo>
                <a:cubicBezTo>
                  <a:pt x="20548" y="9322"/>
                  <a:pt x="20485" y="9400"/>
                  <a:pt x="20464" y="9451"/>
                </a:cubicBezTo>
                <a:cubicBezTo>
                  <a:pt x="20439" y="9525"/>
                  <a:pt x="20431" y="9550"/>
                  <a:pt x="20414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nk 21"/>
          <p:cNvSpPr/>
          <p:nvPr/>
        </p:nvSpPr>
        <p:spPr>
          <a:xfrm>
            <a:off x="6759720" y="3616200"/>
            <a:ext cx="241200" cy="544680"/>
          </a:xfrm>
          <a:custGeom>
            <a:avLst/>
            <a:gdLst/>
            <a:ahLst/>
            <a:rect l="l" t="t" r="r" b="b"/>
            <a:pathLst>
              <a:path w="671" h="1514">
                <a:moveTo>
                  <a:pt x="18951" y="10269"/>
                </a:moveTo>
                <a:cubicBezTo>
                  <a:pt x="18924" y="10364"/>
                  <a:pt x="18902" y="10482"/>
                  <a:pt x="18852" y="10567"/>
                </a:cubicBezTo>
                <a:cubicBezTo>
                  <a:pt x="18826" y="10610"/>
                  <a:pt x="18761" y="10641"/>
                  <a:pt x="18802" y="10641"/>
                </a:cubicBezTo>
                <a:cubicBezTo>
                  <a:pt x="18899" y="10641"/>
                  <a:pt x="18924" y="10671"/>
                  <a:pt x="19000" y="10691"/>
                </a:cubicBezTo>
                <a:cubicBezTo>
                  <a:pt x="19079" y="10712"/>
                  <a:pt x="19215" y="10735"/>
                  <a:pt x="19298" y="10716"/>
                </a:cubicBezTo>
                <a:cubicBezTo>
                  <a:pt x="19375" y="10699"/>
                  <a:pt x="19399" y="10690"/>
                  <a:pt x="19447" y="10641"/>
                </a:cubicBezTo>
              </a:path>
              <a:path w="671" h="1514">
                <a:moveTo>
                  <a:pt x="19422" y="10046"/>
                </a:moveTo>
                <a:cubicBezTo>
                  <a:pt x="19395" y="10154"/>
                  <a:pt x="19375" y="10256"/>
                  <a:pt x="19372" y="10368"/>
                </a:cubicBezTo>
                <a:cubicBezTo>
                  <a:pt x="19368" y="10520"/>
                  <a:pt x="19367" y="10689"/>
                  <a:pt x="19348" y="10840"/>
                </a:cubicBezTo>
                <a:cubicBezTo>
                  <a:pt x="19331" y="10974"/>
                  <a:pt x="19323" y="11100"/>
                  <a:pt x="19323" y="11237"/>
                </a:cubicBezTo>
                <a:cubicBezTo>
                  <a:pt x="19323" y="11334"/>
                  <a:pt x="19314" y="11427"/>
                  <a:pt x="19298" y="11509"/>
                </a:cubicBezTo>
                <a:cubicBezTo>
                  <a:pt x="19298" y="11551"/>
                  <a:pt x="19290" y="11567"/>
                  <a:pt x="19323" y="115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nk 22"/>
          <p:cNvSpPr/>
          <p:nvPr/>
        </p:nvSpPr>
        <p:spPr>
          <a:xfrm>
            <a:off x="2108160" y="3902040"/>
            <a:ext cx="1758960" cy="679320"/>
          </a:xfrm>
          <a:custGeom>
            <a:avLst/>
            <a:gdLst/>
            <a:ahLst/>
            <a:rect l="l" t="t" r="r" b="b"/>
            <a:pathLst>
              <a:path w="4887" h="1886">
                <a:moveTo>
                  <a:pt x="6697" y="10840"/>
                </a:moveTo>
                <a:cubicBezTo>
                  <a:pt x="6685" y="10908"/>
                  <a:pt x="6673" y="10938"/>
                  <a:pt x="6598" y="11013"/>
                </a:cubicBezTo>
                <a:cubicBezTo>
                  <a:pt x="6497" y="11114"/>
                  <a:pt x="6368" y="11200"/>
                  <a:pt x="6251" y="11286"/>
                </a:cubicBezTo>
                <a:cubicBezTo>
                  <a:pt x="6165" y="11349"/>
                  <a:pt x="6049" y="11405"/>
                  <a:pt x="5978" y="11485"/>
                </a:cubicBezTo>
                <a:cubicBezTo>
                  <a:pt x="5955" y="11510"/>
                  <a:pt x="5850" y="11589"/>
                  <a:pt x="5854" y="11633"/>
                </a:cubicBezTo>
                <a:cubicBezTo>
                  <a:pt x="5858" y="11675"/>
                  <a:pt x="5950" y="11753"/>
                  <a:pt x="5978" y="11782"/>
                </a:cubicBezTo>
                <a:cubicBezTo>
                  <a:pt x="6070" y="11878"/>
                  <a:pt x="6176" y="11942"/>
                  <a:pt x="6276" y="12030"/>
                </a:cubicBezTo>
                <a:cubicBezTo>
                  <a:pt x="6365" y="12108"/>
                  <a:pt x="6452" y="12168"/>
                  <a:pt x="6548" y="12229"/>
                </a:cubicBezTo>
                <a:cubicBezTo>
                  <a:pt x="6574" y="12246"/>
                  <a:pt x="6708" y="12364"/>
                  <a:pt x="6648" y="12303"/>
                </a:cubicBezTo>
                <a:cubicBezTo>
                  <a:pt x="6623" y="12278"/>
                  <a:pt x="6615" y="12270"/>
                  <a:pt x="6648" y="12254"/>
                </a:cubicBezTo>
              </a:path>
              <a:path w="4887" h="1886">
                <a:moveTo>
                  <a:pt x="6896" y="11286"/>
                </a:moveTo>
                <a:cubicBezTo>
                  <a:pt x="6946" y="11369"/>
                  <a:pt x="6890" y="11422"/>
                  <a:pt x="6896" y="11509"/>
                </a:cubicBezTo>
                <a:cubicBezTo>
                  <a:pt x="6903" y="11600"/>
                  <a:pt x="6907" y="11715"/>
                  <a:pt x="6921" y="11807"/>
                </a:cubicBezTo>
                <a:cubicBezTo>
                  <a:pt x="6938" y="11917"/>
                  <a:pt x="6981" y="12018"/>
                  <a:pt x="6995" y="12129"/>
                </a:cubicBezTo>
                <a:cubicBezTo>
                  <a:pt x="6995" y="12171"/>
                  <a:pt x="6995" y="12179"/>
                  <a:pt x="6995" y="12204"/>
                </a:cubicBezTo>
              </a:path>
              <a:path w="4887" h="1886">
                <a:moveTo>
                  <a:pt x="7565" y="11509"/>
                </a:moveTo>
                <a:cubicBezTo>
                  <a:pt x="7557" y="11418"/>
                  <a:pt x="7556" y="11379"/>
                  <a:pt x="7466" y="11361"/>
                </a:cubicBezTo>
                <a:cubicBezTo>
                  <a:pt x="7424" y="11353"/>
                  <a:pt x="7308" y="11352"/>
                  <a:pt x="7293" y="11410"/>
                </a:cubicBezTo>
                <a:cubicBezTo>
                  <a:pt x="7274" y="11484"/>
                  <a:pt x="7330" y="11572"/>
                  <a:pt x="7367" y="11633"/>
                </a:cubicBezTo>
                <a:cubicBezTo>
                  <a:pt x="7432" y="11740"/>
                  <a:pt x="7517" y="11811"/>
                  <a:pt x="7565" y="11931"/>
                </a:cubicBezTo>
                <a:cubicBezTo>
                  <a:pt x="7607" y="12037"/>
                  <a:pt x="7620" y="12069"/>
                  <a:pt x="7590" y="12179"/>
                </a:cubicBezTo>
                <a:cubicBezTo>
                  <a:pt x="7545" y="12173"/>
                  <a:pt x="7437" y="12161"/>
                  <a:pt x="7417" y="12105"/>
                </a:cubicBezTo>
                <a:cubicBezTo>
                  <a:pt x="7389" y="12024"/>
                  <a:pt x="7384" y="11936"/>
                  <a:pt x="7417" y="11857"/>
                </a:cubicBezTo>
                <a:cubicBezTo>
                  <a:pt x="7454" y="11767"/>
                  <a:pt x="7488" y="11724"/>
                  <a:pt x="7541" y="11658"/>
                </a:cubicBezTo>
                <a:cubicBezTo>
                  <a:pt x="7571" y="11620"/>
                  <a:pt x="7615" y="11557"/>
                  <a:pt x="7665" y="11534"/>
                </a:cubicBezTo>
                <a:cubicBezTo>
                  <a:pt x="7673" y="11534"/>
                  <a:pt x="7681" y="11534"/>
                  <a:pt x="7689" y="11534"/>
                </a:cubicBezTo>
              </a:path>
              <a:path w="4887" h="1886">
                <a:moveTo>
                  <a:pt x="7888" y="12254"/>
                </a:moveTo>
                <a:cubicBezTo>
                  <a:pt x="7888" y="12353"/>
                  <a:pt x="7888" y="12452"/>
                  <a:pt x="7888" y="12551"/>
                </a:cubicBezTo>
              </a:path>
              <a:path w="4887" h="1886">
                <a:moveTo>
                  <a:pt x="8186" y="11757"/>
                </a:moveTo>
                <a:cubicBezTo>
                  <a:pt x="8284" y="11757"/>
                  <a:pt x="8363" y="11743"/>
                  <a:pt x="8458" y="11733"/>
                </a:cubicBezTo>
              </a:path>
              <a:path w="4887" h="1886">
                <a:moveTo>
                  <a:pt x="8731" y="11485"/>
                </a:moveTo>
                <a:cubicBezTo>
                  <a:pt x="8862" y="11429"/>
                  <a:pt x="8875" y="11431"/>
                  <a:pt x="9004" y="11485"/>
                </a:cubicBezTo>
                <a:cubicBezTo>
                  <a:pt x="9077" y="11516"/>
                  <a:pt x="9156" y="11577"/>
                  <a:pt x="9103" y="11658"/>
                </a:cubicBezTo>
                <a:cubicBezTo>
                  <a:pt x="9052" y="11736"/>
                  <a:pt x="8953" y="11786"/>
                  <a:pt x="8880" y="11832"/>
                </a:cubicBezTo>
                <a:cubicBezTo>
                  <a:pt x="8814" y="11874"/>
                  <a:pt x="8750" y="11921"/>
                  <a:pt x="8731" y="12005"/>
                </a:cubicBezTo>
                <a:cubicBezTo>
                  <a:pt x="8715" y="12075"/>
                  <a:pt x="8765" y="12158"/>
                  <a:pt x="8806" y="12204"/>
                </a:cubicBezTo>
                <a:cubicBezTo>
                  <a:pt x="8875" y="12282"/>
                  <a:pt x="8941" y="12345"/>
                  <a:pt x="9054" y="12328"/>
                </a:cubicBezTo>
                <a:cubicBezTo>
                  <a:pt x="9121" y="12305"/>
                  <a:pt x="9139" y="12300"/>
                  <a:pt x="9178" y="12278"/>
                </a:cubicBezTo>
              </a:path>
              <a:path w="4887" h="1886">
                <a:moveTo>
                  <a:pt x="9401" y="11509"/>
                </a:moveTo>
                <a:cubicBezTo>
                  <a:pt x="9365" y="11570"/>
                  <a:pt x="9379" y="11622"/>
                  <a:pt x="9426" y="11683"/>
                </a:cubicBezTo>
                <a:cubicBezTo>
                  <a:pt x="9463" y="11731"/>
                  <a:pt x="9566" y="11816"/>
                  <a:pt x="9624" y="11832"/>
                </a:cubicBezTo>
                <a:cubicBezTo>
                  <a:pt x="9641" y="11832"/>
                  <a:pt x="9657" y="11832"/>
                  <a:pt x="9674" y="11832"/>
                </a:cubicBezTo>
              </a:path>
              <a:path w="4887" h="1886">
                <a:moveTo>
                  <a:pt x="9674" y="11311"/>
                </a:moveTo>
                <a:cubicBezTo>
                  <a:pt x="9654" y="11480"/>
                  <a:pt x="9637" y="11616"/>
                  <a:pt x="9674" y="11782"/>
                </a:cubicBezTo>
                <a:cubicBezTo>
                  <a:pt x="9702" y="11909"/>
                  <a:pt x="9708" y="12028"/>
                  <a:pt x="9748" y="12154"/>
                </a:cubicBezTo>
                <a:cubicBezTo>
                  <a:pt x="9776" y="12242"/>
                  <a:pt x="9781" y="12306"/>
                  <a:pt x="9847" y="12328"/>
                </a:cubicBezTo>
              </a:path>
              <a:path w="4887" h="1886">
                <a:moveTo>
                  <a:pt x="9872" y="10988"/>
                </a:moveTo>
                <a:cubicBezTo>
                  <a:pt x="9974" y="11001"/>
                  <a:pt x="10007" y="11060"/>
                  <a:pt x="10096" y="11112"/>
                </a:cubicBezTo>
                <a:cubicBezTo>
                  <a:pt x="10227" y="11188"/>
                  <a:pt x="10324" y="11291"/>
                  <a:pt x="10443" y="11385"/>
                </a:cubicBezTo>
                <a:cubicBezTo>
                  <a:pt x="10520" y="11445"/>
                  <a:pt x="10605" y="11490"/>
                  <a:pt x="10691" y="11534"/>
                </a:cubicBezTo>
                <a:cubicBezTo>
                  <a:pt x="10707" y="11542"/>
                  <a:pt x="10724" y="11551"/>
                  <a:pt x="10740" y="11559"/>
                </a:cubicBezTo>
                <a:cubicBezTo>
                  <a:pt x="10682" y="11665"/>
                  <a:pt x="10610" y="11758"/>
                  <a:pt x="10542" y="11857"/>
                </a:cubicBezTo>
                <a:cubicBezTo>
                  <a:pt x="10397" y="12067"/>
                  <a:pt x="10238" y="12266"/>
                  <a:pt x="10096" y="12477"/>
                </a:cubicBezTo>
                <a:cubicBezTo>
                  <a:pt x="10021" y="12601"/>
                  <a:pt x="9996" y="12642"/>
                  <a:pt x="9947" y="127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 Finish lesson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:  Review lessons 6.3 and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:  TEST on lessons 6.3 and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nk 4"/>
          <p:cNvSpPr/>
          <p:nvPr/>
        </p:nvSpPr>
        <p:spPr>
          <a:xfrm>
            <a:off x="795240" y="1517760"/>
            <a:ext cx="384120" cy="420480"/>
          </a:xfrm>
          <a:custGeom>
            <a:avLst/>
            <a:gdLst/>
            <a:ahLst/>
            <a:rect l="l" t="t" r="r" b="b"/>
            <a:pathLst>
              <a:path w="1067" h="1167">
                <a:moveTo>
                  <a:pt x="2530" y="4390"/>
                </a:moveTo>
                <a:cubicBezTo>
                  <a:pt x="2530" y="4606"/>
                  <a:pt x="2538" y="4827"/>
                  <a:pt x="2505" y="5035"/>
                </a:cubicBezTo>
                <a:cubicBezTo>
                  <a:pt x="2502" y="5051"/>
                  <a:pt x="2505" y="5227"/>
                  <a:pt x="2505" y="5159"/>
                </a:cubicBezTo>
              </a:path>
              <a:path w="1067" h="1167">
                <a:moveTo>
                  <a:pt x="2729" y="4564"/>
                </a:moveTo>
                <a:cubicBezTo>
                  <a:pt x="2729" y="4691"/>
                  <a:pt x="2684" y="4923"/>
                  <a:pt x="2753" y="5035"/>
                </a:cubicBezTo>
                <a:cubicBezTo>
                  <a:pt x="2776" y="5073"/>
                  <a:pt x="2887" y="5116"/>
                  <a:pt x="2927" y="5085"/>
                </a:cubicBezTo>
                <a:cubicBezTo>
                  <a:pt x="2967" y="5054"/>
                  <a:pt x="3041" y="4969"/>
                  <a:pt x="3051" y="4911"/>
                </a:cubicBezTo>
                <a:cubicBezTo>
                  <a:pt x="3066" y="4827"/>
                  <a:pt x="3075" y="4746"/>
                  <a:pt x="3051" y="4663"/>
                </a:cubicBezTo>
                <a:cubicBezTo>
                  <a:pt x="3024" y="4568"/>
                  <a:pt x="2937" y="4547"/>
                  <a:pt x="2853" y="4539"/>
                </a:cubicBezTo>
                <a:cubicBezTo>
                  <a:pt x="2776" y="4532"/>
                  <a:pt x="2746" y="4620"/>
                  <a:pt x="2828" y="4490"/>
                </a:cubicBezTo>
              </a:path>
              <a:path w="1067" h="1167">
                <a:moveTo>
                  <a:pt x="2902" y="4341"/>
                </a:moveTo>
                <a:cubicBezTo>
                  <a:pt x="2883" y="4264"/>
                  <a:pt x="2890" y="4247"/>
                  <a:pt x="2853" y="4217"/>
                </a:cubicBezTo>
                <a:cubicBezTo>
                  <a:pt x="2744" y="4227"/>
                  <a:pt x="2692" y="4253"/>
                  <a:pt x="2604" y="4316"/>
                </a:cubicBezTo>
                <a:cubicBezTo>
                  <a:pt x="2494" y="4394"/>
                  <a:pt x="2411" y="4480"/>
                  <a:pt x="2332" y="4589"/>
                </a:cubicBezTo>
                <a:cubicBezTo>
                  <a:pt x="2274" y="4669"/>
                  <a:pt x="2222" y="4788"/>
                  <a:pt x="2208" y="4887"/>
                </a:cubicBezTo>
                <a:cubicBezTo>
                  <a:pt x="2195" y="4974"/>
                  <a:pt x="2203" y="5086"/>
                  <a:pt x="2257" y="5159"/>
                </a:cubicBezTo>
                <a:cubicBezTo>
                  <a:pt x="2311" y="5232"/>
                  <a:pt x="2396" y="5298"/>
                  <a:pt x="2480" y="5333"/>
                </a:cubicBezTo>
                <a:cubicBezTo>
                  <a:pt x="2587" y="5378"/>
                  <a:pt x="2697" y="5367"/>
                  <a:pt x="2803" y="5358"/>
                </a:cubicBezTo>
                <a:cubicBezTo>
                  <a:pt x="2892" y="5350"/>
                  <a:pt x="2969" y="5321"/>
                  <a:pt x="3051" y="5283"/>
                </a:cubicBezTo>
                <a:cubicBezTo>
                  <a:pt x="3097" y="5261"/>
                  <a:pt x="3204" y="5187"/>
                  <a:pt x="3225" y="5135"/>
                </a:cubicBezTo>
                <a:cubicBezTo>
                  <a:pt x="3250" y="5075"/>
                  <a:pt x="3271" y="4978"/>
                  <a:pt x="3274" y="4911"/>
                </a:cubicBezTo>
                <a:cubicBezTo>
                  <a:pt x="3279" y="4793"/>
                  <a:pt x="3281" y="4674"/>
                  <a:pt x="3249" y="4564"/>
                </a:cubicBezTo>
                <a:cubicBezTo>
                  <a:pt x="3228" y="4491"/>
                  <a:pt x="3194" y="4404"/>
                  <a:pt x="3150" y="4341"/>
                </a:cubicBezTo>
                <a:cubicBezTo>
                  <a:pt x="3115" y="4291"/>
                  <a:pt x="3033" y="4275"/>
                  <a:pt x="2977" y="4291"/>
                </a:cubicBezTo>
                <a:cubicBezTo>
                  <a:pt x="2915" y="4308"/>
                  <a:pt x="2874" y="4350"/>
                  <a:pt x="2828" y="43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nk 5"/>
          <p:cNvSpPr/>
          <p:nvPr/>
        </p:nvSpPr>
        <p:spPr>
          <a:xfrm>
            <a:off x="1490760" y="1393920"/>
            <a:ext cx="447480" cy="480960"/>
          </a:xfrm>
          <a:custGeom>
            <a:avLst/>
            <a:gdLst/>
            <a:ahLst/>
            <a:rect l="l" t="t" r="r" b="b"/>
            <a:pathLst>
              <a:path w="1242" h="1340">
                <a:moveTo>
                  <a:pt x="4316" y="4043"/>
                </a:moveTo>
                <a:cubicBezTo>
                  <a:pt x="4316" y="4139"/>
                  <a:pt x="4327" y="4277"/>
                  <a:pt x="4291" y="4366"/>
                </a:cubicBezTo>
                <a:cubicBezTo>
                  <a:pt x="4262" y="4437"/>
                  <a:pt x="4204" y="4524"/>
                  <a:pt x="4167" y="4589"/>
                </a:cubicBezTo>
                <a:cubicBezTo>
                  <a:pt x="4159" y="4605"/>
                  <a:pt x="4150" y="4622"/>
                  <a:pt x="4142" y="4638"/>
                </a:cubicBezTo>
                <a:cubicBezTo>
                  <a:pt x="4202" y="4674"/>
                  <a:pt x="4266" y="4663"/>
                  <a:pt x="4341" y="4663"/>
                </a:cubicBezTo>
                <a:cubicBezTo>
                  <a:pt x="4396" y="4663"/>
                  <a:pt x="4494" y="4665"/>
                  <a:pt x="4539" y="4638"/>
                </a:cubicBezTo>
                <a:cubicBezTo>
                  <a:pt x="4585" y="4592"/>
                  <a:pt x="4598" y="4578"/>
                  <a:pt x="4638" y="4564"/>
                </a:cubicBezTo>
              </a:path>
              <a:path w="1242" h="1340">
                <a:moveTo>
                  <a:pt x="4663" y="3870"/>
                </a:moveTo>
                <a:cubicBezTo>
                  <a:pt x="4638" y="3962"/>
                  <a:pt x="4599" y="4073"/>
                  <a:pt x="4589" y="4167"/>
                </a:cubicBezTo>
                <a:cubicBezTo>
                  <a:pt x="4573" y="4322"/>
                  <a:pt x="4566" y="4486"/>
                  <a:pt x="4539" y="4638"/>
                </a:cubicBezTo>
                <a:cubicBezTo>
                  <a:pt x="4521" y="4740"/>
                  <a:pt x="4494" y="4855"/>
                  <a:pt x="4514" y="4961"/>
                </a:cubicBezTo>
                <a:cubicBezTo>
                  <a:pt x="4529" y="5042"/>
                  <a:pt x="4539" y="5101"/>
                  <a:pt x="4539" y="5184"/>
                </a:cubicBezTo>
              </a:path>
              <a:path w="1242" h="1340">
                <a:moveTo>
                  <a:pt x="4986" y="4638"/>
                </a:moveTo>
                <a:cubicBezTo>
                  <a:pt x="4986" y="4760"/>
                  <a:pt x="4977" y="4868"/>
                  <a:pt x="4961" y="4986"/>
                </a:cubicBezTo>
                <a:cubicBezTo>
                  <a:pt x="4954" y="5040"/>
                  <a:pt x="4983" y="5138"/>
                  <a:pt x="5011" y="5184"/>
                </a:cubicBezTo>
                <a:cubicBezTo>
                  <a:pt x="5040" y="5232"/>
                  <a:pt x="5171" y="5222"/>
                  <a:pt x="5209" y="5184"/>
                </a:cubicBezTo>
                <a:cubicBezTo>
                  <a:pt x="5270" y="5123"/>
                  <a:pt x="5299" y="5039"/>
                  <a:pt x="5333" y="4961"/>
                </a:cubicBezTo>
                <a:cubicBezTo>
                  <a:pt x="5366" y="4883"/>
                  <a:pt x="5383" y="4848"/>
                  <a:pt x="5383" y="4762"/>
                </a:cubicBezTo>
                <a:cubicBezTo>
                  <a:pt x="5383" y="4718"/>
                  <a:pt x="5386" y="4704"/>
                  <a:pt x="5358" y="4688"/>
                </a:cubicBezTo>
                <a:cubicBezTo>
                  <a:pt x="5358" y="4740"/>
                  <a:pt x="5319" y="4821"/>
                  <a:pt x="5333" y="4862"/>
                </a:cubicBezTo>
                <a:cubicBezTo>
                  <a:pt x="5358" y="4887"/>
                  <a:pt x="5366" y="4895"/>
                  <a:pt x="5383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nk 6"/>
          <p:cNvSpPr/>
          <p:nvPr/>
        </p:nvSpPr>
        <p:spPr>
          <a:xfrm>
            <a:off x="2170080" y="1571760"/>
            <a:ext cx="3938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6052" y="4688"/>
                </a:moveTo>
                <a:cubicBezTo>
                  <a:pt x="6125" y="4651"/>
                  <a:pt x="6049" y="4710"/>
                  <a:pt x="6028" y="4738"/>
                </a:cubicBezTo>
                <a:cubicBezTo>
                  <a:pt x="6079" y="4738"/>
                  <a:pt x="6097" y="4736"/>
                  <a:pt x="6102" y="4688"/>
                </a:cubicBezTo>
              </a:path>
              <a:path w="1092" h="745">
                <a:moveTo>
                  <a:pt x="6524" y="4614"/>
                </a:moveTo>
                <a:cubicBezTo>
                  <a:pt x="6562" y="4713"/>
                  <a:pt x="6582" y="4819"/>
                  <a:pt x="6623" y="4911"/>
                </a:cubicBezTo>
                <a:cubicBezTo>
                  <a:pt x="6653" y="4979"/>
                  <a:pt x="6682" y="5051"/>
                  <a:pt x="6722" y="5110"/>
                </a:cubicBezTo>
                <a:cubicBezTo>
                  <a:pt x="6800" y="5076"/>
                  <a:pt x="6813" y="5006"/>
                  <a:pt x="6846" y="4911"/>
                </a:cubicBezTo>
                <a:cubicBezTo>
                  <a:pt x="6881" y="4810"/>
                  <a:pt x="6929" y="4714"/>
                  <a:pt x="6970" y="4614"/>
                </a:cubicBezTo>
                <a:cubicBezTo>
                  <a:pt x="7002" y="4536"/>
                  <a:pt x="7049" y="4482"/>
                  <a:pt x="7094" y="4415"/>
                </a:cubicBezTo>
                <a:cubicBezTo>
                  <a:pt x="7102" y="4399"/>
                  <a:pt x="7111" y="4382"/>
                  <a:pt x="7119" y="43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nk 7"/>
          <p:cNvSpPr/>
          <p:nvPr/>
        </p:nvSpPr>
        <p:spPr>
          <a:xfrm>
            <a:off x="1133640" y="2062080"/>
            <a:ext cx="3216240" cy="581040"/>
          </a:xfrm>
          <a:custGeom>
            <a:avLst/>
            <a:gdLst/>
            <a:ahLst/>
            <a:rect l="l" t="t" r="r" b="b"/>
            <a:pathLst>
              <a:path w="8931" h="1613">
                <a:moveTo>
                  <a:pt x="3795" y="5854"/>
                </a:moveTo>
                <a:cubicBezTo>
                  <a:pt x="3782" y="5946"/>
                  <a:pt x="3718" y="6032"/>
                  <a:pt x="3646" y="6102"/>
                </a:cubicBezTo>
                <a:cubicBezTo>
                  <a:pt x="3566" y="6180"/>
                  <a:pt x="3480" y="6247"/>
                  <a:pt x="3398" y="6325"/>
                </a:cubicBezTo>
                <a:cubicBezTo>
                  <a:pt x="3331" y="6389"/>
                  <a:pt x="3272" y="6445"/>
                  <a:pt x="3200" y="6499"/>
                </a:cubicBezTo>
                <a:cubicBezTo>
                  <a:pt x="3175" y="6524"/>
                  <a:pt x="3167" y="6532"/>
                  <a:pt x="3150" y="6548"/>
                </a:cubicBezTo>
                <a:cubicBezTo>
                  <a:pt x="3188" y="6586"/>
                  <a:pt x="3229" y="6622"/>
                  <a:pt x="3274" y="6648"/>
                </a:cubicBezTo>
                <a:cubicBezTo>
                  <a:pt x="3347" y="6691"/>
                  <a:pt x="3422" y="6733"/>
                  <a:pt x="3497" y="6772"/>
                </a:cubicBezTo>
                <a:cubicBezTo>
                  <a:pt x="3553" y="6801"/>
                  <a:pt x="3636" y="6857"/>
                  <a:pt x="3696" y="6871"/>
                </a:cubicBezTo>
                <a:cubicBezTo>
                  <a:pt x="3713" y="6875"/>
                  <a:pt x="3858" y="6896"/>
                  <a:pt x="3845" y="6945"/>
                </a:cubicBezTo>
                <a:cubicBezTo>
                  <a:pt x="3837" y="6945"/>
                  <a:pt x="3828" y="6945"/>
                  <a:pt x="3820" y="6945"/>
                </a:cubicBezTo>
              </a:path>
              <a:path w="8931" h="1613">
                <a:moveTo>
                  <a:pt x="6028" y="5928"/>
                </a:moveTo>
                <a:cubicBezTo>
                  <a:pt x="6095" y="5962"/>
                  <a:pt x="6191" y="5988"/>
                  <a:pt x="6251" y="6028"/>
                </a:cubicBezTo>
                <a:cubicBezTo>
                  <a:pt x="6346" y="6091"/>
                  <a:pt x="6412" y="6099"/>
                  <a:pt x="6524" y="6127"/>
                </a:cubicBezTo>
                <a:cubicBezTo>
                  <a:pt x="6648" y="6158"/>
                  <a:pt x="6773" y="6225"/>
                  <a:pt x="6896" y="6251"/>
                </a:cubicBezTo>
                <a:cubicBezTo>
                  <a:pt x="6953" y="6263"/>
                  <a:pt x="6971" y="6247"/>
                  <a:pt x="7020" y="6276"/>
                </a:cubicBezTo>
                <a:cubicBezTo>
                  <a:pt x="6953" y="6390"/>
                  <a:pt x="6874" y="6482"/>
                  <a:pt x="6772" y="6573"/>
                </a:cubicBezTo>
                <a:cubicBezTo>
                  <a:pt x="6665" y="6669"/>
                  <a:pt x="6560" y="6780"/>
                  <a:pt x="6449" y="6871"/>
                </a:cubicBezTo>
                <a:cubicBezTo>
                  <a:pt x="6387" y="6922"/>
                  <a:pt x="6355" y="6965"/>
                  <a:pt x="6300" y="7020"/>
                </a:cubicBezTo>
              </a:path>
              <a:path w="8931" h="1613">
                <a:moveTo>
                  <a:pt x="4539" y="6201"/>
                </a:moveTo>
                <a:cubicBezTo>
                  <a:pt x="4539" y="6123"/>
                  <a:pt x="4554" y="6105"/>
                  <a:pt x="4514" y="6077"/>
                </a:cubicBezTo>
                <a:cubicBezTo>
                  <a:pt x="4420" y="6094"/>
                  <a:pt x="4350" y="6138"/>
                  <a:pt x="4266" y="6201"/>
                </a:cubicBezTo>
                <a:cubicBezTo>
                  <a:pt x="4190" y="6258"/>
                  <a:pt x="4167" y="6315"/>
                  <a:pt x="4217" y="6400"/>
                </a:cubicBezTo>
                <a:cubicBezTo>
                  <a:pt x="4264" y="6481"/>
                  <a:pt x="4407" y="6590"/>
                  <a:pt x="4465" y="6648"/>
                </a:cubicBezTo>
                <a:cubicBezTo>
                  <a:pt x="4509" y="6692"/>
                  <a:pt x="4606" y="6749"/>
                  <a:pt x="4589" y="6821"/>
                </a:cubicBezTo>
                <a:cubicBezTo>
                  <a:pt x="4581" y="6838"/>
                  <a:pt x="4572" y="6854"/>
                  <a:pt x="4564" y="6871"/>
                </a:cubicBezTo>
                <a:cubicBezTo>
                  <a:pt x="4463" y="6860"/>
                  <a:pt x="4427" y="6845"/>
                  <a:pt x="4366" y="6772"/>
                </a:cubicBezTo>
                <a:cubicBezTo>
                  <a:pt x="4327" y="6726"/>
                  <a:pt x="4348" y="6675"/>
                  <a:pt x="4366" y="6623"/>
                </a:cubicBezTo>
                <a:cubicBezTo>
                  <a:pt x="4396" y="6536"/>
                  <a:pt x="4487" y="6496"/>
                  <a:pt x="4539" y="6424"/>
                </a:cubicBezTo>
                <a:cubicBezTo>
                  <a:pt x="4579" y="6368"/>
                  <a:pt x="4625" y="6319"/>
                  <a:pt x="4638" y="6251"/>
                </a:cubicBezTo>
              </a:path>
              <a:path w="8931" h="1613">
                <a:moveTo>
                  <a:pt x="4837" y="6896"/>
                </a:moveTo>
                <a:cubicBezTo>
                  <a:pt x="4844" y="6919"/>
                  <a:pt x="4887" y="7157"/>
                  <a:pt x="4887" y="7119"/>
                </a:cubicBezTo>
              </a:path>
              <a:path w="8931" h="1613">
                <a:moveTo>
                  <a:pt x="5581" y="6127"/>
                </a:moveTo>
                <a:cubicBezTo>
                  <a:pt x="5511" y="6085"/>
                  <a:pt x="5480" y="6116"/>
                  <a:pt x="5407" y="6152"/>
                </a:cubicBezTo>
                <a:cubicBezTo>
                  <a:pt x="5358" y="6176"/>
                  <a:pt x="5249" y="6216"/>
                  <a:pt x="5234" y="6276"/>
                </a:cubicBezTo>
                <a:cubicBezTo>
                  <a:pt x="5204" y="6397"/>
                  <a:pt x="5335" y="6499"/>
                  <a:pt x="5407" y="6573"/>
                </a:cubicBezTo>
                <a:cubicBezTo>
                  <a:pt x="5495" y="6664"/>
                  <a:pt x="5604" y="6741"/>
                  <a:pt x="5631" y="6871"/>
                </a:cubicBezTo>
                <a:cubicBezTo>
                  <a:pt x="5631" y="6888"/>
                  <a:pt x="5631" y="6904"/>
                  <a:pt x="5631" y="6921"/>
                </a:cubicBezTo>
                <a:cubicBezTo>
                  <a:pt x="5580" y="6945"/>
                  <a:pt x="5451" y="6965"/>
                  <a:pt x="5407" y="6896"/>
                </a:cubicBezTo>
                <a:cubicBezTo>
                  <a:pt x="5367" y="6834"/>
                  <a:pt x="5430" y="6726"/>
                  <a:pt x="5457" y="6672"/>
                </a:cubicBezTo>
                <a:cubicBezTo>
                  <a:pt x="5503" y="6582"/>
                  <a:pt x="5560" y="6520"/>
                  <a:pt x="5631" y="6449"/>
                </a:cubicBezTo>
                <a:cubicBezTo>
                  <a:pt x="5681" y="6399"/>
                  <a:pt x="5720" y="6335"/>
                  <a:pt x="5755" y="6276"/>
                </a:cubicBezTo>
                <a:cubicBezTo>
                  <a:pt x="5763" y="6259"/>
                  <a:pt x="5771" y="6243"/>
                  <a:pt x="5779" y="6226"/>
                </a:cubicBezTo>
              </a:path>
              <a:path w="8931" h="1613">
                <a:moveTo>
                  <a:pt x="7615" y="6300"/>
                </a:moveTo>
                <a:cubicBezTo>
                  <a:pt x="7601" y="6314"/>
                  <a:pt x="7515" y="6383"/>
                  <a:pt x="7516" y="6400"/>
                </a:cubicBezTo>
                <a:cubicBezTo>
                  <a:pt x="7524" y="6416"/>
                  <a:pt x="7533" y="6433"/>
                  <a:pt x="7541" y="6449"/>
                </a:cubicBezTo>
                <a:cubicBezTo>
                  <a:pt x="7579" y="6443"/>
                  <a:pt x="7650" y="6426"/>
                  <a:pt x="7665" y="6375"/>
                </a:cubicBezTo>
                <a:cubicBezTo>
                  <a:pt x="7665" y="6358"/>
                  <a:pt x="7665" y="6342"/>
                  <a:pt x="7665" y="6325"/>
                </a:cubicBezTo>
                <a:cubicBezTo>
                  <a:pt x="7645" y="6317"/>
                  <a:pt x="7527" y="6323"/>
                  <a:pt x="7516" y="6375"/>
                </a:cubicBezTo>
                <a:cubicBezTo>
                  <a:pt x="7524" y="6383"/>
                  <a:pt x="7533" y="6392"/>
                  <a:pt x="7541" y="6400"/>
                </a:cubicBezTo>
              </a:path>
              <a:path w="8931" h="1613">
                <a:moveTo>
                  <a:pt x="8657" y="5730"/>
                </a:moveTo>
                <a:cubicBezTo>
                  <a:pt x="8647" y="5805"/>
                  <a:pt x="8617" y="5897"/>
                  <a:pt x="8558" y="5953"/>
                </a:cubicBezTo>
                <a:cubicBezTo>
                  <a:pt x="8457" y="6049"/>
                  <a:pt x="8336" y="6125"/>
                  <a:pt x="8235" y="6226"/>
                </a:cubicBezTo>
                <a:cubicBezTo>
                  <a:pt x="8154" y="6307"/>
                  <a:pt x="8077" y="6406"/>
                  <a:pt x="8012" y="6499"/>
                </a:cubicBezTo>
                <a:cubicBezTo>
                  <a:pt x="7967" y="6565"/>
                  <a:pt x="7943" y="6626"/>
                  <a:pt x="7987" y="6697"/>
                </a:cubicBezTo>
                <a:cubicBezTo>
                  <a:pt x="8034" y="6773"/>
                  <a:pt x="8086" y="6819"/>
                  <a:pt x="8161" y="6871"/>
                </a:cubicBezTo>
                <a:cubicBezTo>
                  <a:pt x="8272" y="6948"/>
                  <a:pt x="8378" y="7039"/>
                  <a:pt x="8483" y="7119"/>
                </a:cubicBezTo>
                <a:cubicBezTo>
                  <a:pt x="8542" y="7164"/>
                  <a:pt x="8644" y="7248"/>
                  <a:pt x="8731" y="7218"/>
                </a:cubicBezTo>
                <a:cubicBezTo>
                  <a:pt x="8756" y="7202"/>
                  <a:pt x="8781" y="7185"/>
                  <a:pt x="8806" y="7169"/>
                </a:cubicBezTo>
              </a:path>
              <a:path w="8931" h="1613">
                <a:moveTo>
                  <a:pt x="8731" y="6524"/>
                </a:moveTo>
                <a:cubicBezTo>
                  <a:pt x="8842" y="6524"/>
                  <a:pt x="8907" y="6531"/>
                  <a:pt x="9004" y="6499"/>
                </a:cubicBezTo>
              </a:path>
              <a:path w="8931" h="1613">
                <a:moveTo>
                  <a:pt x="9277" y="6028"/>
                </a:moveTo>
                <a:cubicBezTo>
                  <a:pt x="9395" y="6008"/>
                  <a:pt x="9429" y="6019"/>
                  <a:pt x="9525" y="6077"/>
                </a:cubicBezTo>
                <a:cubicBezTo>
                  <a:pt x="9592" y="6118"/>
                  <a:pt x="9631" y="6174"/>
                  <a:pt x="9575" y="6251"/>
                </a:cubicBezTo>
                <a:cubicBezTo>
                  <a:pt x="9526" y="6319"/>
                  <a:pt x="9425" y="6372"/>
                  <a:pt x="9351" y="6400"/>
                </a:cubicBezTo>
                <a:cubicBezTo>
                  <a:pt x="9295" y="6421"/>
                  <a:pt x="9248" y="6448"/>
                  <a:pt x="9203" y="6474"/>
                </a:cubicBezTo>
                <a:cubicBezTo>
                  <a:pt x="9266" y="6513"/>
                  <a:pt x="9304" y="6503"/>
                  <a:pt x="9376" y="6524"/>
                </a:cubicBezTo>
                <a:cubicBezTo>
                  <a:pt x="9511" y="6563"/>
                  <a:pt x="9651" y="6725"/>
                  <a:pt x="9624" y="6871"/>
                </a:cubicBezTo>
                <a:cubicBezTo>
                  <a:pt x="9609" y="6952"/>
                  <a:pt x="9567" y="7030"/>
                  <a:pt x="9500" y="7069"/>
                </a:cubicBezTo>
                <a:cubicBezTo>
                  <a:pt x="9433" y="7108"/>
                  <a:pt x="9357" y="7140"/>
                  <a:pt x="9277" y="7119"/>
                </a:cubicBezTo>
                <a:cubicBezTo>
                  <a:pt x="9204" y="7100"/>
                  <a:pt x="9156" y="7043"/>
                  <a:pt x="9103" y="6995"/>
                </a:cubicBezTo>
              </a:path>
              <a:path w="8931" h="1613">
                <a:moveTo>
                  <a:pt x="9847" y="6821"/>
                </a:moveTo>
                <a:cubicBezTo>
                  <a:pt x="9825" y="6992"/>
                  <a:pt x="9781" y="7072"/>
                  <a:pt x="9748" y="7218"/>
                </a:cubicBezTo>
                <a:cubicBezTo>
                  <a:pt x="9748" y="7235"/>
                  <a:pt x="9748" y="7251"/>
                  <a:pt x="9748" y="7268"/>
                </a:cubicBezTo>
              </a:path>
              <a:path w="8931" h="1613">
                <a:moveTo>
                  <a:pt x="10393" y="6201"/>
                </a:moveTo>
                <a:cubicBezTo>
                  <a:pt x="10383" y="6314"/>
                  <a:pt x="10354" y="6334"/>
                  <a:pt x="10294" y="6424"/>
                </a:cubicBezTo>
                <a:cubicBezTo>
                  <a:pt x="10267" y="6464"/>
                  <a:pt x="10248" y="6558"/>
                  <a:pt x="10319" y="6573"/>
                </a:cubicBezTo>
                <a:cubicBezTo>
                  <a:pt x="10394" y="6589"/>
                  <a:pt x="10497" y="6574"/>
                  <a:pt x="10567" y="6548"/>
                </a:cubicBezTo>
                <a:cubicBezTo>
                  <a:pt x="10616" y="6524"/>
                  <a:pt x="10633" y="6516"/>
                  <a:pt x="10666" y="6499"/>
                </a:cubicBezTo>
              </a:path>
              <a:path w="8931" h="1613">
                <a:moveTo>
                  <a:pt x="10840" y="6028"/>
                </a:moveTo>
                <a:cubicBezTo>
                  <a:pt x="10784" y="6179"/>
                  <a:pt x="10730" y="6337"/>
                  <a:pt x="10716" y="6499"/>
                </a:cubicBezTo>
                <a:cubicBezTo>
                  <a:pt x="10703" y="6643"/>
                  <a:pt x="10704" y="6805"/>
                  <a:pt x="10740" y="6945"/>
                </a:cubicBezTo>
                <a:cubicBezTo>
                  <a:pt x="10746" y="6970"/>
                  <a:pt x="10760" y="7169"/>
                  <a:pt x="10790" y="7169"/>
                </a:cubicBezTo>
                <a:cubicBezTo>
                  <a:pt x="10798" y="7161"/>
                  <a:pt x="10807" y="7152"/>
                  <a:pt x="10815" y="7144"/>
                </a:cubicBezTo>
              </a:path>
              <a:path w="8931" h="1613">
                <a:moveTo>
                  <a:pt x="11038" y="5829"/>
                </a:moveTo>
                <a:cubicBezTo>
                  <a:pt x="11184" y="5944"/>
                  <a:pt x="11332" y="6046"/>
                  <a:pt x="11485" y="6152"/>
                </a:cubicBezTo>
                <a:cubicBezTo>
                  <a:pt x="11606" y="6236"/>
                  <a:pt x="11730" y="6282"/>
                  <a:pt x="11857" y="6350"/>
                </a:cubicBezTo>
                <a:cubicBezTo>
                  <a:pt x="11939" y="6394"/>
                  <a:pt x="11989" y="6413"/>
                  <a:pt x="12080" y="6424"/>
                </a:cubicBezTo>
                <a:cubicBezTo>
                  <a:pt x="11943" y="6561"/>
                  <a:pt x="11815" y="6704"/>
                  <a:pt x="11683" y="6846"/>
                </a:cubicBezTo>
                <a:cubicBezTo>
                  <a:pt x="11529" y="7011"/>
                  <a:pt x="11369" y="7129"/>
                  <a:pt x="11286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nk 8"/>
          <p:cNvSpPr/>
          <p:nvPr/>
        </p:nvSpPr>
        <p:spPr>
          <a:xfrm>
            <a:off x="1170000" y="2911320"/>
            <a:ext cx="884160" cy="419400"/>
          </a:xfrm>
          <a:custGeom>
            <a:avLst/>
            <a:gdLst/>
            <a:ahLst/>
            <a:rect l="l" t="t" r="r" b="b"/>
            <a:pathLst>
              <a:path w="2457" h="1167">
                <a:moveTo>
                  <a:pt x="3795" y="8161"/>
                </a:moveTo>
                <a:cubicBezTo>
                  <a:pt x="3740" y="8083"/>
                  <a:pt x="3716" y="8086"/>
                  <a:pt x="3621" y="8086"/>
                </a:cubicBezTo>
                <a:cubicBezTo>
                  <a:pt x="3559" y="8086"/>
                  <a:pt x="3458" y="8094"/>
                  <a:pt x="3398" y="8111"/>
                </a:cubicBezTo>
                <a:cubicBezTo>
                  <a:pt x="3358" y="8122"/>
                  <a:pt x="3249" y="8189"/>
                  <a:pt x="3249" y="8235"/>
                </a:cubicBezTo>
                <a:cubicBezTo>
                  <a:pt x="3249" y="8376"/>
                  <a:pt x="3403" y="8452"/>
                  <a:pt x="3497" y="8558"/>
                </a:cubicBezTo>
                <a:cubicBezTo>
                  <a:pt x="3611" y="8687"/>
                  <a:pt x="3702" y="8766"/>
                  <a:pt x="3770" y="8930"/>
                </a:cubicBezTo>
                <a:cubicBezTo>
                  <a:pt x="3798" y="8997"/>
                  <a:pt x="3832" y="9078"/>
                  <a:pt x="3820" y="9153"/>
                </a:cubicBezTo>
                <a:cubicBezTo>
                  <a:pt x="3805" y="9249"/>
                  <a:pt x="3708" y="9274"/>
                  <a:pt x="3621" y="9227"/>
                </a:cubicBezTo>
                <a:cubicBezTo>
                  <a:pt x="3545" y="9186"/>
                  <a:pt x="3560" y="9084"/>
                  <a:pt x="3597" y="9004"/>
                </a:cubicBezTo>
                <a:cubicBezTo>
                  <a:pt x="3640" y="8910"/>
                  <a:pt x="3712" y="8817"/>
                  <a:pt x="3770" y="8731"/>
                </a:cubicBezTo>
                <a:cubicBezTo>
                  <a:pt x="3835" y="8634"/>
                  <a:pt x="3886" y="8532"/>
                  <a:pt x="3944" y="8434"/>
                </a:cubicBezTo>
                <a:cubicBezTo>
                  <a:pt x="3981" y="8372"/>
                  <a:pt x="4006" y="8341"/>
                  <a:pt x="4018" y="8285"/>
                </a:cubicBezTo>
              </a:path>
              <a:path w="2457" h="1167">
                <a:moveTo>
                  <a:pt x="4415" y="8731"/>
                </a:moveTo>
                <a:cubicBezTo>
                  <a:pt x="4423" y="8748"/>
                  <a:pt x="4432" y="8764"/>
                  <a:pt x="4440" y="8781"/>
                </a:cubicBezTo>
              </a:path>
              <a:path w="2457" h="1167">
                <a:moveTo>
                  <a:pt x="4663" y="8434"/>
                </a:moveTo>
                <a:cubicBezTo>
                  <a:pt x="4713" y="8426"/>
                  <a:pt x="4762" y="8417"/>
                  <a:pt x="4812" y="8409"/>
                </a:cubicBezTo>
              </a:path>
              <a:path w="2457" h="1167">
                <a:moveTo>
                  <a:pt x="5234" y="8136"/>
                </a:moveTo>
                <a:cubicBezTo>
                  <a:pt x="5306" y="8093"/>
                  <a:pt x="5356" y="8125"/>
                  <a:pt x="5432" y="8161"/>
                </a:cubicBezTo>
                <a:cubicBezTo>
                  <a:pt x="5499" y="8193"/>
                  <a:pt x="5525" y="8241"/>
                  <a:pt x="5531" y="8310"/>
                </a:cubicBezTo>
                <a:cubicBezTo>
                  <a:pt x="5537" y="8382"/>
                  <a:pt x="5488" y="8444"/>
                  <a:pt x="5432" y="8483"/>
                </a:cubicBezTo>
                <a:cubicBezTo>
                  <a:pt x="5398" y="8507"/>
                  <a:pt x="5291" y="8554"/>
                  <a:pt x="5259" y="8558"/>
                </a:cubicBezTo>
                <a:cubicBezTo>
                  <a:pt x="5214" y="8558"/>
                  <a:pt x="5201" y="8554"/>
                  <a:pt x="5184" y="8582"/>
                </a:cubicBezTo>
                <a:cubicBezTo>
                  <a:pt x="5279" y="8654"/>
                  <a:pt x="5318" y="8606"/>
                  <a:pt x="5432" y="8632"/>
                </a:cubicBezTo>
                <a:cubicBezTo>
                  <a:pt x="5513" y="8651"/>
                  <a:pt x="5582" y="8728"/>
                  <a:pt x="5631" y="8781"/>
                </a:cubicBezTo>
                <a:cubicBezTo>
                  <a:pt x="5687" y="8843"/>
                  <a:pt x="5700" y="8925"/>
                  <a:pt x="5705" y="9004"/>
                </a:cubicBezTo>
                <a:cubicBezTo>
                  <a:pt x="5710" y="9079"/>
                  <a:pt x="5592" y="9148"/>
                  <a:pt x="5531" y="9153"/>
                </a:cubicBezTo>
                <a:cubicBezTo>
                  <a:pt x="5467" y="9159"/>
                  <a:pt x="5210" y="9187"/>
                  <a:pt x="5234" y="9103"/>
                </a:cubicBezTo>
                <a:cubicBezTo>
                  <a:pt x="5242" y="9095"/>
                  <a:pt x="5251" y="9087"/>
                  <a:pt x="5259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nk 9"/>
          <p:cNvSpPr/>
          <p:nvPr/>
        </p:nvSpPr>
        <p:spPr>
          <a:xfrm>
            <a:off x="2232000" y="2928960"/>
            <a:ext cx="974880" cy="420840"/>
          </a:xfrm>
          <a:custGeom>
            <a:avLst/>
            <a:gdLst/>
            <a:ahLst/>
            <a:rect l="l" t="t" r="r" b="b"/>
            <a:pathLst>
              <a:path w="2705" h="1167">
                <a:moveTo>
                  <a:pt x="6300" y="8483"/>
                </a:moveTo>
                <a:cubicBezTo>
                  <a:pt x="6300" y="8636"/>
                  <a:pt x="6298" y="8782"/>
                  <a:pt x="6325" y="8930"/>
                </a:cubicBezTo>
                <a:cubicBezTo>
                  <a:pt x="6336" y="8992"/>
                  <a:pt x="6365" y="9052"/>
                  <a:pt x="6400" y="9103"/>
                </a:cubicBezTo>
              </a:path>
              <a:path w="2705" h="1167">
                <a:moveTo>
                  <a:pt x="6201" y="8806"/>
                </a:moveTo>
                <a:cubicBezTo>
                  <a:pt x="6322" y="8786"/>
                  <a:pt x="6426" y="8781"/>
                  <a:pt x="6548" y="8781"/>
                </a:cubicBezTo>
                <a:cubicBezTo>
                  <a:pt x="6581" y="8781"/>
                  <a:pt x="6615" y="8781"/>
                  <a:pt x="6648" y="8781"/>
                </a:cubicBezTo>
              </a:path>
              <a:path w="2705" h="1167">
                <a:moveTo>
                  <a:pt x="7367" y="8310"/>
                </a:moveTo>
                <a:cubicBezTo>
                  <a:pt x="7287" y="8264"/>
                  <a:pt x="7266" y="8260"/>
                  <a:pt x="7169" y="8260"/>
                </a:cubicBezTo>
                <a:cubicBezTo>
                  <a:pt x="7129" y="8260"/>
                  <a:pt x="6988" y="8285"/>
                  <a:pt x="6970" y="8334"/>
                </a:cubicBezTo>
                <a:cubicBezTo>
                  <a:pt x="6944" y="8405"/>
                  <a:pt x="6996" y="8512"/>
                  <a:pt x="7045" y="8558"/>
                </a:cubicBezTo>
                <a:cubicBezTo>
                  <a:pt x="7127" y="8635"/>
                  <a:pt x="7256" y="8704"/>
                  <a:pt x="7317" y="8806"/>
                </a:cubicBezTo>
                <a:cubicBezTo>
                  <a:pt x="7376" y="8905"/>
                  <a:pt x="7439" y="9038"/>
                  <a:pt x="7466" y="9153"/>
                </a:cubicBezTo>
                <a:cubicBezTo>
                  <a:pt x="7474" y="9187"/>
                  <a:pt x="7426" y="9255"/>
                  <a:pt x="7392" y="9252"/>
                </a:cubicBezTo>
                <a:cubicBezTo>
                  <a:pt x="7313" y="9245"/>
                  <a:pt x="7189" y="9178"/>
                  <a:pt x="7193" y="9079"/>
                </a:cubicBezTo>
                <a:cubicBezTo>
                  <a:pt x="7197" y="8979"/>
                  <a:pt x="7241" y="8890"/>
                  <a:pt x="7293" y="8806"/>
                </a:cubicBezTo>
                <a:cubicBezTo>
                  <a:pt x="7345" y="8723"/>
                  <a:pt x="7422" y="8655"/>
                  <a:pt x="7491" y="8582"/>
                </a:cubicBezTo>
                <a:cubicBezTo>
                  <a:pt x="7520" y="8551"/>
                  <a:pt x="7539" y="8517"/>
                  <a:pt x="7565" y="8483"/>
                </a:cubicBezTo>
              </a:path>
              <a:path w="2705" h="1167">
                <a:moveTo>
                  <a:pt x="7962" y="8706"/>
                </a:moveTo>
                <a:cubicBezTo>
                  <a:pt x="7970" y="8706"/>
                  <a:pt x="7979" y="8706"/>
                  <a:pt x="7987" y="8706"/>
                </a:cubicBezTo>
              </a:path>
              <a:path w="2705" h="1167">
                <a:moveTo>
                  <a:pt x="8334" y="8285"/>
                </a:moveTo>
                <a:cubicBezTo>
                  <a:pt x="8292" y="8343"/>
                  <a:pt x="8289" y="8409"/>
                  <a:pt x="8285" y="8483"/>
                </a:cubicBezTo>
                <a:cubicBezTo>
                  <a:pt x="8282" y="8530"/>
                  <a:pt x="8340" y="8614"/>
                  <a:pt x="8384" y="8632"/>
                </a:cubicBezTo>
                <a:cubicBezTo>
                  <a:pt x="8441" y="8655"/>
                  <a:pt x="8518" y="8657"/>
                  <a:pt x="8582" y="8657"/>
                </a:cubicBezTo>
                <a:cubicBezTo>
                  <a:pt x="8631" y="8657"/>
                  <a:pt x="8661" y="8641"/>
                  <a:pt x="8706" y="8632"/>
                </a:cubicBezTo>
              </a:path>
              <a:path w="2705" h="1167">
                <a:moveTo>
                  <a:pt x="8830" y="8136"/>
                </a:moveTo>
                <a:cubicBezTo>
                  <a:pt x="8808" y="8251"/>
                  <a:pt x="8784" y="8366"/>
                  <a:pt x="8781" y="8483"/>
                </a:cubicBezTo>
                <a:cubicBezTo>
                  <a:pt x="8777" y="8641"/>
                  <a:pt x="8790" y="8777"/>
                  <a:pt x="8830" y="8930"/>
                </a:cubicBezTo>
                <a:cubicBezTo>
                  <a:pt x="8863" y="9056"/>
                  <a:pt x="8896" y="9171"/>
                  <a:pt x="890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nk 10"/>
          <p:cNvSpPr/>
          <p:nvPr/>
        </p:nvSpPr>
        <p:spPr>
          <a:xfrm>
            <a:off x="1465200" y="3598920"/>
            <a:ext cx="722520" cy="393480"/>
          </a:xfrm>
          <a:custGeom>
            <a:avLst/>
            <a:gdLst/>
            <a:ahLst/>
            <a:rect l="l" t="t" r="r" b="b"/>
            <a:pathLst>
              <a:path w="2010" h="1093">
                <a:moveTo>
                  <a:pt x="4068" y="10368"/>
                </a:moveTo>
                <a:cubicBezTo>
                  <a:pt x="4218" y="10368"/>
                  <a:pt x="4370" y="10382"/>
                  <a:pt x="4514" y="10344"/>
                </a:cubicBezTo>
              </a:path>
              <a:path w="2010" h="1093">
                <a:moveTo>
                  <a:pt x="4862" y="10046"/>
                </a:moveTo>
                <a:cubicBezTo>
                  <a:pt x="5002" y="10021"/>
                  <a:pt x="5069" y="9988"/>
                  <a:pt x="5184" y="10071"/>
                </a:cubicBezTo>
                <a:cubicBezTo>
                  <a:pt x="5256" y="10123"/>
                  <a:pt x="5259" y="10190"/>
                  <a:pt x="5259" y="10269"/>
                </a:cubicBezTo>
                <a:cubicBezTo>
                  <a:pt x="5259" y="10340"/>
                  <a:pt x="5207" y="10440"/>
                  <a:pt x="5159" y="10492"/>
                </a:cubicBezTo>
                <a:cubicBezTo>
                  <a:pt x="5103" y="10552"/>
                  <a:pt x="5065" y="10623"/>
                  <a:pt x="5011" y="10691"/>
                </a:cubicBezTo>
                <a:cubicBezTo>
                  <a:pt x="4965" y="10748"/>
                  <a:pt x="4938" y="10807"/>
                  <a:pt x="4961" y="10889"/>
                </a:cubicBezTo>
                <a:cubicBezTo>
                  <a:pt x="4982" y="10964"/>
                  <a:pt x="5064" y="11002"/>
                  <a:pt x="5135" y="11013"/>
                </a:cubicBezTo>
                <a:cubicBezTo>
                  <a:pt x="5238" y="11029"/>
                  <a:pt x="5347" y="10981"/>
                  <a:pt x="5432" y="10939"/>
                </a:cubicBezTo>
              </a:path>
              <a:path w="2010" h="1093">
                <a:moveTo>
                  <a:pt x="5730" y="10195"/>
                </a:moveTo>
                <a:cubicBezTo>
                  <a:pt x="5730" y="10281"/>
                  <a:pt x="5727" y="10340"/>
                  <a:pt x="5755" y="10418"/>
                </a:cubicBezTo>
                <a:cubicBezTo>
                  <a:pt x="5785" y="10502"/>
                  <a:pt x="5816" y="10529"/>
                  <a:pt x="5879" y="10592"/>
                </a:cubicBezTo>
                <a:cubicBezTo>
                  <a:pt x="5938" y="10651"/>
                  <a:pt x="5949" y="10641"/>
                  <a:pt x="6028" y="10641"/>
                </a:cubicBezTo>
              </a:path>
              <a:path w="2010" h="1093">
                <a:moveTo>
                  <a:pt x="6077" y="10071"/>
                </a:moveTo>
                <a:cubicBezTo>
                  <a:pt x="6068" y="10183"/>
                  <a:pt x="6048" y="10308"/>
                  <a:pt x="6028" y="10418"/>
                </a:cubicBezTo>
                <a:cubicBezTo>
                  <a:pt x="6007" y="10532"/>
                  <a:pt x="5963" y="10645"/>
                  <a:pt x="5978" y="10765"/>
                </a:cubicBezTo>
                <a:cubicBezTo>
                  <a:pt x="5985" y="10825"/>
                  <a:pt x="5981" y="10957"/>
                  <a:pt x="6003" y="11013"/>
                </a:cubicBezTo>
                <a:cubicBezTo>
                  <a:pt x="6033" y="11043"/>
                  <a:pt x="6044" y="11057"/>
                  <a:pt x="6052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Ink 11"/>
          <p:cNvSpPr/>
          <p:nvPr/>
        </p:nvSpPr>
        <p:spPr>
          <a:xfrm>
            <a:off x="2374920" y="3643200"/>
            <a:ext cx="760320" cy="401760"/>
          </a:xfrm>
          <a:custGeom>
            <a:avLst/>
            <a:gdLst/>
            <a:ahLst/>
            <a:rect l="l" t="t" r="r" b="b"/>
            <a:pathLst>
              <a:path w="2109" h="1118">
                <a:moveTo>
                  <a:pt x="6772" y="10344"/>
                </a:moveTo>
                <a:cubicBezTo>
                  <a:pt x="6772" y="10522"/>
                  <a:pt x="6735" y="10745"/>
                  <a:pt x="6796" y="10914"/>
                </a:cubicBezTo>
                <a:cubicBezTo>
                  <a:pt x="6820" y="10980"/>
                  <a:pt x="6826" y="11032"/>
                  <a:pt x="6871" y="11088"/>
                </a:cubicBezTo>
              </a:path>
              <a:path w="2109" h="1118">
                <a:moveTo>
                  <a:pt x="6598" y="10691"/>
                </a:moveTo>
                <a:cubicBezTo>
                  <a:pt x="6742" y="10618"/>
                  <a:pt x="6749" y="10684"/>
                  <a:pt x="6896" y="10691"/>
                </a:cubicBezTo>
                <a:cubicBezTo>
                  <a:pt x="6946" y="10691"/>
                  <a:pt x="6995" y="10691"/>
                  <a:pt x="7045" y="10691"/>
                </a:cubicBezTo>
              </a:path>
              <a:path w="2109" h="1118">
                <a:moveTo>
                  <a:pt x="7466" y="10195"/>
                </a:moveTo>
                <a:cubicBezTo>
                  <a:pt x="7491" y="10178"/>
                  <a:pt x="7516" y="10162"/>
                  <a:pt x="7541" y="10145"/>
                </a:cubicBezTo>
                <a:cubicBezTo>
                  <a:pt x="7600" y="10190"/>
                  <a:pt x="7697" y="10198"/>
                  <a:pt x="7739" y="10269"/>
                </a:cubicBezTo>
                <a:cubicBezTo>
                  <a:pt x="7796" y="10365"/>
                  <a:pt x="7743" y="10393"/>
                  <a:pt x="7689" y="10443"/>
                </a:cubicBezTo>
                <a:cubicBezTo>
                  <a:pt x="7621" y="10506"/>
                  <a:pt x="7554" y="10474"/>
                  <a:pt x="7491" y="10517"/>
                </a:cubicBezTo>
                <a:cubicBezTo>
                  <a:pt x="7422" y="10565"/>
                  <a:pt x="7403" y="10567"/>
                  <a:pt x="7491" y="10567"/>
                </a:cubicBezTo>
                <a:cubicBezTo>
                  <a:pt x="7608" y="10567"/>
                  <a:pt x="7655" y="10621"/>
                  <a:pt x="7714" y="10716"/>
                </a:cubicBezTo>
                <a:cubicBezTo>
                  <a:pt x="7773" y="10810"/>
                  <a:pt x="7808" y="10877"/>
                  <a:pt x="7813" y="10988"/>
                </a:cubicBezTo>
                <a:cubicBezTo>
                  <a:pt x="7817" y="11086"/>
                  <a:pt x="7810" y="11103"/>
                  <a:pt x="7739" y="11162"/>
                </a:cubicBezTo>
                <a:cubicBezTo>
                  <a:pt x="7684" y="11207"/>
                  <a:pt x="7636" y="11234"/>
                  <a:pt x="7565" y="11237"/>
                </a:cubicBezTo>
                <a:cubicBezTo>
                  <a:pt x="7471" y="11241"/>
                  <a:pt x="7453" y="11220"/>
                  <a:pt x="7441" y="11137"/>
                </a:cubicBezTo>
              </a:path>
              <a:path w="2109" h="1118">
                <a:moveTo>
                  <a:pt x="8161" y="10195"/>
                </a:moveTo>
                <a:cubicBezTo>
                  <a:pt x="8259" y="10157"/>
                  <a:pt x="8401" y="10088"/>
                  <a:pt x="8483" y="10195"/>
                </a:cubicBezTo>
                <a:cubicBezTo>
                  <a:pt x="8533" y="10260"/>
                  <a:pt x="8504" y="10352"/>
                  <a:pt x="8483" y="10418"/>
                </a:cubicBezTo>
                <a:cubicBezTo>
                  <a:pt x="8452" y="10517"/>
                  <a:pt x="8411" y="10611"/>
                  <a:pt x="8359" y="10691"/>
                </a:cubicBezTo>
                <a:cubicBezTo>
                  <a:pt x="8311" y="10764"/>
                  <a:pt x="8237" y="10818"/>
                  <a:pt x="8186" y="10889"/>
                </a:cubicBezTo>
                <a:cubicBezTo>
                  <a:pt x="8151" y="10937"/>
                  <a:pt x="8112" y="11027"/>
                  <a:pt x="8136" y="11088"/>
                </a:cubicBezTo>
                <a:cubicBezTo>
                  <a:pt x="8153" y="11131"/>
                  <a:pt x="8273" y="11127"/>
                  <a:pt x="8310" y="11137"/>
                </a:cubicBezTo>
                <a:cubicBezTo>
                  <a:pt x="8397" y="11160"/>
                  <a:pt x="8543" y="11194"/>
                  <a:pt x="8632" y="11162"/>
                </a:cubicBezTo>
                <a:cubicBezTo>
                  <a:pt x="8657" y="11145"/>
                  <a:pt x="8681" y="11129"/>
                  <a:pt x="8706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Ink 12"/>
          <p:cNvSpPr/>
          <p:nvPr/>
        </p:nvSpPr>
        <p:spPr>
          <a:xfrm>
            <a:off x="2367000" y="4125960"/>
            <a:ext cx="660240" cy="884160"/>
          </a:xfrm>
          <a:custGeom>
            <a:avLst/>
            <a:gdLst/>
            <a:ahLst/>
            <a:rect l="l" t="t" r="r" b="b"/>
            <a:pathLst>
              <a:path w="1837" h="2456">
                <a:moveTo>
                  <a:pt x="7615" y="12650"/>
                </a:moveTo>
                <a:cubicBezTo>
                  <a:pt x="7697" y="12613"/>
                  <a:pt x="7750" y="12632"/>
                  <a:pt x="7739" y="12502"/>
                </a:cubicBezTo>
                <a:cubicBezTo>
                  <a:pt x="7733" y="12436"/>
                  <a:pt x="7656" y="12348"/>
                  <a:pt x="7615" y="12303"/>
                </a:cubicBezTo>
                <a:cubicBezTo>
                  <a:pt x="7560" y="12244"/>
                  <a:pt x="7520" y="12216"/>
                  <a:pt x="7441" y="12179"/>
                </a:cubicBezTo>
                <a:cubicBezTo>
                  <a:pt x="7367" y="12144"/>
                  <a:pt x="7342" y="12179"/>
                  <a:pt x="7268" y="12204"/>
                </a:cubicBezTo>
                <a:cubicBezTo>
                  <a:pt x="7262" y="12308"/>
                  <a:pt x="7250" y="12335"/>
                  <a:pt x="7293" y="12452"/>
                </a:cubicBezTo>
                <a:cubicBezTo>
                  <a:pt x="7360" y="12631"/>
                  <a:pt x="7461" y="12799"/>
                  <a:pt x="7541" y="12973"/>
                </a:cubicBezTo>
                <a:cubicBezTo>
                  <a:pt x="7589" y="13077"/>
                  <a:pt x="7658" y="13226"/>
                  <a:pt x="7640" y="13345"/>
                </a:cubicBezTo>
                <a:cubicBezTo>
                  <a:pt x="7629" y="13418"/>
                  <a:pt x="7622" y="13387"/>
                  <a:pt x="7590" y="13444"/>
                </a:cubicBezTo>
                <a:cubicBezTo>
                  <a:pt x="7539" y="13402"/>
                  <a:pt x="7487" y="13393"/>
                  <a:pt x="7466" y="13320"/>
                </a:cubicBezTo>
                <a:cubicBezTo>
                  <a:pt x="7447" y="13254"/>
                  <a:pt x="7484" y="13152"/>
                  <a:pt x="7516" y="13097"/>
                </a:cubicBezTo>
                <a:cubicBezTo>
                  <a:pt x="7562" y="13017"/>
                  <a:pt x="7613" y="12948"/>
                  <a:pt x="7665" y="12874"/>
                </a:cubicBezTo>
                <a:cubicBezTo>
                  <a:pt x="7731" y="12780"/>
                  <a:pt x="7798" y="12710"/>
                  <a:pt x="7838" y="12601"/>
                </a:cubicBezTo>
                <a:cubicBezTo>
                  <a:pt x="7876" y="12498"/>
                  <a:pt x="7928" y="12365"/>
                  <a:pt x="7913" y="12254"/>
                </a:cubicBezTo>
                <a:cubicBezTo>
                  <a:pt x="7896" y="12128"/>
                  <a:pt x="7872" y="12033"/>
                  <a:pt x="7789" y="11931"/>
                </a:cubicBezTo>
                <a:cubicBezTo>
                  <a:pt x="7711" y="11836"/>
                  <a:pt x="7658" y="11776"/>
                  <a:pt x="7541" y="11733"/>
                </a:cubicBezTo>
                <a:cubicBezTo>
                  <a:pt x="7423" y="11690"/>
                  <a:pt x="7312" y="11706"/>
                  <a:pt x="7193" y="11733"/>
                </a:cubicBezTo>
                <a:cubicBezTo>
                  <a:pt x="7021" y="11771"/>
                  <a:pt x="6909" y="11899"/>
                  <a:pt x="6796" y="12030"/>
                </a:cubicBezTo>
                <a:cubicBezTo>
                  <a:pt x="6682" y="12163"/>
                  <a:pt x="6635" y="12335"/>
                  <a:pt x="6598" y="12502"/>
                </a:cubicBezTo>
                <a:cubicBezTo>
                  <a:pt x="6562" y="12664"/>
                  <a:pt x="6590" y="12898"/>
                  <a:pt x="6672" y="13047"/>
                </a:cubicBezTo>
                <a:cubicBezTo>
                  <a:pt x="6776" y="13236"/>
                  <a:pt x="6927" y="13431"/>
                  <a:pt x="7069" y="13593"/>
                </a:cubicBezTo>
                <a:cubicBezTo>
                  <a:pt x="7174" y="13714"/>
                  <a:pt x="7401" y="13880"/>
                  <a:pt x="7565" y="13915"/>
                </a:cubicBezTo>
                <a:cubicBezTo>
                  <a:pt x="7687" y="13941"/>
                  <a:pt x="7883" y="13908"/>
                  <a:pt x="7987" y="13841"/>
                </a:cubicBezTo>
                <a:cubicBezTo>
                  <a:pt x="8108" y="13763"/>
                  <a:pt x="8200" y="13569"/>
                  <a:pt x="8260" y="13444"/>
                </a:cubicBezTo>
                <a:cubicBezTo>
                  <a:pt x="8343" y="13270"/>
                  <a:pt x="8396" y="13066"/>
                  <a:pt x="8409" y="12874"/>
                </a:cubicBezTo>
                <a:cubicBezTo>
                  <a:pt x="8422" y="12690"/>
                  <a:pt x="8396" y="12430"/>
                  <a:pt x="8334" y="12254"/>
                </a:cubicBezTo>
                <a:cubicBezTo>
                  <a:pt x="8270" y="12073"/>
                  <a:pt x="8137" y="11877"/>
                  <a:pt x="8012" y="11733"/>
                </a:cubicBezTo>
                <a:cubicBezTo>
                  <a:pt x="7843" y="11539"/>
                  <a:pt x="7588" y="11486"/>
                  <a:pt x="7342" y="11460"/>
                </a:cubicBezTo>
                <a:cubicBezTo>
                  <a:pt x="7115" y="11436"/>
                  <a:pt x="6941" y="11507"/>
                  <a:pt x="6747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Ink 13"/>
          <p:cNvSpPr/>
          <p:nvPr/>
        </p:nvSpPr>
        <p:spPr>
          <a:xfrm>
            <a:off x="1187280" y="411120"/>
            <a:ext cx="974880" cy="768240"/>
          </a:xfrm>
          <a:custGeom>
            <a:avLst/>
            <a:gdLst/>
            <a:ahLst/>
            <a:rect l="l" t="t" r="r" b="b"/>
            <a:pathLst>
              <a:path w="2705" h="2134">
                <a:moveTo>
                  <a:pt x="3299" y="2654"/>
                </a:moveTo>
                <a:cubicBezTo>
                  <a:pt x="3316" y="2825"/>
                  <a:pt x="3325" y="3025"/>
                  <a:pt x="3423" y="3175"/>
                </a:cubicBezTo>
                <a:cubicBezTo>
                  <a:pt x="3469" y="3246"/>
                  <a:pt x="3507" y="3294"/>
                  <a:pt x="3597" y="3274"/>
                </a:cubicBezTo>
                <a:cubicBezTo>
                  <a:pt x="3687" y="3254"/>
                  <a:pt x="3715" y="3182"/>
                  <a:pt x="3746" y="3101"/>
                </a:cubicBezTo>
                <a:cubicBezTo>
                  <a:pt x="3776" y="3024"/>
                  <a:pt x="3807" y="2885"/>
                  <a:pt x="3795" y="2803"/>
                </a:cubicBezTo>
                <a:cubicBezTo>
                  <a:pt x="3782" y="2713"/>
                  <a:pt x="3715" y="2639"/>
                  <a:pt x="3696" y="2555"/>
                </a:cubicBezTo>
                <a:cubicBezTo>
                  <a:pt x="3684" y="2500"/>
                  <a:pt x="3656" y="2457"/>
                  <a:pt x="3696" y="2431"/>
                </a:cubicBezTo>
              </a:path>
              <a:path w="2705" h="2134">
                <a:moveTo>
                  <a:pt x="3894" y="2555"/>
                </a:moveTo>
                <a:cubicBezTo>
                  <a:pt x="3933" y="2521"/>
                  <a:pt x="3995" y="2452"/>
                  <a:pt x="4043" y="2431"/>
                </a:cubicBezTo>
                <a:cubicBezTo>
                  <a:pt x="4051" y="2431"/>
                  <a:pt x="4060" y="2431"/>
                  <a:pt x="4068" y="2431"/>
                </a:cubicBezTo>
              </a:path>
              <a:path w="2705" h="2134">
                <a:moveTo>
                  <a:pt x="3919" y="2704"/>
                </a:moveTo>
                <a:cubicBezTo>
                  <a:pt x="4010" y="2667"/>
                  <a:pt x="4047" y="2625"/>
                  <a:pt x="4118" y="2555"/>
                </a:cubicBezTo>
              </a:path>
              <a:path w="2705" h="2134">
                <a:moveTo>
                  <a:pt x="4192" y="2059"/>
                </a:moveTo>
                <a:cubicBezTo>
                  <a:pt x="4238" y="1973"/>
                  <a:pt x="4254" y="1903"/>
                  <a:pt x="4366" y="1935"/>
                </a:cubicBezTo>
                <a:cubicBezTo>
                  <a:pt x="4462" y="1962"/>
                  <a:pt x="4488" y="2017"/>
                  <a:pt x="4514" y="2108"/>
                </a:cubicBezTo>
                <a:cubicBezTo>
                  <a:pt x="4552" y="2240"/>
                  <a:pt x="4531" y="2327"/>
                  <a:pt x="4490" y="2456"/>
                </a:cubicBezTo>
                <a:cubicBezTo>
                  <a:pt x="4458" y="2551"/>
                  <a:pt x="4438" y="2595"/>
                  <a:pt x="4390" y="2654"/>
                </a:cubicBezTo>
                <a:cubicBezTo>
                  <a:pt x="4400" y="2577"/>
                  <a:pt x="4413" y="2515"/>
                  <a:pt x="4490" y="2480"/>
                </a:cubicBezTo>
                <a:cubicBezTo>
                  <a:pt x="4562" y="2448"/>
                  <a:pt x="4642" y="2455"/>
                  <a:pt x="4713" y="2431"/>
                </a:cubicBezTo>
                <a:cubicBezTo>
                  <a:pt x="4729" y="2423"/>
                  <a:pt x="4746" y="2414"/>
                  <a:pt x="4762" y="2406"/>
                </a:cubicBezTo>
              </a:path>
              <a:path w="2705" h="2134">
                <a:moveTo>
                  <a:pt x="4936" y="2158"/>
                </a:moveTo>
                <a:cubicBezTo>
                  <a:pt x="4959" y="2274"/>
                  <a:pt x="4972" y="2441"/>
                  <a:pt x="5011" y="2555"/>
                </a:cubicBezTo>
                <a:cubicBezTo>
                  <a:pt x="5011" y="2547"/>
                  <a:pt x="5011" y="2538"/>
                  <a:pt x="5011" y="2530"/>
                </a:cubicBezTo>
              </a:path>
              <a:path w="2705" h="2134">
                <a:moveTo>
                  <a:pt x="4986" y="1687"/>
                </a:moveTo>
                <a:cubicBezTo>
                  <a:pt x="5062" y="1588"/>
                  <a:pt x="5103" y="1485"/>
                  <a:pt x="5234" y="1588"/>
                </a:cubicBezTo>
                <a:cubicBezTo>
                  <a:pt x="5283" y="1627"/>
                  <a:pt x="5269" y="1806"/>
                  <a:pt x="5259" y="1860"/>
                </a:cubicBezTo>
                <a:cubicBezTo>
                  <a:pt x="5245" y="1933"/>
                  <a:pt x="5204" y="2003"/>
                  <a:pt x="5159" y="2059"/>
                </a:cubicBezTo>
                <a:cubicBezTo>
                  <a:pt x="5225" y="2124"/>
                  <a:pt x="5264" y="2084"/>
                  <a:pt x="5358" y="2034"/>
                </a:cubicBezTo>
                <a:cubicBezTo>
                  <a:pt x="5456" y="1982"/>
                  <a:pt x="5517" y="1898"/>
                  <a:pt x="5581" y="1811"/>
                </a:cubicBezTo>
              </a:path>
              <a:path w="2705" h="2134">
                <a:moveTo>
                  <a:pt x="5383" y="1141"/>
                </a:moveTo>
                <a:cubicBezTo>
                  <a:pt x="5515" y="1166"/>
                  <a:pt x="5645" y="1210"/>
                  <a:pt x="5779" y="1215"/>
                </a:cubicBezTo>
                <a:cubicBezTo>
                  <a:pt x="5853" y="1218"/>
                  <a:pt x="5929" y="1215"/>
                  <a:pt x="6003" y="1215"/>
                </a:cubicBezTo>
                <a:cubicBezTo>
                  <a:pt x="5994" y="1322"/>
                  <a:pt x="5953" y="1469"/>
                  <a:pt x="5904" y="1563"/>
                </a:cubicBezTo>
                <a:cubicBezTo>
                  <a:pt x="5836" y="1691"/>
                  <a:pt x="5737" y="1812"/>
                  <a:pt x="5705" y="1960"/>
                </a:cubicBezTo>
                <a:cubicBezTo>
                  <a:pt x="5705" y="1976"/>
                  <a:pt x="5705" y="1993"/>
                  <a:pt x="5705" y="2009"/>
                </a:cubicBezTo>
              </a:path>
              <a:path w="2705" h="2134">
                <a:moveTo>
                  <a:pt x="4341" y="1538"/>
                </a:moveTo>
                <a:cubicBezTo>
                  <a:pt x="4330" y="1675"/>
                  <a:pt x="4293" y="1782"/>
                  <a:pt x="4242" y="1910"/>
                </a:cubicBezTo>
                <a:cubicBezTo>
                  <a:pt x="4185" y="2054"/>
                  <a:pt x="4113" y="2200"/>
                  <a:pt x="4093" y="2356"/>
                </a:cubicBezTo>
                <a:cubicBezTo>
                  <a:pt x="4085" y="2419"/>
                  <a:pt x="4081" y="2507"/>
                  <a:pt x="4118" y="2555"/>
                </a:cubicBezTo>
                <a:cubicBezTo>
                  <a:pt x="4177" y="2631"/>
                  <a:pt x="4342" y="2549"/>
                  <a:pt x="4415" y="2530"/>
                </a:cubicBezTo>
                <a:cubicBezTo>
                  <a:pt x="4505" y="2507"/>
                  <a:pt x="4529" y="2499"/>
                  <a:pt x="4589" y="25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nd Parallel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ectors are orthogonal if they are 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are orthogonal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s are parallel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r any scalar number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Ink 4"/>
          <p:cNvSpPr/>
          <p:nvPr/>
        </p:nvSpPr>
        <p:spPr>
          <a:xfrm>
            <a:off x="3125880" y="3813120"/>
            <a:ext cx="2633400" cy="455760"/>
          </a:xfrm>
          <a:custGeom>
            <a:avLst/>
            <a:gdLst/>
            <a:ahLst/>
            <a:rect l="l" t="t" r="r" b="b"/>
            <a:pathLst>
              <a:path w="7318" h="1266">
                <a:moveTo>
                  <a:pt x="9227" y="10914"/>
                </a:moveTo>
                <a:cubicBezTo>
                  <a:pt x="9171" y="10948"/>
                  <a:pt x="9130" y="11020"/>
                  <a:pt x="9079" y="11063"/>
                </a:cubicBezTo>
                <a:cubicBezTo>
                  <a:pt x="9023" y="11111"/>
                  <a:pt x="8941" y="11171"/>
                  <a:pt x="8880" y="11212"/>
                </a:cubicBezTo>
                <a:cubicBezTo>
                  <a:pt x="8818" y="11253"/>
                  <a:pt x="8759" y="11256"/>
                  <a:pt x="8706" y="11311"/>
                </a:cubicBezTo>
                <a:cubicBezTo>
                  <a:pt x="8698" y="11319"/>
                  <a:pt x="8690" y="11328"/>
                  <a:pt x="8682" y="11336"/>
                </a:cubicBezTo>
                <a:cubicBezTo>
                  <a:pt x="8722" y="11377"/>
                  <a:pt x="8764" y="11400"/>
                  <a:pt x="8806" y="11435"/>
                </a:cubicBezTo>
                <a:cubicBezTo>
                  <a:pt x="8891" y="11506"/>
                  <a:pt x="8955" y="11555"/>
                  <a:pt x="9054" y="11609"/>
                </a:cubicBezTo>
                <a:cubicBezTo>
                  <a:pt x="9145" y="11659"/>
                  <a:pt x="9233" y="11711"/>
                  <a:pt x="9327" y="11757"/>
                </a:cubicBezTo>
              </a:path>
              <a:path w="7318" h="1266">
                <a:moveTo>
                  <a:pt x="9699" y="11137"/>
                </a:moveTo>
                <a:cubicBezTo>
                  <a:pt x="9729" y="11076"/>
                  <a:pt x="9764" y="11020"/>
                  <a:pt x="9798" y="10964"/>
                </a:cubicBezTo>
                <a:cubicBezTo>
                  <a:pt x="9848" y="10881"/>
                  <a:pt x="9914" y="10913"/>
                  <a:pt x="9971" y="10988"/>
                </a:cubicBezTo>
                <a:cubicBezTo>
                  <a:pt x="10013" y="11043"/>
                  <a:pt x="10007" y="11197"/>
                  <a:pt x="9996" y="11261"/>
                </a:cubicBezTo>
                <a:cubicBezTo>
                  <a:pt x="9979" y="11361"/>
                  <a:pt x="9936" y="11460"/>
                  <a:pt x="9872" y="11534"/>
                </a:cubicBezTo>
                <a:cubicBezTo>
                  <a:pt x="9824" y="11590"/>
                  <a:pt x="9757" y="11656"/>
                  <a:pt x="9674" y="11633"/>
                </a:cubicBezTo>
                <a:cubicBezTo>
                  <a:pt x="9649" y="11609"/>
                  <a:pt x="9640" y="11601"/>
                  <a:pt x="9624" y="11584"/>
                </a:cubicBezTo>
                <a:cubicBezTo>
                  <a:pt x="9686" y="11521"/>
                  <a:pt x="9705" y="11517"/>
                  <a:pt x="9773" y="11584"/>
                </a:cubicBezTo>
                <a:cubicBezTo>
                  <a:pt x="9843" y="11653"/>
                  <a:pt x="9836" y="11705"/>
                  <a:pt x="9872" y="11782"/>
                </a:cubicBezTo>
                <a:cubicBezTo>
                  <a:pt x="9887" y="11814"/>
                  <a:pt x="9919" y="11825"/>
                  <a:pt x="9947" y="11832"/>
                </a:cubicBezTo>
              </a:path>
              <a:path w="7318" h="1266">
                <a:moveTo>
                  <a:pt x="10344" y="11559"/>
                </a:moveTo>
                <a:cubicBezTo>
                  <a:pt x="10320" y="11649"/>
                  <a:pt x="10276" y="11741"/>
                  <a:pt x="10269" y="11832"/>
                </a:cubicBezTo>
                <a:cubicBezTo>
                  <a:pt x="10269" y="11840"/>
                  <a:pt x="10269" y="11849"/>
                  <a:pt x="10269" y="11857"/>
                </a:cubicBezTo>
              </a:path>
              <a:path w="7318" h="1266">
                <a:moveTo>
                  <a:pt x="10567" y="10988"/>
                </a:moveTo>
                <a:cubicBezTo>
                  <a:pt x="10684" y="10871"/>
                  <a:pt x="10696" y="10846"/>
                  <a:pt x="10864" y="10840"/>
                </a:cubicBezTo>
                <a:cubicBezTo>
                  <a:pt x="10936" y="10837"/>
                  <a:pt x="10986" y="10883"/>
                  <a:pt x="10964" y="10964"/>
                </a:cubicBezTo>
                <a:cubicBezTo>
                  <a:pt x="10954" y="11000"/>
                  <a:pt x="10867" y="11047"/>
                  <a:pt x="10840" y="11063"/>
                </a:cubicBezTo>
                <a:cubicBezTo>
                  <a:pt x="10796" y="11090"/>
                  <a:pt x="10756" y="11105"/>
                  <a:pt x="10716" y="11137"/>
                </a:cubicBezTo>
                <a:cubicBezTo>
                  <a:pt x="10761" y="11143"/>
                  <a:pt x="10854" y="11151"/>
                  <a:pt x="10889" y="11187"/>
                </a:cubicBezTo>
                <a:cubicBezTo>
                  <a:pt x="10940" y="11239"/>
                  <a:pt x="11020" y="11366"/>
                  <a:pt x="11038" y="11435"/>
                </a:cubicBezTo>
                <a:cubicBezTo>
                  <a:pt x="11044" y="11460"/>
                  <a:pt x="11090" y="11660"/>
                  <a:pt x="11063" y="11683"/>
                </a:cubicBezTo>
                <a:cubicBezTo>
                  <a:pt x="10998" y="11739"/>
                  <a:pt x="10915" y="11706"/>
                  <a:pt x="10864" y="11658"/>
                </a:cubicBezTo>
                <a:cubicBezTo>
                  <a:pt x="10814" y="11611"/>
                  <a:pt x="10795" y="11569"/>
                  <a:pt x="10765" y="11509"/>
                </a:cubicBezTo>
              </a:path>
              <a:path w="7318" h="1266">
                <a:moveTo>
                  <a:pt x="11237" y="10740"/>
                </a:moveTo>
                <a:cubicBezTo>
                  <a:pt x="11375" y="10815"/>
                  <a:pt x="11502" y="10901"/>
                  <a:pt x="11633" y="10988"/>
                </a:cubicBezTo>
                <a:cubicBezTo>
                  <a:pt x="11717" y="11044"/>
                  <a:pt x="11803" y="11101"/>
                  <a:pt x="11881" y="11162"/>
                </a:cubicBezTo>
                <a:cubicBezTo>
                  <a:pt x="11942" y="11209"/>
                  <a:pt x="11931" y="11232"/>
                  <a:pt x="11881" y="11286"/>
                </a:cubicBezTo>
                <a:cubicBezTo>
                  <a:pt x="11806" y="11367"/>
                  <a:pt x="11712" y="11429"/>
                  <a:pt x="11633" y="11509"/>
                </a:cubicBezTo>
                <a:cubicBezTo>
                  <a:pt x="11578" y="11564"/>
                  <a:pt x="11563" y="11631"/>
                  <a:pt x="11559" y="11708"/>
                </a:cubicBezTo>
                <a:cubicBezTo>
                  <a:pt x="11559" y="11724"/>
                  <a:pt x="11559" y="11741"/>
                  <a:pt x="11559" y="11757"/>
                </a:cubicBezTo>
              </a:path>
              <a:path w="7318" h="1266">
                <a:moveTo>
                  <a:pt x="12427" y="11162"/>
                </a:moveTo>
                <a:cubicBezTo>
                  <a:pt x="12487" y="11188"/>
                  <a:pt x="12600" y="11203"/>
                  <a:pt x="12675" y="11212"/>
                </a:cubicBezTo>
                <a:cubicBezTo>
                  <a:pt x="12743" y="11220"/>
                  <a:pt x="12806" y="11229"/>
                  <a:pt x="12874" y="11237"/>
                </a:cubicBezTo>
              </a:path>
              <a:path w="7318" h="1266">
                <a:moveTo>
                  <a:pt x="13742" y="10790"/>
                </a:moveTo>
                <a:cubicBezTo>
                  <a:pt x="13701" y="10872"/>
                  <a:pt x="13658" y="10923"/>
                  <a:pt x="13593" y="10988"/>
                </a:cubicBezTo>
                <a:cubicBezTo>
                  <a:pt x="13547" y="11034"/>
                  <a:pt x="13499" y="11101"/>
                  <a:pt x="13444" y="11137"/>
                </a:cubicBezTo>
                <a:cubicBezTo>
                  <a:pt x="13401" y="11159"/>
                  <a:pt x="13389" y="11163"/>
                  <a:pt x="13370" y="11187"/>
                </a:cubicBezTo>
                <a:cubicBezTo>
                  <a:pt x="13465" y="11261"/>
                  <a:pt x="13580" y="11357"/>
                  <a:pt x="13692" y="11410"/>
                </a:cubicBezTo>
                <a:cubicBezTo>
                  <a:pt x="13776" y="11450"/>
                  <a:pt x="13841" y="11501"/>
                  <a:pt x="13915" y="11559"/>
                </a:cubicBezTo>
                <a:cubicBezTo>
                  <a:pt x="13956" y="11591"/>
                  <a:pt x="13977" y="11645"/>
                  <a:pt x="14015" y="11683"/>
                </a:cubicBezTo>
              </a:path>
              <a:path w="7318" h="1266">
                <a:moveTo>
                  <a:pt x="12626" y="11385"/>
                </a:moveTo>
                <a:cubicBezTo>
                  <a:pt x="12723" y="11365"/>
                  <a:pt x="12799" y="11361"/>
                  <a:pt x="12898" y="11361"/>
                </a:cubicBezTo>
                <a:cubicBezTo>
                  <a:pt x="12948" y="11361"/>
                  <a:pt x="12965" y="11361"/>
                  <a:pt x="12998" y="11361"/>
                </a:cubicBezTo>
              </a:path>
              <a:path w="7318" h="1266">
                <a:moveTo>
                  <a:pt x="12750" y="10889"/>
                </a:moveTo>
                <a:cubicBezTo>
                  <a:pt x="12831" y="10919"/>
                  <a:pt x="12951" y="10943"/>
                  <a:pt x="13022" y="10988"/>
                </a:cubicBezTo>
                <a:cubicBezTo>
                  <a:pt x="13047" y="11004"/>
                  <a:pt x="13186" y="11084"/>
                  <a:pt x="13196" y="11112"/>
                </a:cubicBezTo>
                <a:cubicBezTo>
                  <a:pt x="13217" y="11172"/>
                  <a:pt x="13182" y="11241"/>
                  <a:pt x="13146" y="11286"/>
                </a:cubicBezTo>
                <a:cubicBezTo>
                  <a:pt x="13081" y="11366"/>
                  <a:pt x="13022" y="11442"/>
                  <a:pt x="12973" y="11534"/>
                </a:cubicBezTo>
                <a:cubicBezTo>
                  <a:pt x="12941" y="11595"/>
                  <a:pt x="12961" y="11598"/>
                  <a:pt x="12973" y="11658"/>
                </a:cubicBezTo>
              </a:path>
              <a:path w="7318" h="1266">
                <a:moveTo>
                  <a:pt x="13990" y="11013"/>
                </a:moveTo>
                <a:cubicBezTo>
                  <a:pt x="13945" y="11058"/>
                  <a:pt x="13944" y="11088"/>
                  <a:pt x="13915" y="11137"/>
                </a:cubicBezTo>
                <a:cubicBezTo>
                  <a:pt x="13956" y="11178"/>
                  <a:pt x="14005" y="11224"/>
                  <a:pt x="14064" y="11237"/>
                </a:cubicBezTo>
                <a:cubicBezTo>
                  <a:pt x="14143" y="11255"/>
                  <a:pt x="14186" y="11265"/>
                  <a:pt x="14263" y="11237"/>
                </a:cubicBezTo>
              </a:path>
              <a:path w="7318" h="1266">
                <a:moveTo>
                  <a:pt x="14337" y="10914"/>
                </a:moveTo>
                <a:cubicBezTo>
                  <a:pt x="14288" y="11069"/>
                  <a:pt x="14263" y="11176"/>
                  <a:pt x="14263" y="11336"/>
                </a:cubicBezTo>
                <a:cubicBezTo>
                  <a:pt x="14263" y="11424"/>
                  <a:pt x="14298" y="11509"/>
                  <a:pt x="14312" y="11584"/>
                </a:cubicBezTo>
                <a:cubicBezTo>
                  <a:pt x="14312" y="11600"/>
                  <a:pt x="14312" y="11617"/>
                  <a:pt x="14312" y="11633"/>
                </a:cubicBezTo>
              </a:path>
              <a:path w="7318" h="1266">
                <a:moveTo>
                  <a:pt x="14610" y="11485"/>
                </a:moveTo>
                <a:cubicBezTo>
                  <a:pt x="14610" y="11590"/>
                  <a:pt x="14590" y="11681"/>
                  <a:pt x="14585" y="11782"/>
                </a:cubicBezTo>
                <a:cubicBezTo>
                  <a:pt x="14585" y="11824"/>
                  <a:pt x="14585" y="11832"/>
                  <a:pt x="14585" y="11857"/>
                </a:cubicBezTo>
              </a:path>
              <a:path w="7318" h="1266">
                <a:moveTo>
                  <a:pt x="14957" y="11063"/>
                </a:moveTo>
                <a:cubicBezTo>
                  <a:pt x="14949" y="11155"/>
                  <a:pt x="14898" y="11223"/>
                  <a:pt x="14883" y="11311"/>
                </a:cubicBezTo>
                <a:cubicBezTo>
                  <a:pt x="14866" y="11412"/>
                  <a:pt x="14918" y="11491"/>
                  <a:pt x="14982" y="11559"/>
                </a:cubicBezTo>
                <a:cubicBezTo>
                  <a:pt x="15027" y="11607"/>
                  <a:pt x="15160" y="11643"/>
                  <a:pt x="15230" y="11609"/>
                </a:cubicBezTo>
                <a:cubicBezTo>
                  <a:pt x="15295" y="11578"/>
                  <a:pt x="15340" y="11491"/>
                  <a:pt x="15354" y="11435"/>
                </a:cubicBezTo>
                <a:cubicBezTo>
                  <a:pt x="15298" y="11370"/>
                  <a:pt x="15244" y="11344"/>
                  <a:pt x="15156" y="11385"/>
                </a:cubicBezTo>
                <a:cubicBezTo>
                  <a:pt x="15076" y="11422"/>
                  <a:pt x="15107" y="11527"/>
                  <a:pt x="15131" y="11584"/>
                </a:cubicBezTo>
                <a:cubicBezTo>
                  <a:pt x="15153" y="11627"/>
                  <a:pt x="15157" y="11638"/>
                  <a:pt x="15180" y="11658"/>
                </a:cubicBezTo>
              </a:path>
              <a:path w="7318" h="1266">
                <a:moveTo>
                  <a:pt x="15304" y="10592"/>
                </a:moveTo>
                <a:cubicBezTo>
                  <a:pt x="15448" y="10703"/>
                  <a:pt x="15598" y="10790"/>
                  <a:pt x="15751" y="10889"/>
                </a:cubicBezTo>
                <a:cubicBezTo>
                  <a:pt x="15824" y="10936"/>
                  <a:pt x="15910" y="10980"/>
                  <a:pt x="15974" y="11038"/>
                </a:cubicBezTo>
                <a:cubicBezTo>
                  <a:pt x="16041" y="11098"/>
                  <a:pt x="15970" y="11165"/>
                  <a:pt x="15925" y="11212"/>
                </a:cubicBezTo>
                <a:cubicBezTo>
                  <a:pt x="15817" y="11325"/>
                  <a:pt x="15721" y="11434"/>
                  <a:pt x="15627" y="11559"/>
                </a:cubicBezTo>
                <a:cubicBezTo>
                  <a:pt x="15557" y="11653"/>
                  <a:pt x="15504" y="11743"/>
                  <a:pt x="15429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Ink 5"/>
          <p:cNvSpPr/>
          <p:nvPr/>
        </p:nvSpPr>
        <p:spPr>
          <a:xfrm>
            <a:off x="3017880" y="4367160"/>
            <a:ext cx="3359160" cy="660600"/>
          </a:xfrm>
          <a:custGeom>
            <a:avLst/>
            <a:gdLst/>
            <a:ahLst/>
            <a:rect l="l" t="t" r="r" b="b"/>
            <a:pathLst>
              <a:path w="9328" h="1837">
                <a:moveTo>
                  <a:pt x="11013" y="12204"/>
                </a:moveTo>
                <a:cubicBezTo>
                  <a:pt x="11030" y="12204"/>
                  <a:pt x="11046" y="12204"/>
                  <a:pt x="11063" y="12204"/>
                </a:cubicBezTo>
                <a:cubicBezTo>
                  <a:pt x="11013" y="12303"/>
                  <a:pt x="10975" y="12357"/>
                  <a:pt x="10889" y="12427"/>
                </a:cubicBezTo>
              </a:path>
              <a:path w="9328" h="1837">
                <a:moveTo>
                  <a:pt x="10740" y="12526"/>
                </a:moveTo>
                <a:cubicBezTo>
                  <a:pt x="10677" y="12566"/>
                  <a:pt x="10619" y="12598"/>
                  <a:pt x="10567" y="12650"/>
                </a:cubicBezTo>
                <a:cubicBezTo>
                  <a:pt x="10559" y="12658"/>
                  <a:pt x="10550" y="12667"/>
                  <a:pt x="10542" y="12675"/>
                </a:cubicBezTo>
                <a:cubicBezTo>
                  <a:pt x="10581" y="12714"/>
                  <a:pt x="10626" y="12737"/>
                  <a:pt x="10666" y="12774"/>
                </a:cubicBezTo>
                <a:cubicBezTo>
                  <a:pt x="10750" y="12851"/>
                  <a:pt x="10844" y="12910"/>
                  <a:pt x="10939" y="12973"/>
                </a:cubicBezTo>
                <a:cubicBezTo>
                  <a:pt x="11094" y="13076"/>
                  <a:pt x="11121" y="13090"/>
                  <a:pt x="11311" y="13072"/>
                </a:cubicBezTo>
              </a:path>
              <a:path w="9328" h="1837">
                <a:moveTo>
                  <a:pt x="11435" y="12328"/>
                </a:moveTo>
                <a:cubicBezTo>
                  <a:pt x="11404" y="12420"/>
                  <a:pt x="11370" y="12511"/>
                  <a:pt x="11336" y="12601"/>
                </a:cubicBezTo>
                <a:cubicBezTo>
                  <a:pt x="11306" y="12680"/>
                  <a:pt x="11285" y="12799"/>
                  <a:pt x="11336" y="12874"/>
                </a:cubicBezTo>
                <a:cubicBezTo>
                  <a:pt x="11370" y="12924"/>
                  <a:pt x="11473" y="13001"/>
                  <a:pt x="11534" y="12998"/>
                </a:cubicBezTo>
                <a:cubicBezTo>
                  <a:pt x="11610" y="12994"/>
                  <a:pt x="11675" y="12904"/>
                  <a:pt x="11708" y="12849"/>
                </a:cubicBezTo>
                <a:cubicBezTo>
                  <a:pt x="11733" y="12799"/>
                  <a:pt x="11741" y="12783"/>
                  <a:pt x="11708" y="12750"/>
                </a:cubicBezTo>
                <a:cubicBezTo>
                  <a:pt x="11671" y="12755"/>
                  <a:pt x="11572" y="12774"/>
                  <a:pt x="11559" y="12824"/>
                </a:cubicBezTo>
                <a:cubicBezTo>
                  <a:pt x="11539" y="12901"/>
                  <a:pt x="11559" y="12948"/>
                  <a:pt x="11609" y="12998"/>
                </a:cubicBezTo>
              </a:path>
              <a:path w="9328" h="1837">
                <a:moveTo>
                  <a:pt x="12055" y="12923"/>
                </a:moveTo>
                <a:cubicBezTo>
                  <a:pt x="12041" y="13033"/>
                  <a:pt x="11979" y="13187"/>
                  <a:pt x="12080" y="13221"/>
                </a:cubicBezTo>
              </a:path>
              <a:path w="9328" h="1837">
                <a:moveTo>
                  <a:pt x="12675" y="12502"/>
                </a:moveTo>
                <a:cubicBezTo>
                  <a:pt x="12687" y="12425"/>
                  <a:pt x="12712" y="12348"/>
                  <a:pt x="12601" y="12328"/>
                </a:cubicBezTo>
                <a:cubicBezTo>
                  <a:pt x="12522" y="12314"/>
                  <a:pt x="12423" y="12326"/>
                  <a:pt x="12378" y="12402"/>
                </a:cubicBezTo>
                <a:cubicBezTo>
                  <a:pt x="12341" y="12465"/>
                  <a:pt x="12338" y="12555"/>
                  <a:pt x="12402" y="12601"/>
                </a:cubicBezTo>
                <a:cubicBezTo>
                  <a:pt x="12475" y="12653"/>
                  <a:pt x="12541" y="12671"/>
                  <a:pt x="12626" y="12626"/>
                </a:cubicBezTo>
                <a:cubicBezTo>
                  <a:pt x="12663" y="12606"/>
                  <a:pt x="12695" y="12556"/>
                  <a:pt x="12725" y="12526"/>
                </a:cubicBezTo>
                <a:cubicBezTo>
                  <a:pt x="12748" y="12582"/>
                  <a:pt x="12709" y="12649"/>
                  <a:pt x="12725" y="12725"/>
                </a:cubicBezTo>
                <a:cubicBezTo>
                  <a:pt x="12740" y="12794"/>
                  <a:pt x="12795" y="12905"/>
                  <a:pt x="12849" y="12948"/>
                </a:cubicBezTo>
                <a:cubicBezTo>
                  <a:pt x="12857" y="12948"/>
                  <a:pt x="12866" y="12948"/>
                  <a:pt x="12874" y="12948"/>
                </a:cubicBezTo>
              </a:path>
              <a:path w="9328" h="1837">
                <a:moveTo>
                  <a:pt x="12973" y="12204"/>
                </a:moveTo>
                <a:cubicBezTo>
                  <a:pt x="13095" y="12306"/>
                  <a:pt x="13199" y="12424"/>
                  <a:pt x="13320" y="12526"/>
                </a:cubicBezTo>
                <a:cubicBezTo>
                  <a:pt x="13402" y="12595"/>
                  <a:pt x="13500" y="12673"/>
                  <a:pt x="13593" y="12725"/>
                </a:cubicBezTo>
                <a:cubicBezTo>
                  <a:pt x="13636" y="12747"/>
                  <a:pt x="13648" y="12750"/>
                  <a:pt x="13667" y="12774"/>
                </a:cubicBezTo>
                <a:cubicBezTo>
                  <a:pt x="13591" y="12870"/>
                  <a:pt x="13493" y="12921"/>
                  <a:pt x="13395" y="12998"/>
                </a:cubicBezTo>
                <a:cubicBezTo>
                  <a:pt x="13285" y="13084"/>
                  <a:pt x="13183" y="13164"/>
                  <a:pt x="13097" y="13271"/>
                </a:cubicBezTo>
              </a:path>
              <a:path w="9328" h="1837">
                <a:moveTo>
                  <a:pt x="14784" y="12129"/>
                </a:moveTo>
                <a:cubicBezTo>
                  <a:pt x="14745" y="12238"/>
                  <a:pt x="14728" y="12308"/>
                  <a:pt x="14635" y="12378"/>
                </a:cubicBezTo>
                <a:cubicBezTo>
                  <a:pt x="14535" y="12454"/>
                  <a:pt x="14421" y="12514"/>
                  <a:pt x="14312" y="12576"/>
                </a:cubicBezTo>
                <a:cubicBezTo>
                  <a:pt x="14237" y="12619"/>
                  <a:pt x="14211" y="12660"/>
                  <a:pt x="14163" y="12725"/>
                </a:cubicBezTo>
                <a:cubicBezTo>
                  <a:pt x="14123" y="12779"/>
                  <a:pt x="14172" y="12808"/>
                  <a:pt x="14213" y="12849"/>
                </a:cubicBezTo>
                <a:cubicBezTo>
                  <a:pt x="14274" y="12910"/>
                  <a:pt x="14367" y="12969"/>
                  <a:pt x="14436" y="13022"/>
                </a:cubicBezTo>
                <a:cubicBezTo>
                  <a:pt x="14544" y="13105"/>
                  <a:pt x="14629" y="13209"/>
                  <a:pt x="14734" y="13295"/>
                </a:cubicBezTo>
                <a:cubicBezTo>
                  <a:pt x="14842" y="13384"/>
                  <a:pt x="14884" y="13336"/>
                  <a:pt x="15007" y="13295"/>
                </a:cubicBezTo>
              </a:path>
              <a:path w="9328" h="1837">
                <a:moveTo>
                  <a:pt x="15180" y="12402"/>
                </a:moveTo>
                <a:cubicBezTo>
                  <a:pt x="15180" y="12521"/>
                  <a:pt x="15159" y="12631"/>
                  <a:pt x="15156" y="12750"/>
                </a:cubicBezTo>
                <a:cubicBezTo>
                  <a:pt x="15153" y="12882"/>
                  <a:pt x="15156" y="13014"/>
                  <a:pt x="15156" y="13146"/>
                </a:cubicBezTo>
              </a:path>
              <a:path w="9328" h="1837">
                <a:moveTo>
                  <a:pt x="15354" y="12502"/>
                </a:moveTo>
                <a:cubicBezTo>
                  <a:pt x="15508" y="12420"/>
                  <a:pt x="15533" y="12390"/>
                  <a:pt x="15627" y="12551"/>
                </a:cubicBezTo>
                <a:cubicBezTo>
                  <a:pt x="15701" y="12677"/>
                  <a:pt x="15713" y="12792"/>
                  <a:pt x="15701" y="12923"/>
                </a:cubicBezTo>
                <a:cubicBezTo>
                  <a:pt x="15693" y="13014"/>
                  <a:pt x="15642" y="13022"/>
                  <a:pt x="15577" y="13072"/>
                </a:cubicBezTo>
                <a:cubicBezTo>
                  <a:pt x="15553" y="13097"/>
                  <a:pt x="15545" y="13105"/>
                  <a:pt x="15528" y="13072"/>
                </a:cubicBezTo>
                <a:cubicBezTo>
                  <a:pt x="15605" y="13025"/>
                  <a:pt x="15629" y="13075"/>
                  <a:pt x="15701" y="13122"/>
                </a:cubicBezTo>
                <a:cubicBezTo>
                  <a:pt x="15765" y="13164"/>
                  <a:pt x="15776" y="13180"/>
                  <a:pt x="15825" y="13171"/>
                </a:cubicBezTo>
              </a:path>
              <a:path w="9328" h="1837">
                <a:moveTo>
                  <a:pt x="16098" y="13022"/>
                </a:moveTo>
                <a:cubicBezTo>
                  <a:pt x="16102" y="13159"/>
                  <a:pt x="16011" y="13415"/>
                  <a:pt x="16148" y="13419"/>
                </a:cubicBezTo>
                <a:cubicBezTo>
                  <a:pt x="16148" y="13411"/>
                  <a:pt x="16148" y="13403"/>
                  <a:pt x="16148" y="13395"/>
                </a:cubicBezTo>
              </a:path>
              <a:path w="9328" h="1837">
                <a:moveTo>
                  <a:pt x="16470" y="12502"/>
                </a:moveTo>
                <a:cubicBezTo>
                  <a:pt x="16461" y="12644"/>
                  <a:pt x="16459" y="12758"/>
                  <a:pt x="16470" y="12898"/>
                </a:cubicBezTo>
                <a:cubicBezTo>
                  <a:pt x="16478" y="12997"/>
                  <a:pt x="16485" y="13080"/>
                  <a:pt x="16520" y="13171"/>
                </a:cubicBezTo>
              </a:path>
              <a:path w="9328" h="1837">
                <a:moveTo>
                  <a:pt x="16892" y="12601"/>
                </a:moveTo>
                <a:cubicBezTo>
                  <a:pt x="16816" y="12486"/>
                  <a:pt x="16819" y="12455"/>
                  <a:pt x="16743" y="12427"/>
                </a:cubicBezTo>
                <a:cubicBezTo>
                  <a:pt x="16677" y="12493"/>
                  <a:pt x="16678" y="12572"/>
                  <a:pt x="16718" y="12675"/>
                </a:cubicBezTo>
                <a:cubicBezTo>
                  <a:pt x="16745" y="12746"/>
                  <a:pt x="16847" y="12894"/>
                  <a:pt x="16842" y="12973"/>
                </a:cubicBezTo>
                <a:cubicBezTo>
                  <a:pt x="16834" y="12981"/>
                  <a:pt x="16826" y="12990"/>
                  <a:pt x="16818" y="12998"/>
                </a:cubicBezTo>
                <a:cubicBezTo>
                  <a:pt x="16786" y="12935"/>
                  <a:pt x="16754" y="12867"/>
                  <a:pt x="16743" y="12799"/>
                </a:cubicBezTo>
                <a:cubicBezTo>
                  <a:pt x="16726" y="12700"/>
                  <a:pt x="16831" y="12637"/>
                  <a:pt x="16892" y="12576"/>
                </a:cubicBezTo>
              </a:path>
              <a:path w="9328" h="1837">
                <a:moveTo>
                  <a:pt x="17041" y="12204"/>
                </a:moveTo>
                <a:cubicBezTo>
                  <a:pt x="17142" y="12306"/>
                  <a:pt x="17197" y="12418"/>
                  <a:pt x="17289" y="12526"/>
                </a:cubicBezTo>
                <a:cubicBezTo>
                  <a:pt x="17412" y="12669"/>
                  <a:pt x="17496" y="12877"/>
                  <a:pt x="17661" y="12973"/>
                </a:cubicBezTo>
                <a:cubicBezTo>
                  <a:pt x="17678" y="12981"/>
                  <a:pt x="17694" y="12990"/>
                  <a:pt x="17711" y="12998"/>
                </a:cubicBezTo>
                <a:cubicBezTo>
                  <a:pt x="17597" y="13064"/>
                  <a:pt x="17425" y="13036"/>
                  <a:pt x="17289" y="13072"/>
                </a:cubicBezTo>
                <a:cubicBezTo>
                  <a:pt x="17094" y="13123"/>
                  <a:pt x="16963" y="13186"/>
                  <a:pt x="16818" y="13320"/>
                </a:cubicBezTo>
              </a:path>
              <a:path w="9328" h="1837">
                <a:moveTo>
                  <a:pt x="9054" y="12402"/>
                </a:moveTo>
                <a:cubicBezTo>
                  <a:pt x="8998" y="12458"/>
                  <a:pt x="8944" y="12503"/>
                  <a:pt x="8880" y="12551"/>
                </a:cubicBezTo>
                <a:cubicBezTo>
                  <a:pt x="8772" y="12632"/>
                  <a:pt x="8656" y="12711"/>
                  <a:pt x="8558" y="12799"/>
                </a:cubicBezTo>
                <a:cubicBezTo>
                  <a:pt x="8522" y="12831"/>
                  <a:pt x="8384" y="12923"/>
                  <a:pt x="8384" y="12973"/>
                </a:cubicBezTo>
                <a:cubicBezTo>
                  <a:pt x="8384" y="13053"/>
                  <a:pt x="8503" y="13130"/>
                  <a:pt x="8558" y="13171"/>
                </a:cubicBezTo>
                <a:cubicBezTo>
                  <a:pt x="8657" y="13244"/>
                  <a:pt x="8759" y="13296"/>
                  <a:pt x="8855" y="13370"/>
                </a:cubicBezTo>
                <a:cubicBezTo>
                  <a:pt x="8955" y="13447"/>
                  <a:pt x="8950" y="13436"/>
                  <a:pt x="9079" y="13419"/>
                </a:cubicBezTo>
              </a:path>
              <a:path w="9328" h="1837">
                <a:moveTo>
                  <a:pt x="9178" y="12774"/>
                </a:moveTo>
                <a:cubicBezTo>
                  <a:pt x="9285" y="12757"/>
                  <a:pt x="9343" y="12753"/>
                  <a:pt x="9426" y="12824"/>
                </a:cubicBezTo>
                <a:cubicBezTo>
                  <a:pt x="9503" y="12890"/>
                  <a:pt x="9481" y="12944"/>
                  <a:pt x="9426" y="12998"/>
                </a:cubicBezTo>
                <a:cubicBezTo>
                  <a:pt x="9370" y="13054"/>
                  <a:pt x="9302" y="13064"/>
                  <a:pt x="9227" y="13072"/>
                </a:cubicBezTo>
                <a:cubicBezTo>
                  <a:pt x="9291" y="13136"/>
                  <a:pt x="9358" y="13188"/>
                  <a:pt x="9426" y="13246"/>
                </a:cubicBezTo>
                <a:cubicBezTo>
                  <a:pt x="9477" y="13290"/>
                  <a:pt x="9554" y="13425"/>
                  <a:pt x="9451" y="13469"/>
                </a:cubicBezTo>
                <a:cubicBezTo>
                  <a:pt x="9391" y="13495"/>
                  <a:pt x="9282" y="13469"/>
                  <a:pt x="9227" y="13444"/>
                </a:cubicBezTo>
                <a:cubicBezTo>
                  <a:pt x="9182" y="13424"/>
                  <a:pt x="9161" y="13403"/>
                  <a:pt x="9128" y="13370"/>
                </a:cubicBezTo>
              </a:path>
              <a:path w="9328" h="1837">
                <a:moveTo>
                  <a:pt x="9773" y="13271"/>
                </a:moveTo>
                <a:cubicBezTo>
                  <a:pt x="9744" y="13444"/>
                  <a:pt x="9702" y="13482"/>
                  <a:pt x="9649" y="13618"/>
                </a:cubicBezTo>
                <a:cubicBezTo>
                  <a:pt x="9649" y="13662"/>
                  <a:pt x="9652" y="13682"/>
                  <a:pt x="9624" y="13643"/>
                </a:cubicBezTo>
              </a:path>
              <a:path w="9328" h="1837">
                <a:moveTo>
                  <a:pt x="9947" y="12824"/>
                </a:moveTo>
                <a:cubicBezTo>
                  <a:pt x="9960" y="12873"/>
                  <a:pt x="9949" y="13008"/>
                  <a:pt x="9971" y="13047"/>
                </a:cubicBezTo>
                <a:cubicBezTo>
                  <a:pt x="10025" y="13143"/>
                  <a:pt x="10083" y="13121"/>
                  <a:pt x="10170" y="13097"/>
                </a:cubicBezTo>
              </a:path>
              <a:path w="9328" h="1837">
                <a:moveTo>
                  <a:pt x="10269" y="12774"/>
                </a:moveTo>
                <a:cubicBezTo>
                  <a:pt x="10243" y="12908"/>
                  <a:pt x="10225" y="13039"/>
                  <a:pt x="10195" y="13171"/>
                </a:cubicBezTo>
                <a:cubicBezTo>
                  <a:pt x="10170" y="13279"/>
                  <a:pt x="10164" y="13386"/>
                  <a:pt x="10145" y="13494"/>
                </a:cubicBezTo>
                <a:cubicBezTo>
                  <a:pt x="10145" y="13502"/>
                  <a:pt x="10145" y="13511"/>
                  <a:pt x="10145" y="13519"/>
                </a:cubicBezTo>
              </a:path>
              <a:path w="9328" h="1837">
                <a:moveTo>
                  <a:pt x="10368" y="13494"/>
                </a:moveTo>
                <a:cubicBezTo>
                  <a:pt x="10393" y="13469"/>
                  <a:pt x="10401" y="13461"/>
                  <a:pt x="10418" y="13444"/>
                </a:cubicBezTo>
              </a:path>
              <a:path w="9328" h="1837">
                <a:moveTo>
                  <a:pt x="10666" y="12923"/>
                </a:moveTo>
                <a:cubicBezTo>
                  <a:pt x="10787" y="12918"/>
                  <a:pt x="10868" y="12964"/>
                  <a:pt x="10914" y="12874"/>
                </a:cubicBezTo>
              </a:path>
              <a:path w="9328" h="1837">
                <a:moveTo>
                  <a:pt x="10716" y="12874"/>
                </a:moveTo>
                <a:cubicBezTo>
                  <a:pt x="10618" y="12912"/>
                  <a:pt x="10590" y="12921"/>
                  <a:pt x="10641" y="13022"/>
                </a:cubicBezTo>
                <a:cubicBezTo>
                  <a:pt x="10684" y="13108"/>
                  <a:pt x="10729" y="13197"/>
                  <a:pt x="10790" y="13271"/>
                </a:cubicBezTo>
                <a:cubicBezTo>
                  <a:pt x="10826" y="13314"/>
                  <a:pt x="10922" y="13420"/>
                  <a:pt x="10864" y="13469"/>
                </a:cubicBezTo>
                <a:cubicBezTo>
                  <a:pt x="10790" y="13531"/>
                  <a:pt x="10719" y="13514"/>
                  <a:pt x="10641" y="13444"/>
                </a:cubicBezTo>
                <a:cubicBezTo>
                  <a:pt x="10582" y="13392"/>
                  <a:pt x="10577" y="13305"/>
                  <a:pt x="10592" y="13246"/>
                </a:cubicBezTo>
              </a:path>
              <a:path w="9328" h="1837">
                <a:moveTo>
                  <a:pt x="11013" y="12874"/>
                </a:moveTo>
                <a:cubicBezTo>
                  <a:pt x="11102" y="12955"/>
                  <a:pt x="11192" y="13047"/>
                  <a:pt x="11286" y="13122"/>
                </a:cubicBezTo>
                <a:cubicBezTo>
                  <a:pt x="11359" y="13180"/>
                  <a:pt x="11434" y="13219"/>
                  <a:pt x="11509" y="13271"/>
                </a:cubicBezTo>
                <a:cubicBezTo>
                  <a:pt x="11561" y="13307"/>
                  <a:pt x="11522" y="13386"/>
                  <a:pt x="11485" y="13419"/>
                </a:cubicBezTo>
                <a:cubicBezTo>
                  <a:pt x="11342" y="13547"/>
                  <a:pt x="11200" y="13679"/>
                  <a:pt x="11063" y="13816"/>
                </a:cubicBezTo>
                <a:cubicBezTo>
                  <a:pt x="10992" y="13887"/>
                  <a:pt x="10970" y="13907"/>
                  <a:pt x="10939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if the vectors are orthogonal, parallel, or nei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2, 1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&lt;-1, 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4, 6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10, 15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6, 8&gt;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&lt;12, 18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Ink 4"/>
          <p:cNvSpPr/>
          <p:nvPr/>
        </p:nvSpPr>
        <p:spPr>
          <a:xfrm>
            <a:off x="1125360" y="643896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150" y="18033"/>
                </a:moveTo>
                <a:lnTo>
                  <a:pt x="3150" y="18033"/>
                </a:lnTo>
              </a:path>
              <a:path w="26" h="150">
                <a:moveTo>
                  <a:pt x="3125" y="17909"/>
                </a:moveTo>
                <a:cubicBezTo>
                  <a:pt x="3125" y="17901"/>
                  <a:pt x="3125" y="17892"/>
                  <a:pt x="3125" y="178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Ink 5"/>
          <p:cNvSpPr/>
          <p:nvPr/>
        </p:nvSpPr>
        <p:spPr>
          <a:xfrm>
            <a:off x="5776920" y="1704960"/>
            <a:ext cx="1339920" cy="403200"/>
          </a:xfrm>
          <a:custGeom>
            <a:avLst/>
            <a:gdLst/>
            <a:ahLst/>
            <a:rect l="l" t="t" r="r" b="b"/>
            <a:pathLst>
              <a:path w="3721" h="1117">
                <a:moveTo>
                  <a:pt x="16049" y="5209"/>
                </a:moveTo>
                <a:cubicBezTo>
                  <a:pt x="16142" y="5187"/>
                  <a:pt x="16225" y="5184"/>
                  <a:pt x="16321" y="5184"/>
                </a:cubicBezTo>
                <a:cubicBezTo>
                  <a:pt x="16379" y="5184"/>
                  <a:pt x="16437" y="5184"/>
                  <a:pt x="16495" y="5184"/>
                </a:cubicBezTo>
              </a:path>
              <a:path w="3721" h="1117">
                <a:moveTo>
                  <a:pt x="16123" y="5333"/>
                </a:moveTo>
                <a:cubicBezTo>
                  <a:pt x="16234" y="5364"/>
                  <a:pt x="16329" y="5358"/>
                  <a:pt x="16446" y="5358"/>
                </a:cubicBezTo>
                <a:cubicBezTo>
                  <a:pt x="16462" y="5358"/>
                  <a:pt x="16479" y="5358"/>
                  <a:pt x="16495" y="5358"/>
                </a:cubicBezTo>
              </a:path>
              <a:path w="3721" h="1117">
                <a:moveTo>
                  <a:pt x="16892" y="5135"/>
                </a:moveTo>
                <a:cubicBezTo>
                  <a:pt x="16983" y="5135"/>
                  <a:pt x="17074" y="5135"/>
                  <a:pt x="17165" y="5135"/>
                </a:cubicBezTo>
              </a:path>
              <a:path w="3721" h="1117">
                <a:moveTo>
                  <a:pt x="17338" y="4911"/>
                </a:moveTo>
                <a:cubicBezTo>
                  <a:pt x="17390" y="4839"/>
                  <a:pt x="17462" y="4794"/>
                  <a:pt x="17562" y="4812"/>
                </a:cubicBezTo>
                <a:cubicBezTo>
                  <a:pt x="17617" y="4822"/>
                  <a:pt x="17722" y="4879"/>
                  <a:pt x="17735" y="4936"/>
                </a:cubicBezTo>
                <a:cubicBezTo>
                  <a:pt x="17752" y="5012"/>
                  <a:pt x="17732" y="5122"/>
                  <a:pt x="17686" y="5184"/>
                </a:cubicBezTo>
                <a:cubicBezTo>
                  <a:pt x="17633" y="5256"/>
                  <a:pt x="17565" y="5290"/>
                  <a:pt x="17512" y="5358"/>
                </a:cubicBezTo>
                <a:cubicBezTo>
                  <a:pt x="17464" y="5420"/>
                  <a:pt x="17387" y="5450"/>
                  <a:pt x="17338" y="5507"/>
                </a:cubicBezTo>
                <a:cubicBezTo>
                  <a:pt x="17291" y="5561"/>
                  <a:pt x="17247" y="5584"/>
                  <a:pt x="17190" y="5631"/>
                </a:cubicBezTo>
                <a:cubicBezTo>
                  <a:pt x="17244" y="5598"/>
                  <a:pt x="17295" y="5606"/>
                  <a:pt x="17363" y="5606"/>
                </a:cubicBezTo>
                <a:cubicBezTo>
                  <a:pt x="17461" y="5606"/>
                  <a:pt x="17542" y="5618"/>
                  <a:pt x="17636" y="5631"/>
                </a:cubicBezTo>
                <a:cubicBezTo>
                  <a:pt x="17727" y="5644"/>
                  <a:pt x="17885" y="5650"/>
                  <a:pt x="17959" y="5606"/>
                </a:cubicBezTo>
              </a:path>
              <a:path w="3721" h="1117">
                <a:moveTo>
                  <a:pt x="18231" y="5011"/>
                </a:moveTo>
                <a:cubicBezTo>
                  <a:pt x="18240" y="5081"/>
                  <a:pt x="18256" y="5136"/>
                  <a:pt x="18256" y="5209"/>
                </a:cubicBezTo>
                <a:cubicBezTo>
                  <a:pt x="18256" y="5298"/>
                  <a:pt x="18270" y="5375"/>
                  <a:pt x="18281" y="5457"/>
                </a:cubicBezTo>
                <a:cubicBezTo>
                  <a:pt x="18290" y="5529"/>
                  <a:pt x="18302" y="5538"/>
                  <a:pt x="18281" y="5581"/>
                </a:cubicBezTo>
              </a:path>
              <a:path w="3721" h="1117">
                <a:moveTo>
                  <a:pt x="17983" y="5234"/>
                </a:moveTo>
                <a:cubicBezTo>
                  <a:pt x="18065" y="5234"/>
                  <a:pt x="18154" y="5238"/>
                  <a:pt x="18231" y="5259"/>
                </a:cubicBezTo>
                <a:cubicBezTo>
                  <a:pt x="18310" y="5281"/>
                  <a:pt x="18397" y="5303"/>
                  <a:pt x="18479" y="5308"/>
                </a:cubicBezTo>
                <a:cubicBezTo>
                  <a:pt x="18524" y="5308"/>
                  <a:pt x="18544" y="5305"/>
                  <a:pt x="18504" y="5333"/>
                </a:cubicBezTo>
              </a:path>
              <a:path w="3721" h="1117">
                <a:moveTo>
                  <a:pt x="18876" y="4961"/>
                </a:moveTo>
                <a:cubicBezTo>
                  <a:pt x="18913" y="4888"/>
                  <a:pt x="18943" y="4845"/>
                  <a:pt x="19000" y="4787"/>
                </a:cubicBezTo>
                <a:cubicBezTo>
                  <a:pt x="19044" y="4742"/>
                  <a:pt x="19110" y="4721"/>
                  <a:pt x="19174" y="4738"/>
                </a:cubicBezTo>
                <a:cubicBezTo>
                  <a:pt x="19276" y="4765"/>
                  <a:pt x="19236" y="4828"/>
                  <a:pt x="19224" y="4887"/>
                </a:cubicBezTo>
                <a:cubicBezTo>
                  <a:pt x="19206" y="4979"/>
                  <a:pt x="19165" y="5006"/>
                  <a:pt x="19124" y="5085"/>
                </a:cubicBezTo>
                <a:cubicBezTo>
                  <a:pt x="19077" y="5176"/>
                  <a:pt x="19036" y="5287"/>
                  <a:pt x="19000" y="5383"/>
                </a:cubicBezTo>
                <a:cubicBezTo>
                  <a:pt x="18971" y="5463"/>
                  <a:pt x="18948" y="5560"/>
                  <a:pt x="18901" y="5631"/>
                </a:cubicBezTo>
                <a:cubicBezTo>
                  <a:pt x="18872" y="5675"/>
                  <a:pt x="18841" y="5717"/>
                  <a:pt x="18802" y="5755"/>
                </a:cubicBezTo>
                <a:cubicBezTo>
                  <a:pt x="18773" y="5783"/>
                  <a:pt x="18765" y="5796"/>
                  <a:pt x="18777" y="5829"/>
                </a:cubicBezTo>
                <a:cubicBezTo>
                  <a:pt x="18854" y="5803"/>
                  <a:pt x="18918" y="5804"/>
                  <a:pt x="19000" y="5804"/>
                </a:cubicBezTo>
                <a:cubicBezTo>
                  <a:pt x="19090" y="5804"/>
                  <a:pt x="19161" y="5825"/>
                  <a:pt x="19248" y="5829"/>
                </a:cubicBezTo>
                <a:cubicBezTo>
                  <a:pt x="19309" y="5832"/>
                  <a:pt x="19384" y="5878"/>
                  <a:pt x="19447" y="5854"/>
                </a:cubicBezTo>
                <a:cubicBezTo>
                  <a:pt x="19472" y="5829"/>
                  <a:pt x="19480" y="5821"/>
                  <a:pt x="19496" y="5804"/>
                </a:cubicBezTo>
              </a:path>
              <a:path w="3721" h="1117">
                <a:moveTo>
                  <a:pt x="19472" y="5283"/>
                </a:moveTo>
                <a:cubicBezTo>
                  <a:pt x="19577" y="5283"/>
                  <a:pt x="19648" y="5266"/>
                  <a:pt x="19745" y="5259"/>
                </a:cubicBezTo>
                <a:cubicBezTo>
                  <a:pt x="19753" y="5259"/>
                  <a:pt x="19761" y="5259"/>
                  <a:pt x="19769" y="5259"/>
                </a:cubicBezTo>
              </a:path>
              <a:path w="3721" h="1117">
                <a:moveTo>
                  <a:pt x="19546" y="5432"/>
                </a:moveTo>
                <a:cubicBezTo>
                  <a:pt x="19678" y="5451"/>
                  <a:pt x="19694" y="5459"/>
                  <a:pt x="19769" y="54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Ink 6"/>
          <p:cNvSpPr/>
          <p:nvPr/>
        </p:nvSpPr>
        <p:spPr>
          <a:xfrm>
            <a:off x="7296120" y="1714680"/>
            <a:ext cx="249120" cy="366480"/>
          </a:xfrm>
          <a:custGeom>
            <a:avLst/>
            <a:gdLst/>
            <a:ahLst/>
            <a:rect l="l" t="t" r="r" b="b"/>
            <a:pathLst>
              <a:path w="696" h="1018">
                <a:moveTo>
                  <a:pt x="20365" y="4911"/>
                </a:moveTo>
                <a:cubicBezTo>
                  <a:pt x="20365" y="4992"/>
                  <a:pt x="20333" y="5019"/>
                  <a:pt x="20315" y="5085"/>
                </a:cubicBezTo>
                <a:cubicBezTo>
                  <a:pt x="20297" y="5153"/>
                  <a:pt x="20276" y="5240"/>
                  <a:pt x="20265" y="5308"/>
                </a:cubicBezTo>
                <a:cubicBezTo>
                  <a:pt x="20253" y="5377"/>
                  <a:pt x="20269" y="5468"/>
                  <a:pt x="20290" y="5531"/>
                </a:cubicBezTo>
                <a:cubicBezTo>
                  <a:pt x="20310" y="5589"/>
                  <a:pt x="20348" y="5660"/>
                  <a:pt x="20389" y="5705"/>
                </a:cubicBezTo>
                <a:cubicBezTo>
                  <a:pt x="20442" y="5762"/>
                  <a:pt x="20511" y="5775"/>
                  <a:pt x="20588" y="5779"/>
                </a:cubicBezTo>
                <a:cubicBezTo>
                  <a:pt x="20664" y="5783"/>
                  <a:pt x="20722" y="5774"/>
                  <a:pt x="20786" y="5730"/>
                </a:cubicBezTo>
                <a:cubicBezTo>
                  <a:pt x="20879" y="5667"/>
                  <a:pt x="20938" y="5595"/>
                  <a:pt x="20960" y="5482"/>
                </a:cubicBezTo>
                <a:cubicBezTo>
                  <a:pt x="20979" y="5382"/>
                  <a:pt x="20965" y="5255"/>
                  <a:pt x="20935" y="5159"/>
                </a:cubicBezTo>
                <a:cubicBezTo>
                  <a:pt x="20909" y="5074"/>
                  <a:pt x="20867" y="5003"/>
                  <a:pt x="20811" y="4936"/>
                </a:cubicBezTo>
                <a:cubicBezTo>
                  <a:pt x="20753" y="4867"/>
                  <a:pt x="20692" y="4827"/>
                  <a:pt x="20613" y="4787"/>
                </a:cubicBezTo>
                <a:cubicBezTo>
                  <a:pt x="20553" y="4757"/>
                  <a:pt x="20492" y="4744"/>
                  <a:pt x="20439" y="4787"/>
                </a:cubicBezTo>
                <a:cubicBezTo>
                  <a:pt x="20386" y="4830"/>
                  <a:pt x="20369" y="4870"/>
                  <a:pt x="20365" y="4936"/>
                </a:cubicBezTo>
                <a:cubicBezTo>
                  <a:pt x="20361" y="5013"/>
                  <a:pt x="20340" y="5077"/>
                  <a:pt x="20340" y="51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Ink 7"/>
          <p:cNvSpPr/>
          <p:nvPr/>
        </p:nvSpPr>
        <p:spPr>
          <a:xfrm>
            <a:off x="7848720" y="1731960"/>
            <a:ext cx="1098360" cy="482760"/>
          </a:xfrm>
          <a:custGeom>
            <a:avLst/>
            <a:gdLst/>
            <a:ahLst/>
            <a:rect l="l" t="t" r="r" b="b"/>
            <a:pathLst>
              <a:path w="3052" h="1341">
                <a:moveTo>
                  <a:pt x="21927" y="5110"/>
                </a:moveTo>
                <a:cubicBezTo>
                  <a:pt x="21918" y="5176"/>
                  <a:pt x="21885" y="5219"/>
                  <a:pt x="21853" y="5283"/>
                </a:cubicBezTo>
                <a:cubicBezTo>
                  <a:pt x="21825" y="5338"/>
                  <a:pt x="21806" y="5399"/>
                  <a:pt x="21803" y="5457"/>
                </a:cubicBezTo>
                <a:cubicBezTo>
                  <a:pt x="21799" y="5522"/>
                  <a:pt x="21835" y="5538"/>
                  <a:pt x="21878" y="5581"/>
                </a:cubicBezTo>
                <a:cubicBezTo>
                  <a:pt x="21935" y="5638"/>
                  <a:pt x="21988" y="5592"/>
                  <a:pt x="22051" y="5581"/>
                </a:cubicBezTo>
                <a:cubicBezTo>
                  <a:pt x="22124" y="5569"/>
                  <a:pt x="22194" y="5535"/>
                  <a:pt x="22250" y="5482"/>
                </a:cubicBezTo>
                <a:cubicBezTo>
                  <a:pt x="22339" y="5398"/>
                  <a:pt x="22348" y="5280"/>
                  <a:pt x="22324" y="5159"/>
                </a:cubicBezTo>
                <a:cubicBezTo>
                  <a:pt x="22316" y="5117"/>
                  <a:pt x="22245" y="5046"/>
                  <a:pt x="22200" y="5035"/>
                </a:cubicBezTo>
                <a:cubicBezTo>
                  <a:pt x="22132" y="5019"/>
                  <a:pt x="22042" y="5005"/>
                  <a:pt x="21977" y="5035"/>
                </a:cubicBezTo>
                <a:cubicBezTo>
                  <a:pt x="21906" y="5068"/>
                  <a:pt x="21882" y="5145"/>
                  <a:pt x="21878" y="5209"/>
                </a:cubicBezTo>
                <a:cubicBezTo>
                  <a:pt x="21878" y="5217"/>
                  <a:pt x="21878" y="5226"/>
                  <a:pt x="21878" y="5234"/>
                </a:cubicBezTo>
              </a:path>
              <a:path w="3052" h="1341">
                <a:moveTo>
                  <a:pt x="22498" y="5358"/>
                </a:moveTo>
                <a:cubicBezTo>
                  <a:pt x="22521" y="5449"/>
                  <a:pt x="22527" y="5474"/>
                  <a:pt x="22547" y="5531"/>
                </a:cubicBezTo>
                <a:cubicBezTo>
                  <a:pt x="22517" y="5448"/>
                  <a:pt x="22520" y="5388"/>
                  <a:pt x="22572" y="5308"/>
                </a:cubicBezTo>
                <a:cubicBezTo>
                  <a:pt x="22602" y="5261"/>
                  <a:pt x="22697" y="5184"/>
                  <a:pt x="22746" y="5159"/>
                </a:cubicBezTo>
                <a:cubicBezTo>
                  <a:pt x="22818" y="5136"/>
                  <a:pt x="22841" y="5129"/>
                  <a:pt x="22870" y="5085"/>
                </a:cubicBezTo>
              </a:path>
              <a:path w="3052" h="1341">
                <a:moveTo>
                  <a:pt x="23093" y="4812"/>
                </a:moveTo>
                <a:cubicBezTo>
                  <a:pt x="23125" y="4897"/>
                  <a:pt x="23108" y="4969"/>
                  <a:pt x="23118" y="5060"/>
                </a:cubicBezTo>
                <a:cubicBezTo>
                  <a:pt x="23132" y="5183"/>
                  <a:pt x="23174" y="5271"/>
                  <a:pt x="23192" y="5383"/>
                </a:cubicBezTo>
                <a:cubicBezTo>
                  <a:pt x="23192" y="5432"/>
                  <a:pt x="23192" y="5449"/>
                  <a:pt x="23192" y="5482"/>
                </a:cubicBezTo>
              </a:path>
              <a:path w="3052" h="1341">
                <a:moveTo>
                  <a:pt x="22870" y="5234"/>
                </a:moveTo>
                <a:cubicBezTo>
                  <a:pt x="22975" y="5234"/>
                  <a:pt x="23070" y="5222"/>
                  <a:pt x="23168" y="5209"/>
                </a:cubicBezTo>
                <a:cubicBezTo>
                  <a:pt x="23240" y="5199"/>
                  <a:pt x="23259" y="5219"/>
                  <a:pt x="23316" y="5184"/>
                </a:cubicBezTo>
              </a:path>
              <a:path w="3052" h="1341">
                <a:moveTo>
                  <a:pt x="23465" y="4812"/>
                </a:moveTo>
                <a:cubicBezTo>
                  <a:pt x="23515" y="4887"/>
                  <a:pt x="23497" y="4931"/>
                  <a:pt x="23515" y="5011"/>
                </a:cubicBezTo>
                <a:cubicBezTo>
                  <a:pt x="23538" y="5114"/>
                  <a:pt x="23560" y="5227"/>
                  <a:pt x="23564" y="5333"/>
                </a:cubicBezTo>
                <a:cubicBezTo>
                  <a:pt x="23567" y="5405"/>
                  <a:pt x="23580" y="5450"/>
                  <a:pt x="23614" y="5507"/>
                </a:cubicBezTo>
                <a:cubicBezTo>
                  <a:pt x="23614" y="5424"/>
                  <a:pt x="23625" y="5351"/>
                  <a:pt x="23639" y="5283"/>
                </a:cubicBezTo>
                <a:cubicBezTo>
                  <a:pt x="23653" y="5213"/>
                  <a:pt x="23666" y="5169"/>
                  <a:pt x="23713" y="5110"/>
                </a:cubicBezTo>
                <a:cubicBezTo>
                  <a:pt x="23770" y="5150"/>
                  <a:pt x="23799" y="5193"/>
                  <a:pt x="23812" y="5259"/>
                </a:cubicBezTo>
                <a:cubicBezTo>
                  <a:pt x="23827" y="5337"/>
                  <a:pt x="23839" y="5413"/>
                  <a:pt x="23887" y="5482"/>
                </a:cubicBezTo>
                <a:cubicBezTo>
                  <a:pt x="23910" y="5505"/>
                  <a:pt x="23914" y="5513"/>
                  <a:pt x="23937" y="5507"/>
                </a:cubicBezTo>
              </a:path>
              <a:path w="3052" h="1341">
                <a:moveTo>
                  <a:pt x="24135" y="5184"/>
                </a:moveTo>
                <a:cubicBezTo>
                  <a:pt x="24111" y="5224"/>
                  <a:pt x="24073" y="5304"/>
                  <a:pt x="24085" y="5358"/>
                </a:cubicBezTo>
                <a:cubicBezTo>
                  <a:pt x="24102" y="5434"/>
                  <a:pt x="24123" y="5488"/>
                  <a:pt x="24209" y="5507"/>
                </a:cubicBezTo>
                <a:cubicBezTo>
                  <a:pt x="24251" y="5516"/>
                  <a:pt x="24359" y="5469"/>
                  <a:pt x="24383" y="5432"/>
                </a:cubicBezTo>
                <a:cubicBezTo>
                  <a:pt x="24425" y="5366"/>
                  <a:pt x="24423" y="5249"/>
                  <a:pt x="24383" y="5184"/>
                </a:cubicBezTo>
                <a:cubicBezTo>
                  <a:pt x="24362" y="5150"/>
                  <a:pt x="24298" y="5092"/>
                  <a:pt x="24259" y="5085"/>
                </a:cubicBezTo>
                <a:cubicBezTo>
                  <a:pt x="24213" y="5076"/>
                  <a:pt x="24081" y="5102"/>
                  <a:pt x="24061" y="5159"/>
                </a:cubicBezTo>
                <a:cubicBezTo>
                  <a:pt x="24048" y="5196"/>
                  <a:pt x="24081" y="5311"/>
                  <a:pt x="24110" y="5333"/>
                </a:cubicBezTo>
                <a:cubicBezTo>
                  <a:pt x="24157" y="5369"/>
                  <a:pt x="24204" y="5385"/>
                  <a:pt x="24259" y="5407"/>
                </a:cubicBezTo>
              </a:path>
              <a:path w="3052" h="1341">
                <a:moveTo>
                  <a:pt x="24755" y="5159"/>
                </a:moveTo>
                <a:cubicBezTo>
                  <a:pt x="24763" y="5151"/>
                  <a:pt x="24772" y="5143"/>
                  <a:pt x="24780" y="5135"/>
                </a:cubicBezTo>
                <a:cubicBezTo>
                  <a:pt x="24713" y="5144"/>
                  <a:pt x="24704" y="5160"/>
                  <a:pt x="24656" y="5209"/>
                </a:cubicBezTo>
                <a:cubicBezTo>
                  <a:pt x="24596" y="5270"/>
                  <a:pt x="24585" y="5294"/>
                  <a:pt x="24581" y="5383"/>
                </a:cubicBezTo>
                <a:cubicBezTo>
                  <a:pt x="24578" y="5447"/>
                  <a:pt x="24613" y="5464"/>
                  <a:pt x="24656" y="5507"/>
                </a:cubicBezTo>
                <a:cubicBezTo>
                  <a:pt x="24719" y="5463"/>
                  <a:pt x="24775" y="5432"/>
                  <a:pt x="24805" y="5358"/>
                </a:cubicBezTo>
                <a:cubicBezTo>
                  <a:pt x="24842" y="5267"/>
                  <a:pt x="24865" y="5198"/>
                  <a:pt x="24829" y="5333"/>
                </a:cubicBezTo>
                <a:cubicBezTo>
                  <a:pt x="24802" y="5436"/>
                  <a:pt x="24818" y="5479"/>
                  <a:pt x="24829" y="5581"/>
                </a:cubicBezTo>
                <a:cubicBezTo>
                  <a:pt x="24840" y="5680"/>
                  <a:pt x="24850" y="5781"/>
                  <a:pt x="24854" y="5879"/>
                </a:cubicBezTo>
                <a:cubicBezTo>
                  <a:pt x="24856" y="5942"/>
                  <a:pt x="24871" y="6030"/>
                  <a:pt x="24829" y="6077"/>
                </a:cubicBezTo>
                <a:cubicBezTo>
                  <a:pt x="24741" y="6175"/>
                  <a:pt x="24679" y="6154"/>
                  <a:pt x="24557" y="6127"/>
                </a:cubicBezTo>
                <a:cubicBezTo>
                  <a:pt x="24460" y="6105"/>
                  <a:pt x="24352" y="6077"/>
                  <a:pt x="24259" y="6052"/>
                </a:cubicBezTo>
                <a:cubicBezTo>
                  <a:pt x="24198" y="6036"/>
                  <a:pt x="24133" y="5991"/>
                  <a:pt x="24085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Ink 8"/>
          <p:cNvSpPr/>
          <p:nvPr/>
        </p:nvSpPr>
        <p:spPr>
          <a:xfrm>
            <a:off x="6242040" y="2268360"/>
            <a:ext cx="1419120" cy="581040"/>
          </a:xfrm>
          <a:custGeom>
            <a:avLst/>
            <a:gdLst/>
            <a:ahLst/>
            <a:rect l="l" t="t" r="r" b="b"/>
            <a:pathLst>
              <a:path w="3945" h="1614">
                <a:moveTo>
                  <a:pt x="17438" y="7045"/>
                </a:moveTo>
                <a:cubicBezTo>
                  <a:pt x="17454" y="7212"/>
                  <a:pt x="17481" y="7376"/>
                  <a:pt x="17487" y="7541"/>
                </a:cubicBezTo>
                <a:cubicBezTo>
                  <a:pt x="17491" y="7665"/>
                  <a:pt x="17487" y="7789"/>
                  <a:pt x="17487" y="7913"/>
                </a:cubicBezTo>
                <a:cubicBezTo>
                  <a:pt x="17462" y="7871"/>
                  <a:pt x="17425" y="7792"/>
                  <a:pt x="17413" y="7739"/>
                </a:cubicBezTo>
                <a:cubicBezTo>
                  <a:pt x="17395" y="7657"/>
                  <a:pt x="17382" y="7571"/>
                  <a:pt x="17363" y="7491"/>
                </a:cubicBezTo>
                <a:cubicBezTo>
                  <a:pt x="17339" y="7388"/>
                  <a:pt x="17338" y="7300"/>
                  <a:pt x="17338" y="7193"/>
                </a:cubicBezTo>
                <a:cubicBezTo>
                  <a:pt x="17338" y="7086"/>
                  <a:pt x="17332" y="6997"/>
                  <a:pt x="17363" y="6896"/>
                </a:cubicBezTo>
                <a:cubicBezTo>
                  <a:pt x="17397" y="6786"/>
                  <a:pt x="17437" y="6733"/>
                  <a:pt x="17537" y="6672"/>
                </a:cubicBezTo>
                <a:cubicBezTo>
                  <a:pt x="17606" y="6630"/>
                  <a:pt x="17652" y="6652"/>
                  <a:pt x="17711" y="6697"/>
                </a:cubicBezTo>
                <a:cubicBezTo>
                  <a:pt x="17769" y="6741"/>
                  <a:pt x="17799" y="6857"/>
                  <a:pt x="17810" y="6921"/>
                </a:cubicBezTo>
                <a:cubicBezTo>
                  <a:pt x="17823" y="7001"/>
                  <a:pt x="17764" y="7112"/>
                  <a:pt x="17711" y="7169"/>
                </a:cubicBezTo>
                <a:cubicBezTo>
                  <a:pt x="17654" y="7229"/>
                  <a:pt x="17626" y="7269"/>
                  <a:pt x="17562" y="7317"/>
                </a:cubicBezTo>
                <a:cubicBezTo>
                  <a:pt x="17554" y="7325"/>
                  <a:pt x="17545" y="7334"/>
                  <a:pt x="17537" y="7342"/>
                </a:cubicBezTo>
              </a:path>
              <a:path w="3945" h="1614">
                <a:moveTo>
                  <a:pt x="18430" y="6896"/>
                </a:moveTo>
                <a:cubicBezTo>
                  <a:pt x="18488" y="6954"/>
                  <a:pt x="18393" y="6795"/>
                  <a:pt x="18380" y="6772"/>
                </a:cubicBezTo>
                <a:cubicBezTo>
                  <a:pt x="18338" y="6697"/>
                  <a:pt x="18323" y="6654"/>
                  <a:pt x="18231" y="6697"/>
                </a:cubicBezTo>
                <a:cubicBezTo>
                  <a:pt x="18198" y="6712"/>
                  <a:pt x="18141" y="6856"/>
                  <a:pt x="18132" y="6896"/>
                </a:cubicBezTo>
                <a:cubicBezTo>
                  <a:pt x="18121" y="6946"/>
                  <a:pt x="18096" y="7071"/>
                  <a:pt x="18107" y="7119"/>
                </a:cubicBezTo>
                <a:cubicBezTo>
                  <a:pt x="18121" y="7182"/>
                  <a:pt x="18137" y="7223"/>
                  <a:pt x="18182" y="7268"/>
                </a:cubicBezTo>
                <a:cubicBezTo>
                  <a:pt x="18229" y="7315"/>
                  <a:pt x="18314" y="7296"/>
                  <a:pt x="18355" y="7243"/>
                </a:cubicBezTo>
                <a:cubicBezTo>
                  <a:pt x="18391" y="7197"/>
                  <a:pt x="18437" y="7126"/>
                  <a:pt x="18455" y="7069"/>
                </a:cubicBezTo>
                <a:cubicBezTo>
                  <a:pt x="18483" y="6979"/>
                  <a:pt x="18504" y="6937"/>
                  <a:pt x="18504" y="6846"/>
                </a:cubicBezTo>
                <a:cubicBezTo>
                  <a:pt x="18457" y="6941"/>
                  <a:pt x="18467" y="6950"/>
                  <a:pt x="18479" y="7045"/>
                </a:cubicBezTo>
                <a:cubicBezTo>
                  <a:pt x="18488" y="7114"/>
                  <a:pt x="18475" y="7184"/>
                  <a:pt x="18504" y="7243"/>
                </a:cubicBezTo>
                <a:cubicBezTo>
                  <a:pt x="18529" y="7293"/>
                  <a:pt x="18557" y="7353"/>
                  <a:pt x="18604" y="7317"/>
                </a:cubicBezTo>
                <a:cubicBezTo>
                  <a:pt x="18633" y="7288"/>
                  <a:pt x="18644" y="7273"/>
                  <a:pt x="18653" y="7243"/>
                </a:cubicBezTo>
              </a:path>
              <a:path w="3945" h="1614">
                <a:moveTo>
                  <a:pt x="18777" y="6921"/>
                </a:moveTo>
                <a:cubicBezTo>
                  <a:pt x="18777" y="7008"/>
                  <a:pt x="18771" y="7136"/>
                  <a:pt x="18802" y="7218"/>
                </a:cubicBezTo>
                <a:cubicBezTo>
                  <a:pt x="18810" y="7226"/>
                  <a:pt x="18819" y="7235"/>
                  <a:pt x="18827" y="7243"/>
                </a:cubicBezTo>
                <a:cubicBezTo>
                  <a:pt x="18819" y="7167"/>
                  <a:pt x="18802" y="7124"/>
                  <a:pt x="18802" y="7045"/>
                </a:cubicBezTo>
                <a:cubicBezTo>
                  <a:pt x="18802" y="6964"/>
                  <a:pt x="18834" y="6937"/>
                  <a:pt x="18852" y="6871"/>
                </a:cubicBezTo>
                <a:cubicBezTo>
                  <a:pt x="18872" y="6797"/>
                  <a:pt x="18877" y="6747"/>
                  <a:pt x="18951" y="6697"/>
                </a:cubicBezTo>
                <a:cubicBezTo>
                  <a:pt x="18995" y="6667"/>
                  <a:pt x="19052" y="6647"/>
                  <a:pt x="19100" y="6623"/>
                </a:cubicBezTo>
              </a:path>
              <a:path w="3945" h="1614">
                <a:moveTo>
                  <a:pt x="19521" y="6722"/>
                </a:moveTo>
                <a:cubicBezTo>
                  <a:pt x="19561" y="6781"/>
                  <a:pt x="19565" y="6793"/>
                  <a:pt x="19596" y="6821"/>
                </a:cubicBezTo>
                <a:cubicBezTo>
                  <a:pt x="19577" y="6783"/>
                  <a:pt x="19545" y="6686"/>
                  <a:pt x="19496" y="6672"/>
                </a:cubicBezTo>
                <a:cubicBezTo>
                  <a:pt x="19413" y="6648"/>
                  <a:pt x="19415" y="6735"/>
                  <a:pt x="19372" y="6772"/>
                </a:cubicBezTo>
                <a:cubicBezTo>
                  <a:pt x="19287" y="6845"/>
                  <a:pt x="19303" y="6865"/>
                  <a:pt x="19273" y="6970"/>
                </a:cubicBezTo>
                <a:cubicBezTo>
                  <a:pt x="19252" y="7042"/>
                  <a:pt x="19223" y="7101"/>
                  <a:pt x="19273" y="7169"/>
                </a:cubicBezTo>
                <a:cubicBezTo>
                  <a:pt x="19321" y="7234"/>
                  <a:pt x="19376" y="7228"/>
                  <a:pt x="19447" y="7193"/>
                </a:cubicBezTo>
                <a:cubicBezTo>
                  <a:pt x="19504" y="7165"/>
                  <a:pt x="19548" y="7074"/>
                  <a:pt x="19571" y="7020"/>
                </a:cubicBezTo>
                <a:cubicBezTo>
                  <a:pt x="19597" y="6959"/>
                  <a:pt x="19591" y="6921"/>
                  <a:pt x="19621" y="6871"/>
                </a:cubicBezTo>
                <a:cubicBezTo>
                  <a:pt x="19629" y="6950"/>
                  <a:pt x="19644" y="6993"/>
                  <a:pt x="19670" y="7069"/>
                </a:cubicBezTo>
                <a:cubicBezTo>
                  <a:pt x="19694" y="7138"/>
                  <a:pt x="19754" y="7263"/>
                  <a:pt x="19844" y="7268"/>
                </a:cubicBezTo>
                <a:cubicBezTo>
                  <a:pt x="19884" y="7248"/>
                  <a:pt x="19890" y="7239"/>
                  <a:pt x="19918" y="7243"/>
                </a:cubicBezTo>
              </a:path>
              <a:path w="3945" h="1614">
                <a:moveTo>
                  <a:pt x="20067" y="6300"/>
                </a:moveTo>
                <a:cubicBezTo>
                  <a:pt x="20058" y="6376"/>
                  <a:pt x="20025" y="6447"/>
                  <a:pt x="20017" y="6524"/>
                </a:cubicBezTo>
                <a:cubicBezTo>
                  <a:pt x="19989" y="6815"/>
                  <a:pt x="19859" y="7621"/>
                  <a:pt x="20042" y="7392"/>
                </a:cubicBezTo>
                <a:cubicBezTo>
                  <a:pt x="20050" y="7367"/>
                  <a:pt x="20059" y="7342"/>
                  <a:pt x="20067" y="7317"/>
                </a:cubicBezTo>
              </a:path>
              <a:path w="3945" h="1614">
                <a:moveTo>
                  <a:pt x="20365" y="6350"/>
                </a:moveTo>
                <a:cubicBezTo>
                  <a:pt x="20365" y="6553"/>
                  <a:pt x="20360" y="6746"/>
                  <a:pt x="20340" y="6945"/>
                </a:cubicBezTo>
                <a:cubicBezTo>
                  <a:pt x="20331" y="7034"/>
                  <a:pt x="20301" y="7157"/>
                  <a:pt x="20315" y="7243"/>
                </a:cubicBezTo>
                <a:cubicBezTo>
                  <a:pt x="20331" y="7344"/>
                  <a:pt x="20357" y="7274"/>
                  <a:pt x="20365" y="7243"/>
                </a:cubicBezTo>
              </a:path>
              <a:path w="3945" h="1614">
                <a:moveTo>
                  <a:pt x="20439" y="7119"/>
                </a:moveTo>
                <a:cubicBezTo>
                  <a:pt x="20519" y="7066"/>
                  <a:pt x="20599" y="7006"/>
                  <a:pt x="20687" y="6970"/>
                </a:cubicBezTo>
                <a:cubicBezTo>
                  <a:pt x="20758" y="6941"/>
                  <a:pt x="20861" y="6908"/>
                  <a:pt x="20910" y="6846"/>
                </a:cubicBezTo>
                <a:cubicBezTo>
                  <a:pt x="20950" y="6796"/>
                  <a:pt x="20977" y="6756"/>
                  <a:pt x="20985" y="6697"/>
                </a:cubicBezTo>
                <a:cubicBezTo>
                  <a:pt x="20909" y="6707"/>
                  <a:pt x="20875" y="6734"/>
                  <a:pt x="20811" y="6772"/>
                </a:cubicBezTo>
                <a:cubicBezTo>
                  <a:pt x="20746" y="6811"/>
                  <a:pt x="20700" y="6876"/>
                  <a:pt x="20662" y="6945"/>
                </a:cubicBezTo>
                <a:cubicBezTo>
                  <a:pt x="20622" y="7017"/>
                  <a:pt x="20613" y="7063"/>
                  <a:pt x="20613" y="7144"/>
                </a:cubicBezTo>
                <a:cubicBezTo>
                  <a:pt x="20613" y="7203"/>
                  <a:pt x="20624" y="7288"/>
                  <a:pt x="20687" y="7317"/>
                </a:cubicBezTo>
                <a:cubicBezTo>
                  <a:pt x="20766" y="7354"/>
                  <a:pt x="20834" y="7350"/>
                  <a:pt x="20910" y="7317"/>
                </a:cubicBezTo>
                <a:cubicBezTo>
                  <a:pt x="20980" y="7286"/>
                  <a:pt x="21028" y="7243"/>
                  <a:pt x="21084" y="7193"/>
                </a:cubicBezTo>
              </a:path>
              <a:path w="3945" h="1614">
                <a:moveTo>
                  <a:pt x="21282" y="6325"/>
                </a:moveTo>
                <a:cubicBezTo>
                  <a:pt x="21282" y="6414"/>
                  <a:pt x="21266" y="6488"/>
                  <a:pt x="21258" y="6573"/>
                </a:cubicBezTo>
                <a:cubicBezTo>
                  <a:pt x="21247" y="6688"/>
                  <a:pt x="21237" y="6807"/>
                  <a:pt x="21233" y="6921"/>
                </a:cubicBezTo>
                <a:cubicBezTo>
                  <a:pt x="21230" y="7018"/>
                  <a:pt x="21197" y="7099"/>
                  <a:pt x="21183" y="7193"/>
                </a:cubicBezTo>
                <a:cubicBezTo>
                  <a:pt x="21168" y="7295"/>
                  <a:pt x="21152" y="7390"/>
                  <a:pt x="21134" y="74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Ink 9"/>
          <p:cNvSpPr/>
          <p:nvPr/>
        </p:nvSpPr>
        <p:spPr>
          <a:xfrm>
            <a:off x="6375240" y="2840040"/>
            <a:ext cx="1652760" cy="455760"/>
          </a:xfrm>
          <a:custGeom>
            <a:avLst/>
            <a:gdLst/>
            <a:ahLst/>
            <a:rect l="l" t="t" r="r" b="b"/>
            <a:pathLst>
              <a:path w="4589" h="1266">
                <a:moveTo>
                  <a:pt x="17711" y="8558"/>
                </a:moveTo>
                <a:cubicBezTo>
                  <a:pt x="17718" y="8632"/>
                  <a:pt x="17720" y="8705"/>
                  <a:pt x="17735" y="8781"/>
                </a:cubicBezTo>
                <a:cubicBezTo>
                  <a:pt x="17743" y="8821"/>
                  <a:pt x="17746" y="8973"/>
                  <a:pt x="17760" y="9004"/>
                </a:cubicBezTo>
                <a:cubicBezTo>
                  <a:pt x="17802" y="9004"/>
                  <a:pt x="17810" y="9021"/>
                  <a:pt x="17785" y="9079"/>
                </a:cubicBezTo>
                <a:cubicBezTo>
                  <a:pt x="17785" y="8998"/>
                  <a:pt x="17800" y="8921"/>
                  <a:pt x="17810" y="8855"/>
                </a:cubicBezTo>
                <a:cubicBezTo>
                  <a:pt x="17823" y="8766"/>
                  <a:pt x="17804" y="8666"/>
                  <a:pt x="17835" y="8582"/>
                </a:cubicBezTo>
                <a:cubicBezTo>
                  <a:pt x="17858" y="8518"/>
                  <a:pt x="17895" y="8420"/>
                  <a:pt x="17934" y="8359"/>
                </a:cubicBezTo>
                <a:cubicBezTo>
                  <a:pt x="17938" y="8354"/>
                  <a:pt x="18032" y="8285"/>
                  <a:pt x="18033" y="8285"/>
                </a:cubicBezTo>
                <a:cubicBezTo>
                  <a:pt x="18106" y="8290"/>
                  <a:pt x="18180" y="8342"/>
                  <a:pt x="18207" y="8409"/>
                </a:cubicBezTo>
                <a:cubicBezTo>
                  <a:pt x="18241" y="8494"/>
                  <a:pt x="18276" y="8573"/>
                  <a:pt x="18306" y="8657"/>
                </a:cubicBezTo>
                <a:cubicBezTo>
                  <a:pt x="18348" y="8772"/>
                  <a:pt x="18351" y="8897"/>
                  <a:pt x="18380" y="9004"/>
                </a:cubicBezTo>
                <a:cubicBezTo>
                  <a:pt x="18405" y="9095"/>
                  <a:pt x="18429" y="9142"/>
                  <a:pt x="18479" y="9103"/>
                </a:cubicBezTo>
              </a:path>
              <a:path w="4589" h="1266">
                <a:moveTo>
                  <a:pt x="18579" y="8706"/>
                </a:moveTo>
                <a:cubicBezTo>
                  <a:pt x="18695" y="8706"/>
                  <a:pt x="18748" y="8711"/>
                  <a:pt x="18827" y="8657"/>
                </a:cubicBezTo>
                <a:cubicBezTo>
                  <a:pt x="18905" y="8603"/>
                  <a:pt x="18946" y="8649"/>
                  <a:pt x="19000" y="8558"/>
                </a:cubicBezTo>
                <a:cubicBezTo>
                  <a:pt x="19029" y="8509"/>
                  <a:pt x="19065" y="8470"/>
                  <a:pt x="19050" y="8409"/>
                </a:cubicBezTo>
                <a:cubicBezTo>
                  <a:pt x="19025" y="8309"/>
                  <a:pt x="18997" y="8325"/>
                  <a:pt x="18926" y="8334"/>
                </a:cubicBezTo>
                <a:cubicBezTo>
                  <a:pt x="18844" y="8344"/>
                  <a:pt x="18820" y="8363"/>
                  <a:pt x="18777" y="8434"/>
                </a:cubicBezTo>
                <a:cubicBezTo>
                  <a:pt x="18741" y="8493"/>
                  <a:pt x="18706" y="8568"/>
                  <a:pt x="18703" y="8632"/>
                </a:cubicBezTo>
                <a:cubicBezTo>
                  <a:pt x="18701" y="8686"/>
                  <a:pt x="18678" y="8811"/>
                  <a:pt x="18728" y="8855"/>
                </a:cubicBezTo>
                <a:cubicBezTo>
                  <a:pt x="18759" y="8882"/>
                  <a:pt x="18789" y="8919"/>
                  <a:pt x="18827" y="8954"/>
                </a:cubicBezTo>
                <a:cubicBezTo>
                  <a:pt x="18861" y="8985"/>
                  <a:pt x="18970" y="9046"/>
                  <a:pt x="19025" y="9004"/>
                </a:cubicBezTo>
                <a:cubicBezTo>
                  <a:pt x="19076" y="8964"/>
                  <a:pt x="19118" y="8936"/>
                  <a:pt x="19174" y="8880"/>
                </a:cubicBezTo>
              </a:path>
              <a:path w="4589" h="1266">
                <a:moveTo>
                  <a:pt x="19447" y="8483"/>
                </a:moveTo>
                <a:cubicBezTo>
                  <a:pt x="19447" y="8621"/>
                  <a:pt x="19464" y="8726"/>
                  <a:pt x="19472" y="8855"/>
                </a:cubicBezTo>
                <a:cubicBezTo>
                  <a:pt x="19473" y="8878"/>
                  <a:pt x="19488" y="9037"/>
                  <a:pt x="19496" y="9004"/>
                </a:cubicBezTo>
                <a:cubicBezTo>
                  <a:pt x="19496" y="8979"/>
                  <a:pt x="19496" y="8955"/>
                  <a:pt x="19496" y="8930"/>
                </a:cubicBezTo>
              </a:path>
              <a:path w="4589" h="1266">
                <a:moveTo>
                  <a:pt x="19496" y="7913"/>
                </a:moveTo>
                <a:cubicBezTo>
                  <a:pt x="19504" y="7905"/>
                  <a:pt x="19513" y="7896"/>
                  <a:pt x="19521" y="7888"/>
                </a:cubicBezTo>
              </a:path>
              <a:path w="4589" h="1266">
                <a:moveTo>
                  <a:pt x="19819" y="8012"/>
                </a:moveTo>
                <a:cubicBezTo>
                  <a:pt x="19836" y="8118"/>
                  <a:pt x="19867" y="8249"/>
                  <a:pt x="19844" y="8359"/>
                </a:cubicBezTo>
                <a:cubicBezTo>
                  <a:pt x="19822" y="8462"/>
                  <a:pt x="19819" y="8550"/>
                  <a:pt x="19819" y="8657"/>
                </a:cubicBezTo>
                <a:cubicBezTo>
                  <a:pt x="19819" y="8718"/>
                  <a:pt x="19840" y="8832"/>
                  <a:pt x="19844" y="8855"/>
                </a:cubicBezTo>
                <a:cubicBezTo>
                  <a:pt x="19844" y="8913"/>
                  <a:pt x="19827" y="8938"/>
                  <a:pt x="19869" y="8930"/>
                </a:cubicBezTo>
              </a:path>
              <a:path w="4589" h="1266">
                <a:moveTo>
                  <a:pt x="19621" y="8483"/>
                </a:moveTo>
                <a:cubicBezTo>
                  <a:pt x="19802" y="8483"/>
                  <a:pt x="20016" y="8516"/>
                  <a:pt x="20166" y="8434"/>
                </a:cubicBezTo>
                <a:cubicBezTo>
                  <a:pt x="20247" y="8390"/>
                  <a:pt x="20302" y="8412"/>
                  <a:pt x="20340" y="8334"/>
                </a:cubicBezTo>
                <a:cubicBezTo>
                  <a:pt x="20368" y="8276"/>
                  <a:pt x="20382" y="8151"/>
                  <a:pt x="20389" y="8086"/>
                </a:cubicBezTo>
                <a:cubicBezTo>
                  <a:pt x="20396" y="8023"/>
                  <a:pt x="20401" y="7988"/>
                  <a:pt x="20414" y="7938"/>
                </a:cubicBezTo>
                <a:cubicBezTo>
                  <a:pt x="20414" y="8074"/>
                  <a:pt x="20427" y="8199"/>
                  <a:pt x="20439" y="8334"/>
                </a:cubicBezTo>
                <a:cubicBezTo>
                  <a:pt x="20447" y="8418"/>
                  <a:pt x="20461" y="8498"/>
                  <a:pt x="20464" y="8582"/>
                </a:cubicBezTo>
                <a:cubicBezTo>
                  <a:pt x="20467" y="8675"/>
                  <a:pt x="20485" y="8766"/>
                  <a:pt x="20513" y="8855"/>
                </a:cubicBezTo>
                <a:cubicBezTo>
                  <a:pt x="20513" y="8890"/>
                  <a:pt x="20518" y="8908"/>
                  <a:pt x="20538" y="8930"/>
                </a:cubicBezTo>
                <a:cubicBezTo>
                  <a:pt x="20548" y="8900"/>
                  <a:pt x="20583" y="8764"/>
                  <a:pt x="20613" y="8706"/>
                </a:cubicBezTo>
                <a:cubicBezTo>
                  <a:pt x="20641" y="8651"/>
                  <a:pt x="20660" y="8549"/>
                  <a:pt x="20687" y="8508"/>
                </a:cubicBezTo>
                <a:cubicBezTo>
                  <a:pt x="20712" y="8469"/>
                  <a:pt x="20833" y="8428"/>
                  <a:pt x="20861" y="8409"/>
                </a:cubicBezTo>
                <a:cubicBezTo>
                  <a:pt x="20894" y="8458"/>
                  <a:pt x="20937" y="8502"/>
                  <a:pt x="20960" y="8558"/>
                </a:cubicBezTo>
                <a:cubicBezTo>
                  <a:pt x="20974" y="8592"/>
                  <a:pt x="21004" y="8668"/>
                  <a:pt x="21010" y="8706"/>
                </a:cubicBezTo>
                <a:cubicBezTo>
                  <a:pt x="21015" y="8738"/>
                  <a:pt x="21046" y="8915"/>
                  <a:pt x="21084" y="8930"/>
                </a:cubicBezTo>
                <a:cubicBezTo>
                  <a:pt x="21174" y="8966"/>
                  <a:pt x="21243" y="8914"/>
                  <a:pt x="21307" y="8880"/>
                </a:cubicBezTo>
                <a:cubicBezTo>
                  <a:pt x="21367" y="8848"/>
                  <a:pt x="21423" y="8790"/>
                  <a:pt x="21456" y="8731"/>
                </a:cubicBezTo>
                <a:cubicBezTo>
                  <a:pt x="21491" y="8669"/>
                  <a:pt x="21557" y="8580"/>
                  <a:pt x="21555" y="8508"/>
                </a:cubicBezTo>
                <a:cubicBezTo>
                  <a:pt x="21553" y="8453"/>
                  <a:pt x="21527" y="8409"/>
                  <a:pt x="21506" y="8359"/>
                </a:cubicBezTo>
                <a:cubicBezTo>
                  <a:pt x="21423" y="8412"/>
                  <a:pt x="21401" y="8380"/>
                  <a:pt x="21357" y="8483"/>
                </a:cubicBezTo>
                <a:cubicBezTo>
                  <a:pt x="21345" y="8512"/>
                  <a:pt x="21298" y="8593"/>
                  <a:pt x="21307" y="8657"/>
                </a:cubicBezTo>
                <a:cubicBezTo>
                  <a:pt x="21315" y="8709"/>
                  <a:pt x="21349" y="8760"/>
                  <a:pt x="21382" y="8781"/>
                </a:cubicBezTo>
                <a:cubicBezTo>
                  <a:pt x="21436" y="8816"/>
                  <a:pt x="21487" y="8804"/>
                  <a:pt x="21555" y="8806"/>
                </a:cubicBezTo>
                <a:cubicBezTo>
                  <a:pt x="21614" y="8808"/>
                  <a:pt x="21704" y="8806"/>
                  <a:pt x="21754" y="8781"/>
                </a:cubicBezTo>
                <a:cubicBezTo>
                  <a:pt x="21837" y="8739"/>
                  <a:pt x="21890" y="8632"/>
                  <a:pt x="21927" y="8558"/>
                </a:cubicBezTo>
                <a:cubicBezTo>
                  <a:pt x="21953" y="8507"/>
                  <a:pt x="21980" y="8458"/>
                  <a:pt x="22002" y="8409"/>
                </a:cubicBezTo>
                <a:cubicBezTo>
                  <a:pt x="22029" y="8350"/>
                  <a:pt x="22038" y="8334"/>
                  <a:pt x="22076" y="8285"/>
                </a:cubicBezTo>
                <a:cubicBezTo>
                  <a:pt x="22101" y="8348"/>
                  <a:pt x="22124" y="8431"/>
                  <a:pt x="22151" y="8483"/>
                </a:cubicBezTo>
                <a:cubicBezTo>
                  <a:pt x="22178" y="8536"/>
                  <a:pt x="22226" y="8576"/>
                  <a:pt x="22250" y="8632"/>
                </a:cubicBezTo>
                <a:cubicBezTo>
                  <a:pt x="22290" y="8726"/>
                  <a:pt x="22291" y="8753"/>
                  <a:pt x="22299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angle between two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Cos 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4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u•v)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|u|| 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|v||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angle betwee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&lt;7, 6&gt; an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&lt;-4, 2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Ink 5"/>
          <p:cNvSpPr/>
          <p:nvPr/>
        </p:nvSpPr>
        <p:spPr>
          <a:xfrm>
            <a:off x="990720" y="1857240"/>
            <a:ext cx="2527200" cy="366840"/>
          </a:xfrm>
          <a:custGeom>
            <a:avLst/>
            <a:gdLst/>
            <a:ahLst/>
            <a:rect l="l" t="t" r="r" b="b"/>
            <a:pathLst>
              <a:path w="7021" h="1018">
                <a:moveTo>
                  <a:pt x="3225" y="5432"/>
                </a:moveTo>
                <a:cubicBezTo>
                  <a:pt x="3254" y="5462"/>
                  <a:pt x="3265" y="5477"/>
                  <a:pt x="3274" y="5507"/>
                </a:cubicBezTo>
                <a:cubicBezTo>
                  <a:pt x="3266" y="5426"/>
                  <a:pt x="3241" y="5336"/>
                  <a:pt x="3200" y="5259"/>
                </a:cubicBezTo>
                <a:cubicBezTo>
                  <a:pt x="3172" y="5206"/>
                  <a:pt x="3105" y="5192"/>
                  <a:pt x="3051" y="5209"/>
                </a:cubicBezTo>
                <a:cubicBezTo>
                  <a:pt x="2962" y="5237"/>
                  <a:pt x="2913" y="5310"/>
                  <a:pt x="2877" y="5383"/>
                </a:cubicBezTo>
                <a:cubicBezTo>
                  <a:pt x="2830" y="5478"/>
                  <a:pt x="2808" y="5579"/>
                  <a:pt x="2778" y="5680"/>
                </a:cubicBezTo>
                <a:cubicBezTo>
                  <a:pt x="2753" y="5762"/>
                  <a:pt x="2758" y="5897"/>
                  <a:pt x="2803" y="5978"/>
                </a:cubicBezTo>
                <a:cubicBezTo>
                  <a:pt x="2859" y="6077"/>
                  <a:pt x="2911" y="6155"/>
                  <a:pt x="3026" y="6176"/>
                </a:cubicBezTo>
                <a:cubicBezTo>
                  <a:pt x="3142" y="6197"/>
                  <a:pt x="3208" y="6138"/>
                  <a:pt x="3299" y="6077"/>
                </a:cubicBezTo>
              </a:path>
              <a:path w="7021" h="1018">
                <a:moveTo>
                  <a:pt x="3597" y="5755"/>
                </a:moveTo>
                <a:cubicBezTo>
                  <a:pt x="3597" y="5861"/>
                  <a:pt x="3578" y="5979"/>
                  <a:pt x="3621" y="6077"/>
                </a:cubicBezTo>
                <a:cubicBezTo>
                  <a:pt x="3650" y="6142"/>
                  <a:pt x="3688" y="6197"/>
                  <a:pt x="3770" y="6176"/>
                </a:cubicBezTo>
                <a:cubicBezTo>
                  <a:pt x="3860" y="6153"/>
                  <a:pt x="3853" y="6065"/>
                  <a:pt x="3894" y="6003"/>
                </a:cubicBezTo>
                <a:cubicBezTo>
                  <a:pt x="3943" y="5930"/>
                  <a:pt x="3984" y="5830"/>
                  <a:pt x="3969" y="5730"/>
                </a:cubicBezTo>
                <a:cubicBezTo>
                  <a:pt x="3952" y="5616"/>
                  <a:pt x="3896" y="5537"/>
                  <a:pt x="3820" y="5457"/>
                </a:cubicBezTo>
                <a:cubicBezTo>
                  <a:pt x="3770" y="5405"/>
                  <a:pt x="3696" y="5386"/>
                  <a:pt x="3621" y="5407"/>
                </a:cubicBezTo>
                <a:cubicBezTo>
                  <a:pt x="3583" y="5418"/>
                  <a:pt x="3491" y="5478"/>
                  <a:pt x="3522" y="5531"/>
                </a:cubicBezTo>
                <a:cubicBezTo>
                  <a:pt x="3530" y="5531"/>
                  <a:pt x="3539" y="5531"/>
                  <a:pt x="3547" y="5531"/>
                </a:cubicBezTo>
              </a:path>
              <a:path w="7021" h="1018">
                <a:moveTo>
                  <a:pt x="4564" y="5209"/>
                </a:moveTo>
                <a:cubicBezTo>
                  <a:pt x="4468" y="5232"/>
                  <a:pt x="4352" y="5252"/>
                  <a:pt x="4266" y="5308"/>
                </a:cubicBezTo>
                <a:cubicBezTo>
                  <a:pt x="4202" y="5350"/>
                  <a:pt x="4221" y="5383"/>
                  <a:pt x="4266" y="5432"/>
                </a:cubicBezTo>
                <a:cubicBezTo>
                  <a:pt x="4350" y="5522"/>
                  <a:pt x="4491" y="5570"/>
                  <a:pt x="4589" y="5655"/>
                </a:cubicBezTo>
                <a:cubicBezTo>
                  <a:pt x="4646" y="5704"/>
                  <a:pt x="4721" y="5768"/>
                  <a:pt x="4688" y="5854"/>
                </a:cubicBezTo>
                <a:cubicBezTo>
                  <a:pt x="4663" y="5919"/>
                  <a:pt x="4551" y="5966"/>
                  <a:pt x="4490" y="5978"/>
                </a:cubicBezTo>
                <a:cubicBezTo>
                  <a:pt x="4429" y="5990"/>
                  <a:pt x="4363" y="5982"/>
                  <a:pt x="4316" y="5953"/>
                </a:cubicBezTo>
              </a:path>
              <a:path w="7021" h="1018">
                <a:moveTo>
                  <a:pt x="5135" y="5159"/>
                </a:moveTo>
                <a:cubicBezTo>
                  <a:pt x="5135" y="5269"/>
                  <a:pt x="5113" y="5349"/>
                  <a:pt x="5085" y="5457"/>
                </a:cubicBezTo>
                <a:cubicBezTo>
                  <a:pt x="5045" y="5610"/>
                  <a:pt x="4994" y="5747"/>
                  <a:pt x="5035" y="5904"/>
                </a:cubicBezTo>
                <a:cubicBezTo>
                  <a:pt x="5055" y="5980"/>
                  <a:pt x="5137" y="6038"/>
                  <a:pt x="5209" y="6052"/>
                </a:cubicBezTo>
                <a:cubicBezTo>
                  <a:pt x="5290" y="6068"/>
                  <a:pt x="5386" y="6042"/>
                  <a:pt x="5457" y="6003"/>
                </a:cubicBezTo>
                <a:cubicBezTo>
                  <a:pt x="5562" y="5946"/>
                  <a:pt x="5683" y="5809"/>
                  <a:pt x="5680" y="5680"/>
                </a:cubicBezTo>
                <a:cubicBezTo>
                  <a:pt x="5675" y="5444"/>
                  <a:pt x="5633" y="5441"/>
                  <a:pt x="5482" y="5333"/>
                </a:cubicBezTo>
                <a:cubicBezTo>
                  <a:pt x="5399" y="5273"/>
                  <a:pt x="5339" y="5246"/>
                  <a:pt x="5234" y="5234"/>
                </a:cubicBezTo>
              </a:path>
              <a:path w="7021" h="1018">
                <a:moveTo>
                  <a:pt x="4887" y="5631"/>
                </a:moveTo>
                <a:cubicBezTo>
                  <a:pt x="5081" y="5631"/>
                  <a:pt x="5266" y="5619"/>
                  <a:pt x="5457" y="5606"/>
                </a:cubicBezTo>
                <a:cubicBezTo>
                  <a:pt x="5563" y="5599"/>
                  <a:pt x="5673" y="5606"/>
                  <a:pt x="5779" y="5606"/>
                </a:cubicBezTo>
              </a:path>
              <a:path w="7021" h="1018">
                <a:moveTo>
                  <a:pt x="6375" y="5507"/>
                </a:moveTo>
                <a:cubicBezTo>
                  <a:pt x="6500" y="5507"/>
                  <a:pt x="6604" y="5500"/>
                  <a:pt x="6722" y="5531"/>
                </a:cubicBezTo>
              </a:path>
              <a:path w="7021" h="1018">
                <a:moveTo>
                  <a:pt x="6400" y="5730"/>
                </a:moveTo>
                <a:cubicBezTo>
                  <a:pt x="6475" y="5768"/>
                  <a:pt x="6535" y="5795"/>
                  <a:pt x="6623" y="5779"/>
                </a:cubicBezTo>
                <a:cubicBezTo>
                  <a:pt x="6648" y="5771"/>
                  <a:pt x="6672" y="5763"/>
                  <a:pt x="6697" y="5755"/>
                </a:cubicBezTo>
              </a:path>
              <a:path w="7021" h="1018">
                <a:moveTo>
                  <a:pt x="7417" y="5358"/>
                </a:moveTo>
                <a:cubicBezTo>
                  <a:pt x="7444" y="5460"/>
                  <a:pt x="7421" y="5505"/>
                  <a:pt x="7417" y="5606"/>
                </a:cubicBezTo>
                <a:cubicBezTo>
                  <a:pt x="7414" y="5688"/>
                  <a:pt x="7416" y="5778"/>
                  <a:pt x="7441" y="5854"/>
                </a:cubicBezTo>
                <a:cubicBezTo>
                  <a:pt x="7469" y="5940"/>
                  <a:pt x="7536" y="5935"/>
                  <a:pt x="7590" y="5928"/>
                </a:cubicBezTo>
                <a:cubicBezTo>
                  <a:pt x="7667" y="5918"/>
                  <a:pt x="7705" y="5882"/>
                  <a:pt x="7739" y="5804"/>
                </a:cubicBezTo>
                <a:cubicBezTo>
                  <a:pt x="7774" y="5724"/>
                  <a:pt x="7809" y="5643"/>
                  <a:pt x="7813" y="5556"/>
                </a:cubicBezTo>
                <a:cubicBezTo>
                  <a:pt x="7817" y="5475"/>
                  <a:pt x="7805" y="5408"/>
                  <a:pt x="7789" y="5333"/>
                </a:cubicBezTo>
                <a:cubicBezTo>
                  <a:pt x="7789" y="5325"/>
                  <a:pt x="7789" y="5316"/>
                  <a:pt x="7789" y="5308"/>
                </a:cubicBezTo>
              </a:path>
              <a:path w="7021" h="1018">
                <a:moveTo>
                  <a:pt x="8235" y="5531"/>
                </a:moveTo>
                <a:cubicBezTo>
                  <a:pt x="8243" y="5523"/>
                  <a:pt x="8252" y="5515"/>
                  <a:pt x="8260" y="5507"/>
                </a:cubicBezTo>
              </a:path>
              <a:path w="7021" h="1018">
                <a:moveTo>
                  <a:pt x="8607" y="5482"/>
                </a:moveTo>
                <a:cubicBezTo>
                  <a:pt x="8643" y="5565"/>
                  <a:pt x="8681" y="5724"/>
                  <a:pt x="8731" y="5804"/>
                </a:cubicBezTo>
                <a:cubicBezTo>
                  <a:pt x="8753" y="5840"/>
                  <a:pt x="8800" y="5873"/>
                  <a:pt x="8830" y="5904"/>
                </a:cubicBezTo>
                <a:cubicBezTo>
                  <a:pt x="8842" y="5842"/>
                  <a:pt x="8876" y="5787"/>
                  <a:pt x="8905" y="5730"/>
                </a:cubicBezTo>
                <a:cubicBezTo>
                  <a:pt x="8943" y="5655"/>
                  <a:pt x="8983" y="5599"/>
                  <a:pt x="9029" y="5531"/>
                </a:cubicBezTo>
                <a:cubicBezTo>
                  <a:pt x="9077" y="5459"/>
                  <a:pt x="9126" y="5419"/>
                  <a:pt x="9178" y="5358"/>
                </a:cubicBezTo>
                <a:cubicBezTo>
                  <a:pt x="9219" y="5311"/>
                  <a:pt x="9239" y="5274"/>
                  <a:pt x="9302" y="5259"/>
                </a:cubicBezTo>
              </a:path>
              <a:path w="7021" h="1018">
                <a:moveTo>
                  <a:pt x="7441" y="6102"/>
                </a:moveTo>
                <a:cubicBezTo>
                  <a:pt x="7498" y="6118"/>
                  <a:pt x="7546" y="6127"/>
                  <a:pt x="7615" y="6127"/>
                </a:cubicBezTo>
                <a:cubicBezTo>
                  <a:pt x="7816" y="6127"/>
                  <a:pt x="8012" y="6114"/>
                  <a:pt x="8210" y="6102"/>
                </a:cubicBezTo>
                <a:cubicBezTo>
                  <a:pt x="8424" y="6089"/>
                  <a:pt x="8641" y="6081"/>
                  <a:pt x="8855" y="6077"/>
                </a:cubicBezTo>
                <a:cubicBezTo>
                  <a:pt x="9055" y="6074"/>
                  <a:pt x="9250" y="6052"/>
                  <a:pt x="9451" y="6052"/>
                </a:cubicBezTo>
                <a:cubicBezTo>
                  <a:pt x="9488" y="6052"/>
                  <a:pt x="9844" y="6067"/>
                  <a:pt x="9723" y="6052"/>
                </a:cubicBezTo>
                <a:cubicBezTo>
                  <a:pt x="9665" y="6044"/>
                  <a:pt x="9608" y="6036"/>
                  <a:pt x="9550" y="60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Ink 6"/>
          <p:cNvSpPr/>
          <p:nvPr/>
        </p:nvSpPr>
        <p:spPr>
          <a:xfrm>
            <a:off x="2571840" y="2367000"/>
            <a:ext cx="9360" cy="32076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169" y="6573"/>
                </a:moveTo>
                <a:cubicBezTo>
                  <a:pt x="7169" y="6728"/>
                  <a:pt x="7149" y="6869"/>
                  <a:pt x="7144" y="7020"/>
                </a:cubicBezTo>
                <a:cubicBezTo>
                  <a:pt x="7139" y="7177"/>
                  <a:pt x="7144" y="7598"/>
                  <a:pt x="714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Ink 7"/>
          <p:cNvSpPr/>
          <p:nvPr/>
        </p:nvSpPr>
        <p:spPr>
          <a:xfrm>
            <a:off x="2678040" y="2330280"/>
            <a:ext cx="366840" cy="37656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7441" y="6474"/>
                </a:moveTo>
                <a:cubicBezTo>
                  <a:pt x="7475" y="6599"/>
                  <a:pt x="7491" y="6691"/>
                  <a:pt x="7491" y="6821"/>
                </a:cubicBezTo>
                <a:cubicBezTo>
                  <a:pt x="7491" y="6948"/>
                  <a:pt x="7466" y="7065"/>
                  <a:pt x="7466" y="7193"/>
                </a:cubicBezTo>
                <a:cubicBezTo>
                  <a:pt x="7466" y="7270"/>
                  <a:pt x="7442" y="7458"/>
                  <a:pt x="7491" y="7441"/>
                </a:cubicBezTo>
              </a:path>
              <a:path w="1018" h="1043">
                <a:moveTo>
                  <a:pt x="7665" y="6945"/>
                </a:moveTo>
                <a:cubicBezTo>
                  <a:pt x="7690" y="7013"/>
                  <a:pt x="7703" y="7096"/>
                  <a:pt x="7714" y="7169"/>
                </a:cubicBezTo>
                <a:cubicBezTo>
                  <a:pt x="7726" y="7251"/>
                  <a:pt x="7725" y="7289"/>
                  <a:pt x="7764" y="7367"/>
                </a:cubicBezTo>
                <a:cubicBezTo>
                  <a:pt x="7800" y="7439"/>
                  <a:pt x="7884" y="7437"/>
                  <a:pt x="7938" y="7367"/>
                </a:cubicBezTo>
                <a:cubicBezTo>
                  <a:pt x="7984" y="7307"/>
                  <a:pt x="7991" y="7233"/>
                  <a:pt x="8012" y="7169"/>
                </a:cubicBezTo>
                <a:cubicBezTo>
                  <a:pt x="8030" y="7116"/>
                  <a:pt x="8042" y="7073"/>
                  <a:pt x="8062" y="7020"/>
                </a:cubicBezTo>
                <a:cubicBezTo>
                  <a:pt x="8028" y="7108"/>
                  <a:pt x="8048" y="7132"/>
                  <a:pt x="8062" y="7218"/>
                </a:cubicBezTo>
                <a:cubicBezTo>
                  <a:pt x="8076" y="7301"/>
                  <a:pt x="8103" y="7377"/>
                  <a:pt x="8161" y="7441"/>
                </a:cubicBezTo>
                <a:cubicBezTo>
                  <a:pt x="8191" y="7471"/>
                  <a:pt x="8205" y="7476"/>
                  <a:pt x="8235" y="7441"/>
                </a:cubicBezTo>
              </a:path>
              <a:path w="1018" h="1043">
                <a:moveTo>
                  <a:pt x="8434" y="6598"/>
                </a:moveTo>
                <a:cubicBezTo>
                  <a:pt x="8434" y="6824"/>
                  <a:pt x="8435" y="7047"/>
                  <a:pt x="8458" y="7268"/>
                </a:cubicBezTo>
                <a:cubicBezTo>
                  <a:pt x="8467" y="7351"/>
                  <a:pt x="8491" y="7578"/>
                  <a:pt x="8434" y="7516"/>
                </a:cubicBezTo>
                <a:cubicBezTo>
                  <a:pt x="8434" y="7474"/>
                  <a:pt x="8434" y="7466"/>
                  <a:pt x="843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Ink 8"/>
          <p:cNvSpPr/>
          <p:nvPr/>
        </p:nvSpPr>
        <p:spPr>
          <a:xfrm>
            <a:off x="3133800" y="2313000"/>
            <a:ext cx="19080" cy="393840"/>
          </a:xfrm>
          <a:custGeom>
            <a:avLst/>
            <a:gdLst/>
            <a:ahLst/>
            <a:rect l="l" t="t" r="r" b="b"/>
            <a:pathLst>
              <a:path w="51" h="1093">
                <a:moveTo>
                  <a:pt x="8706" y="6424"/>
                </a:moveTo>
                <a:cubicBezTo>
                  <a:pt x="8730" y="6544"/>
                  <a:pt x="8731" y="6649"/>
                  <a:pt x="8731" y="6772"/>
                </a:cubicBezTo>
                <a:cubicBezTo>
                  <a:pt x="8731" y="6901"/>
                  <a:pt x="8665" y="7455"/>
                  <a:pt x="8756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Ink 9"/>
          <p:cNvSpPr/>
          <p:nvPr/>
        </p:nvSpPr>
        <p:spPr>
          <a:xfrm>
            <a:off x="3330720" y="2276640"/>
            <a:ext cx="652320" cy="50940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9302" y="6499"/>
                </a:moveTo>
                <a:cubicBezTo>
                  <a:pt x="9285" y="6681"/>
                  <a:pt x="9257" y="6864"/>
                  <a:pt x="9252" y="7045"/>
                </a:cubicBezTo>
                <a:cubicBezTo>
                  <a:pt x="9248" y="7180"/>
                  <a:pt x="9230" y="7339"/>
                  <a:pt x="9277" y="7466"/>
                </a:cubicBezTo>
                <a:cubicBezTo>
                  <a:pt x="9308" y="7551"/>
                  <a:pt x="9324" y="7544"/>
                  <a:pt x="9376" y="7491"/>
                </a:cubicBezTo>
              </a:path>
              <a:path w="1812" h="1415">
                <a:moveTo>
                  <a:pt x="9624" y="6474"/>
                </a:moveTo>
                <a:cubicBezTo>
                  <a:pt x="9624" y="6644"/>
                  <a:pt x="9603" y="6803"/>
                  <a:pt x="9599" y="6970"/>
                </a:cubicBezTo>
                <a:cubicBezTo>
                  <a:pt x="9594" y="7148"/>
                  <a:pt x="9664" y="7302"/>
                  <a:pt x="9699" y="7466"/>
                </a:cubicBezTo>
                <a:cubicBezTo>
                  <a:pt x="9716" y="7545"/>
                  <a:pt x="9690" y="7540"/>
                  <a:pt x="9773" y="7516"/>
                </a:cubicBezTo>
              </a:path>
              <a:path w="1812" h="1415">
                <a:moveTo>
                  <a:pt x="9971" y="7069"/>
                </a:moveTo>
                <a:cubicBezTo>
                  <a:pt x="10015" y="7174"/>
                  <a:pt x="10032" y="7265"/>
                  <a:pt x="10071" y="7367"/>
                </a:cubicBezTo>
                <a:cubicBezTo>
                  <a:pt x="10096" y="7431"/>
                  <a:pt x="10096" y="7488"/>
                  <a:pt x="10145" y="7541"/>
                </a:cubicBezTo>
                <a:cubicBezTo>
                  <a:pt x="10153" y="7549"/>
                  <a:pt x="10162" y="7557"/>
                  <a:pt x="10170" y="7565"/>
                </a:cubicBezTo>
                <a:cubicBezTo>
                  <a:pt x="10178" y="7476"/>
                  <a:pt x="10207" y="7405"/>
                  <a:pt x="10220" y="7317"/>
                </a:cubicBezTo>
                <a:cubicBezTo>
                  <a:pt x="10235" y="7210"/>
                  <a:pt x="10262" y="7099"/>
                  <a:pt x="10294" y="6995"/>
                </a:cubicBezTo>
                <a:cubicBezTo>
                  <a:pt x="10319" y="6922"/>
                  <a:pt x="10327" y="6898"/>
                  <a:pt x="10319" y="6846"/>
                </a:cubicBezTo>
              </a:path>
              <a:path w="1812" h="1415">
                <a:moveTo>
                  <a:pt x="10567" y="6325"/>
                </a:moveTo>
                <a:cubicBezTo>
                  <a:pt x="10567" y="6487"/>
                  <a:pt x="10546" y="6636"/>
                  <a:pt x="10542" y="6796"/>
                </a:cubicBezTo>
                <a:cubicBezTo>
                  <a:pt x="10538" y="6944"/>
                  <a:pt x="10560" y="7099"/>
                  <a:pt x="10592" y="7243"/>
                </a:cubicBezTo>
                <a:cubicBezTo>
                  <a:pt x="10610" y="7323"/>
                  <a:pt x="10623" y="7446"/>
                  <a:pt x="10666" y="7516"/>
                </a:cubicBezTo>
                <a:cubicBezTo>
                  <a:pt x="10701" y="7551"/>
                  <a:pt x="10714" y="7546"/>
                  <a:pt x="10716" y="7466"/>
                </a:cubicBezTo>
              </a:path>
              <a:path w="1812" h="1415">
                <a:moveTo>
                  <a:pt x="10914" y="6325"/>
                </a:moveTo>
                <a:cubicBezTo>
                  <a:pt x="10930" y="6577"/>
                  <a:pt x="10916" y="6843"/>
                  <a:pt x="10939" y="7094"/>
                </a:cubicBezTo>
                <a:cubicBezTo>
                  <a:pt x="10957" y="7284"/>
                  <a:pt x="11040" y="7454"/>
                  <a:pt x="11063" y="7640"/>
                </a:cubicBezTo>
                <a:cubicBezTo>
                  <a:pt x="11063" y="7673"/>
                  <a:pt x="11063" y="7706"/>
                  <a:pt x="11063" y="77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Ink 10"/>
          <p:cNvSpPr/>
          <p:nvPr/>
        </p:nvSpPr>
        <p:spPr>
          <a:xfrm>
            <a:off x="1214280" y="3054240"/>
            <a:ext cx="130356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3671" y="8582"/>
                </a:moveTo>
                <a:cubicBezTo>
                  <a:pt x="3679" y="8637"/>
                  <a:pt x="3688" y="8651"/>
                  <a:pt x="3696" y="8706"/>
                </a:cubicBezTo>
                <a:cubicBezTo>
                  <a:pt x="3642" y="8666"/>
                  <a:pt x="3619" y="8566"/>
                  <a:pt x="3572" y="8508"/>
                </a:cubicBezTo>
                <a:cubicBezTo>
                  <a:pt x="3491" y="8409"/>
                  <a:pt x="3448" y="8526"/>
                  <a:pt x="3423" y="8582"/>
                </a:cubicBezTo>
                <a:cubicBezTo>
                  <a:pt x="3385" y="8666"/>
                  <a:pt x="3373" y="8716"/>
                  <a:pt x="3373" y="8806"/>
                </a:cubicBezTo>
                <a:cubicBezTo>
                  <a:pt x="3373" y="8905"/>
                  <a:pt x="3395" y="9009"/>
                  <a:pt x="3423" y="9103"/>
                </a:cubicBezTo>
                <a:cubicBezTo>
                  <a:pt x="3443" y="9171"/>
                  <a:pt x="3474" y="9322"/>
                  <a:pt x="3522" y="9376"/>
                </a:cubicBezTo>
                <a:cubicBezTo>
                  <a:pt x="3581" y="9443"/>
                  <a:pt x="3606" y="9451"/>
                  <a:pt x="3696" y="9451"/>
                </a:cubicBezTo>
                <a:cubicBezTo>
                  <a:pt x="3754" y="9451"/>
                  <a:pt x="3789" y="9431"/>
                  <a:pt x="3820" y="9376"/>
                </a:cubicBezTo>
              </a:path>
              <a:path w="3623" h="1018">
                <a:moveTo>
                  <a:pt x="4093" y="8781"/>
                </a:moveTo>
                <a:cubicBezTo>
                  <a:pt x="4093" y="8869"/>
                  <a:pt x="4072" y="8946"/>
                  <a:pt x="4068" y="9029"/>
                </a:cubicBezTo>
                <a:cubicBezTo>
                  <a:pt x="4064" y="9110"/>
                  <a:pt x="4052" y="9261"/>
                  <a:pt x="4093" y="9302"/>
                </a:cubicBezTo>
                <a:cubicBezTo>
                  <a:pt x="4123" y="9332"/>
                  <a:pt x="4134" y="9346"/>
                  <a:pt x="4142" y="9376"/>
                </a:cubicBezTo>
                <a:cubicBezTo>
                  <a:pt x="4222" y="9354"/>
                  <a:pt x="4227" y="9304"/>
                  <a:pt x="4291" y="9252"/>
                </a:cubicBezTo>
                <a:cubicBezTo>
                  <a:pt x="4369" y="9190"/>
                  <a:pt x="4376" y="9107"/>
                  <a:pt x="4390" y="9004"/>
                </a:cubicBezTo>
                <a:cubicBezTo>
                  <a:pt x="4402" y="8913"/>
                  <a:pt x="4358" y="8851"/>
                  <a:pt x="4316" y="8781"/>
                </a:cubicBezTo>
                <a:cubicBezTo>
                  <a:pt x="4276" y="8714"/>
                  <a:pt x="4194" y="8660"/>
                  <a:pt x="4118" y="8731"/>
                </a:cubicBezTo>
                <a:cubicBezTo>
                  <a:pt x="4110" y="8748"/>
                  <a:pt x="4101" y="8764"/>
                  <a:pt x="4093" y="8781"/>
                </a:cubicBezTo>
              </a:path>
              <a:path w="3623" h="1018">
                <a:moveTo>
                  <a:pt x="4911" y="8657"/>
                </a:moveTo>
                <a:cubicBezTo>
                  <a:pt x="4860" y="8708"/>
                  <a:pt x="4787" y="8731"/>
                  <a:pt x="4713" y="8781"/>
                </a:cubicBezTo>
                <a:cubicBezTo>
                  <a:pt x="4619" y="8844"/>
                  <a:pt x="4626" y="8916"/>
                  <a:pt x="4713" y="9004"/>
                </a:cubicBezTo>
                <a:cubicBezTo>
                  <a:pt x="4803" y="9095"/>
                  <a:pt x="4951" y="9168"/>
                  <a:pt x="5035" y="9252"/>
                </a:cubicBezTo>
                <a:cubicBezTo>
                  <a:pt x="5057" y="9296"/>
                  <a:pt x="5060" y="9308"/>
                  <a:pt x="5085" y="9327"/>
                </a:cubicBezTo>
                <a:cubicBezTo>
                  <a:pt x="4992" y="9382"/>
                  <a:pt x="4926" y="9376"/>
                  <a:pt x="4812" y="9376"/>
                </a:cubicBezTo>
                <a:cubicBezTo>
                  <a:pt x="4745" y="9376"/>
                  <a:pt x="4752" y="9350"/>
                  <a:pt x="4713" y="9302"/>
                </a:cubicBezTo>
              </a:path>
              <a:path w="3623" h="1018">
                <a:moveTo>
                  <a:pt x="5556" y="8632"/>
                </a:moveTo>
                <a:cubicBezTo>
                  <a:pt x="5527" y="8746"/>
                  <a:pt x="5505" y="8823"/>
                  <a:pt x="5457" y="8930"/>
                </a:cubicBezTo>
                <a:cubicBezTo>
                  <a:pt x="5410" y="9036"/>
                  <a:pt x="5407" y="9139"/>
                  <a:pt x="5407" y="9252"/>
                </a:cubicBezTo>
                <a:cubicBezTo>
                  <a:pt x="5407" y="9355"/>
                  <a:pt x="5429" y="9415"/>
                  <a:pt x="5507" y="9451"/>
                </a:cubicBezTo>
                <a:cubicBezTo>
                  <a:pt x="5591" y="9490"/>
                  <a:pt x="5638" y="9503"/>
                  <a:pt x="5730" y="9475"/>
                </a:cubicBezTo>
                <a:cubicBezTo>
                  <a:pt x="5789" y="9457"/>
                  <a:pt x="5890" y="9359"/>
                  <a:pt x="5904" y="9302"/>
                </a:cubicBezTo>
                <a:cubicBezTo>
                  <a:pt x="5926" y="9212"/>
                  <a:pt x="5896" y="9084"/>
                  <a:pt x="5854" y="9004"/>
                </a:cubicBezTo>
                <a:cubicBezTo>
                  <a:pt x="5807" y="8914"/>
                  <a:pt x="5745" y="8854"/>
                  <a:pt x="5680" y="8781"/>
                </a:cubicBezTo>
                <a:cubicBezTo>
                  <a:pt x="5625" y="8720"/>
                  <a:pt x="5628" y="8716"/>
                  <a:pt x="5556" y="8706"/>
                </a:cubicBezTo>
              </a:path>
              <a:path w="3623" h="1018">
                <a:moveTo>
                  <a:pt x="5259" y="9004"/>
                </a:moveTo>
                <a:cubicBezTo>
                  <a:pt x="5412" y="9039"/>
                  <a:pt x="5523" y="9079"/>
                  <a:pt x="5680" y="9079"/>
                </a:cubicBezTo>
                <a:cubicBezTo>
                  <a:pt x="5812" y="9079"/>
                  <a:pt x="5945" y="9079"/>
                  <a:pt x="6077" y="9079"/>
                </a:cubicBezTo>
              </a:path>
              <a:path w="3623" h="1018">
                <a:moveTo>
                  <a:pt x="6474" y="9004"/>
                </a:moveTo>
                <a:cubicBezTo>
                  <a:pt x="6538" y="9004"/>
                  <a:pt x="6687" y="8992"/>
                  <a:pt x="6747" y="9029"/>
                </a:cubicBezTo>
                <a:cubicBezTo>
                  <a:pt x="6763" y="9046"/>
                  <a:pt x="6780" y="9062"/>
                  <a:pt x="6796" y="9079"/>
                </a:cubicBezTo>
              </a:path>
              <a:path w="3623" h="1018">
                <a:moveTo>
                  <a:pt x="6524" y="9252"/>
                </a:moveTo>
                <a:cubicBezTo>
                  <a:pt x="6669" y="9289"/>
                  <a:pt x="6753" y="9302"/>
                  <a:pt x="6896" y="9302"/>
                </a:cubicBezTo>
                <a:cubicBezTo>
                  <a:pt x="6945" y="9302"/>
                  <a:pt x="6962" y="9302"/>
                  <a:pt x="699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11"/>
          <p:cNvSpPr/>
          <p:nvPr/>
        </p:nvSpPr>
        <p:spPr>
          <a:xfrm>
            <a:off x="2840040" y="3160800"/>
            <a:ext cx="1438200" cy="376200"/>
          </a:xfrm>
          <a:custGeom>
            <a:avLst/>
            <a:gdLst/>
            <a:ahLst/>
            <a:rect l="l" t="t" r="r" b="b"/>
            <a:pathLst>
              <a:path w="3994" h="1043">
                <a:moveTo>
                  <a:pt x="7888" y="9079"/>
                </a:moveTo>
                <a:cubicBezTo>
                  <a:pt x="7952" y="9088"/>
                  <a:pt x="7991" y="9103"/>
                  <a:pt x="8062" y="9103"/>
                </a:cubicBezTo>
              </a:path>
              <a:path w="3994" h="1043">
                <a:moveTo>
                  <a:pt x="8458" y="8880"/>
                </a:moveTo>
                <a:cubicBezTo>
                  <a:pt x="8623" y="8782"/>
                  <a:pt x="8615" y="8810"/>
                  <a:pt x="8781" y="8855"/>
                </a:cubicBezTo>
                <a:cubicBezTo>
                  <a:pt x="8862" y="8877"/>
                  <a:pt x="8875" y="8901"/>
                  <a:pt x="8855" y="9004"/>
                </a:cubicBezTo>
                <a:cubicBezTo>
                  <a:pt x="8841" y="9078"/>
                  <a:pt x="8793" y="9118"/>
                  <a:pt x="8756" y="9178"/>
                </a:cubicBezTo>
                <a:cubicBezTo>
                  <a:pt x="8721" y="9235"/>
                  <a:pt x="8683" y="9333"/>
                  <a:pt x="8632" y="9376"/>
                </a:cubicBezTo>
                <a:cubicBezTo>
                  <a:pt x="8585" y="9416"/>
                  <a:pt x="8554" y="9454"/>
                  <a:pt x="8508" y="9500"/>
                </a:cubicBezTo>
                <a:cubicBezTo>
                  <a:pt x="8500" y="9508"/>
                  <a:pt x="8491" y="9517"/>
                  <a:pt x="8483" y="9525"/>
                </a:cubicBezTo>
                <a:cubicBezTo>
                  <a:pt x="8559" y="9496"/>
                  <a:pt x="8623" y="9500"/>
                  <a:pt x="8706" y="9500"/>
                </a:cubicBezTo>
                <a:cubicBezTo>
                  <a:pt x="8776" y="9500"/>
                  <a:pt x="8832" y="9525"/>
                  <a:pt x="8905" y="9525"/>
                </a:cubicBezTo>
                <a:cubicBezTo>
                  <a:pt x="8969" y="9525"/>
                  <a:pt x="8995" y="9522"/>
                  <a:pt x="9054" y="9500"/>
                </a:cubicBezTo>
              </a:path>
              <a:path w="3994" h="1043">
                <a:moveTo>
                  <a:pt x="9252" y="8806"/>
                </a:moveTo>
                <a:cubicBezTo>
                  <a:pt x="9217" y="8912"/>
                  <a:pt x="9175" y="8988"/>
                  <a:pt x="9203" y="9079"/>
                </a:cubicBezTo>
                <a:cubicBezTo>
                  <a:pt x="9237" y="9188"/>
                  <a:pt x="9297" y="9153"/>
                  <a:pt x="9401" y="9153"/>
                </a:cubicBezTo>
                <a:cubicBezTo>
                  <a:pt x="9486" y="9153"/>
                  <a:pt x="9505" y="9154"/>
                  <a:pt x="9550" y="9079"/>
                </a:cubicBezTo>
                <a:cubicBezTo>
                  <a:pt x="9594" y="9007"/>
                  <a:pt x="9599" y="8984"/>
                  <a:pt x="9575" y="8930"/>
                </a:cubicBezTo>
                <a:cubicBezTo>
                  <a:pt x="9540" y="8849"/>
                  <a:pt x="9470" y="8729"/>
                  <a:pt x="9351" y="8781"/>
                </a:cubicBezTo>
                <a:cubicBezTo>
                  <a:pt x="9318" y="8806"/>
                  <a:pt x="9285" y="8830"/>
                  <a:pt x="9252" y="8855"/>
                </a:cubicBezTo>
              </a:path>
              <a:path w="3994" h="1043">
                <a:moveTo>
                  <a:pt x="9426" y="9153"/>
                </a:moveTo>
                <a:cubicBezTo>
                  <a:pt x="9372" y="9180"/>
                  <a:pt x="9310" y="9204"/>
                  <a:pt x="9277" y="9252"/>
                </a:cubicBezTo>
                <a:cubicBezTo>
                  <a:pt x="9238" y="9308"/>
                  <a:pt x="9275" y="9409"/>
                  <a:pt x="9327" y="9451"/>
                </a:cubicBezTo>
                <a:cubicBezTo>
                  <a:pt x="9375" y="9489"/>
                  <a:pt x="9488" y="9519"/>
                  <a:pt x="9550" y="9525"/>
                </a:cubicBezTo>
                <a:cubicBezTo>
                  <a:pt x="9639" y="9534"/>
                  <a:pt x="9670" y="9482"/>
                  <a:pt x="9723" y="9451"/>
                </a:cubicBezTo>
                <a:cubicBezTo>
                  <a:pt x="9785" y="9414"/>
                  <a:pt x="9806" y="9326"/>
                  <a:pt x="9773" y="9252"/>
                </a:cubicBezTo>
                <a:cubicBezTo>
                  <a:pt x="9754" y="9210"/>
                  <a:pt x="9703" y="9141"/>
                  <a:pt x="9674" y="9103"/>
                </a:cubicBezTo>
                <a:cubicBezTo>
                  <a:pt x="9644" y="9063"/>
                  <a:pt x="9595" y="9079"/>
                  <a:pt x="9550" y="9079"/>
                </a:cubicBezTo>
              </a:path>
              <a:path w="3994" h="1043">
                <a:moveTo>
                  <a:pt x="10244" y="8930"/>
                </a:moveTo>
                <a:cubicBezTo>
                  <a:pt x="10244" y="9000"/>
                  <a:pt x="10217" y="9090"/>
                  <a:pt x="10220" y="9153"/>
                </a:cubicBezTo>
                <a:cubicBezTo>
                  <a:pt x="10224" y="9229"/>
                  <a:pt x="10246" y="9380"/>
                  <a:pt x="10294" y="9451"/>
                </a:cubicBezTo>
                <a:cubicBezTo>
                  <a:pt x="10317" y="9473"/>
                  <a:pt x="10325" y="9478"/>
                  <a:pt x="10319" y="9500"/>
                </a:cubicBezTo>
              </a:path>
              <a:path w="3994" h="1043">
                <a:moveTo>
                  <a:pt x="10021" y="9153"/>
                </a:moveTo>
                <a:cubicBezTo>
                  <a:pt x="10111" y="9153"/>
                  <a:pt x="10183" y="9166"/>
                  <a:pt x="10269" y="9178"/>
                </a:cubicBezTo>
                <a:cubicBezTo>
                  <a:pt x="10353" y="9190"/>
                  <a:pt x="10401" y="9227"/>
                  <a:pt x="10492" y="9227"/>
                </a:cubicBezTo>
                <a:cubicBezTo>
                  <a:pt x="10500" y="9227"/>
                  <a:pt x="10509" y="9227"/>
                  <a:pt x="10517" y="9227"/>
                </a:cubicBezTo>
              </a:path>
              <a:path w="3994" h="1043">
                <a:moveTo>
                  <a:pt x="10914" y="9153"/>
                </a:moveTo>
                <a:cubicBezTo>
                  <a:pt x="10930" y="9266"/>
                  <a:pt x="10960" y="9387"/>
                  <a:pt x="10964" y="9500"/>
                </a:cubicBezTo>
                <a:cubicBezTo>
                  <a:pt x="10966" y="9560"/>
                  <a:pt x="10973" y="9693"/>
                  <a:pt x="11013" y="9748"/>
                </a:cubicBezTo>
                <a:cubicBezTo>
                  <a:pt x="11021" y="9748"/>
                  <a:pt x="11030" y="9748"/>
                  <a:pt x="11038" y="9748"/>
                </a:cubicBezTo>
              </a:path>
              <a:path w="3994" h="1043">
                <a:moveTo>
                  <a:pt x="11162" y="9079"/>
                </a:moveTo>
                <a:cubicBezTo>
                  <a:pt x="11235" y="8954"/>
                  <a:pt x="11217" y="8930"/>
                  <a:pt x="11361" y="8930"/>
                </a:cubicBezTo>
                <a:cubicBezTo>
                  <a:pt x="11447" y="8930"/>
                  <a:pt x="11469" y="8943"/>
                  <a:pt x="11534" y="9004"/>
                </a:cubicBezTo>
                <a:cubicBezTo>
                  <a:pt x="11580" y="9047"/>
                  <a:pt x="11616" y="9168"/>
                  <a:pt x="11609" y="9227"/>
                </a:cubicBezTo>
                <a:cubicBezTo>
                  <a:pt x="11603" y="9279"/>
                  <a:pt x="11586" y="9395"/>
                  <a:pt x="11559" y="9451"/>
                </a:cubicBezTo>
                <a:cubicBezTo>
                  <a:pt x="11533" y="9505"/>
                  <a:pt x="11530" y="9573"/>
                  <a:pt x="11485" y="9624"/>
                </a:cubicBezTo>
                <a:cubicBezTo>
                  <a:pt x="11446" y="9669"/>
                  <a:pt x="11364" y="9713"/>
                  <a:pt x="11435" y="9773"/>
                </a:cubicBezTo>
                <a:cubicBezTo>
                  <a:pt x="11552" y="9871"/>
                  <a:pt x="11591" y="9799"/>
                  <a:pt x="11708" y="9773"/>
                </a:cubicBezTo>
                <a:cubicBezTo>
                  <a:pt x="11790" y="9773"/>
                  <a:pt x="11823" y="9773"/>
                  <a:pt x="11881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12"/>
          <p:cNvSpPr/>
          <p:nvPr/>
        </p:nvSpPr>
        <p:spPr>
          <a:xfrm>
            <a:off x="4653000" y="332100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12923" y="9922"/>
                </a:moveTo>
                <a:cubicBezTo>
                  <a:pt x="13031" y="9937"/>
                  <a:pt x="13083" y="9971"/>
                  <a:pt x="13196" y="9971"/>
                </a:cubicBezTo>
                <a:cubicBezTo>
                  <a:pt x="13213" y="9971"/>
                  <a:pt x="13229" y="9971"/>
                  <a:pt x="13246" y="9971"/>
                </a:cubicBezTo>
              </a:path>
              <a:path w="3325" h="1043">
                <a:moveTo>
                  <a:pt x="13047" y="10195"/>
                </a:moveTo>
                <a:cubicBezTo>
                  <a:pt x="13168" y="10221"/>
                  <a:pt x="13269" y="10220"/>
                  <a:pt x="13395" y="10220"/>
                </a:cubicBezTo>
              </a:path>
              <a:path w="3325" h="1043">
                <a:moveTo>
                  <a:pt x="13742" y="9674"/>
                </a:moveTo>
                <a:cubicBezTo>
                  <a:pt x="13866" y="9674"/>
                  <a:pt x="13990" y="9674"/>
                  <a:pt x="14114" y="9674"/>
                </a:cubicBezTo>
              </a:path>
              <a:path w="3325" h="1043">
                <a:moveTo>
                  <a:pt x="14511" y="9227"/>
                </a:moveTo>
                <a:cubicBezTo>
                  <a:pt x="14531" y="9365"/>
                  <a:pt x="14536" y="9486"/>
                  <a:pt x="14536" y="9624"/>
                </a:cubicBezTo>
                <a:cubicBezTo>
                  <a:pt x="14536" y="9754"/>
                  <a:pt x="14554" y="9870"/>
                  <a:pt x="14560" y="9996"/>
                </a:cubicBezTo>
                <a:cubicBezTo>
                  <a:pt x="14563" y="10054"/>
                  <a:pt x="14525" y="10160"/>
                  <a:pt x="14585" y="10120"/>
                </a:cubicBezTo>
              </a:path>
              <a:path w="3325" h="1043">
                <a:moveTo>
                  <a:pt x="14932" y="9227"/>
                </a:moveTo>
                <a:cubicBezTo>
                  <a:pt x="14924" y="9310"/>
                  <a:pt x="14909" y="9367"/>
                  <a:pt x="14883" y="9451"/>
                </a:cubicBezTo>
                <a:cubicBezTo>
                  <a:pt x="14855" y="9540"/>
                  <a:pt x="14841" y="9654"/>
                  <a:pt x="14858" y="9748"/>
                </a:cubicBezTo>
                <a:cubicBezTo>
                  <a:pt x="14867" y="9797"/>
                  <a:pt x="14941" y="9944"/>
                  <a:pt x="14982" y="9971"/>
                </a:cubicBezTo>
                <a:cubicBezTo>
                  <a:pt x="15019" y="9995"/>
                  <a:pt x="15162" y="10043"/>
                  <a:pt x="15205" y="10046"/>
                </a:cubicBezTo>
                <a:cubicBezTo>
                  <a:pt x="15298" y="10053"/>
                  <a:pt x="15374" y="10004"/>
                  <a:pt x="15404" y="9922"/>
                </a:cubicBezTo>
                <a:cubicBezTo>
                  <a:pt x="15429" y="9855"/>
                  <a:pt x="15391" y="9779"/>
                  <a:pt x="15329" y="9748"/>
                </a:cubicBezTo>
                <a:cubicBezTo>
                  <a:pt x="15227" y="9697"/>
                  <a:pt x="15164" y="9783"/>
                  <a:pt x="15106" y="9823"/>
                </a:cubicBezTo>
                <a:cubicBezTo>
                  <a:pt x="15065" y="9852"/>
                  <a:pt x="15035" y="9911"/>
                  <a:pt x="15032" y="9971"/>
                </a:cubicBezTo>
                <a:cubicBezTo>
                  <a:pt x="15028" y="10058"/>
                  <a:pt x="15039" y="10047"/>
                  <a:pt x="15007" y="10120"/>
                </a:cubicBezTo>
              </a:path>
              <a:path w="3325" h="1043">
                <a:moveTo>
                  <a:pt x="14114" y="10120"/>
                </a:moveTo>
                <a:cubicBezTo>
                  <a:pt x="14178" y="10201"/>
                  <a:pt x="14177" y="10195"/>
                  <a:pt x="14288" y="10195"/>
                </a:cubicBezTo>
                <a:cubicBezTo>
                  <a:pt x="14441" y="10195"/>
                  <a:pt x="14583" y="10194"/>
                  <a:pt x="14734" y="10220"/>
                </a:cubicBezTo>
                <a:cubicBezTo>
                  <a:pt x="14975" y="10261"/>
                  <a:pt x="15186" y="10269"/>
                  <a:pt x="15429" y="10269"/>
                </a:cubicBezTo>
                <a:cubicBezTo>
                  <a:pt x="15676" y="10269"/>
                  <a:pt x="15932" y="10291"/>
                  <a:pt x="16148" y="10220"/>
                </a:cubicBezTo>
                <a:cubicBezTo>
                  <a:pt x="16219" y="10197"/>
                  <a:pt x="16271" y="10251"/>
                  <a:pt x="16197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13"/>
          <p:cNvSpPr/>
          <p:nvPr/>
        </p:nvSpPr>
        <p:spPr>
          <a:xfrm>
            <a:off x="2482920" y="3616200"/>
            <a:ext cx="2259000" cy="571680"/>
          </a:xfrm>
          <a:custGeom>
            <a:avLst/>
            <a:gdLst/>
            <a:ahLst/>
            <a:rect l="l" t="t" r="r" b="b"/>
            <a:pathLst>
              <a:path w="6276" h="1588">
                <a:moveTo>
                  <a:pt x="6896" y="10344"/>
                </a:moveTo>
                <a:cubicBezTo>
                  <a:pt x="6945" y="10347"/>
                  <a:pt x="7031" y="10341"/>
                  <a:pt x="7069" y="10368"/>
                </a:cubicBezTo>
                <a:cubicBezTo>
                  <a:pt x="7125" y="10409"/>
                  <a:pt x="7157" y="10433"/>
                  <a:pt x="7193" y="10492"/>
                </a:cubicBezTo>
                <a:cubicBezTo>
                  <a:pt x="7240" y="10569"/>
                  <a:pt x="7248" y="10651"/>
                  <a:pt x="7268" y="10740"/>
                </a:cubicBezTo>
                <a:cubicBezTo>
                  <a:pt x="7293" y="10852"/>
                  <a:pt x="7293" y="10950"/>
                  <a:pt x="7293" y="11063"/>
                </a:cubicBezTo>
                <a:cubicBezTo>
                  <a:pt x="7293" y="11162"/>
                  <a:pt x="7293" y="11262"/>
                  <a:pt x="7293" y="11361"/>
                </a:cubicBezTo>
                <a:cubicBezTo>
                  <a:pt x="7305" y="11309"/>
                  <a:pt x="7308" y="11248"/>
                  <a:pt x="7317" y="11187"/>
                </a:cubicBezTo>
                <a:cubicBezTo>
                  <a:pt x="7330" y="11102"/>
                  <a:pt x="7339" y="11027"/>
                  <a:pt x="7342" y="10939"/>
                </a:cubicBezTo>
                <a:cubicBezTo>
                  <a:pt x="7346" y="10836"/>
                  <a:pt x="7363" y="10742"/>
                  <a:pt x="7367" y="10641"/>
                </a:cubicBezTo>
                <a:cubicBezTo>
                  <a:pt x="7371" y="10544"/>
                  <a:pt x="7389" y="10462"/>
                  <a:pt x="7392" y="10368"/>
                </a:cubicBezTo>
                <a:cubicBezTo>
                  <a:pt x="7395" y="10287"/>
                  <a:pt x="7409" y="10218"/>
                  <a:pt x="7417" y="10145"/>
                </a:cubicBezTo>
                <a:cubicBezTo>
                  <a:pt x="7421" y="10104"/>
                  <a:pt x="7399" y="10087"/>
                  <a:pt x="7392" y="10046"/>
                </a:cubicBezTo>
                <a:cubicBezTo>
                  <a:pt x="7578" y="10046"/>
                  <a:pt x="7755" y="10053"/>
                  <a:pt x="7938" y="10071"/>
                </a:cubicBezTo>
                <a:cubicBezTo>
                  <a:pt x="8063" y="10084"/>
                  <a:pt x="8173" y="10100"/>
                  <a:pt x="8285" y="10120"/>
                </a:cubicBezTo>
                <a:cubicBezTo>
                  <a:pt x="8447" y="10149"/>
                  <a:pt x="8643" y="10130"/>
                  <a:pt x="8806" y="10145"/>
                </a:cubicBezTo>
                <a:cubicBezTo>
                  <a:pt x="8887" y="10153"/>
                  <a:pt x="8973" y="10145"/>
                  <a:pt x="9054" y="10145"/>
                </a:cubicBezTo>
              </a:path>
              <a:path w="6276" h="1588">
                <a:moveTo>
                  <a:pt x="7665" y="10567"/>
                </a:moveTo>
                <a:cubicBezTo>
                  <a:pt x="7789" y="10567"/>
                  <a:pt x="7913" y="10567"/>
                  <a:pt x="8037" y="10567"/>
                </a:cubicBezTo>
                <a:cubicBezTo>
                  <a:pt x="8024" y="10629"/>
                  <a:pt x="7991" y="10674"/>
                  <a:pt x="7987" y="10740"/>
                </a:cubicBezTo>
                <a:cubicBezTo>
                  <a:pt x="7983" y="10818"/>
                  <a:pt x="7950" y="10889"/>
                  <a:pt x="7938" y="10964"/>
                </a:cubicBezTo>
                <a:cubicBezTo>
                  <a:pt x="7925" y="11052"/>
                  <a:pt x="7927" y="11190"/>
                  <a:pt x="7962" y="11261"/>
                </a:cubicBezTo>
              </a:path>
              <a:path w="6276" h="1588">
                <a:moveTo>
                  <a:pt x="8235" y="10344"/>
                </a:moveTo>
                <a:cubicBezTo>
                  <a:pt x="8273" y="10298"/>
                  <a:pt x="8342" y="10271"/>
                  <a:pt x="8359" y="10344"/>
                </a:cubicBezTo>
                <a:cubicBezTo>
                  <a:pt x="8370" y="10393"/>
                  <a:pt x="8327" y="10457"/>
                  <a:pt x="8285" y="10492"/>
                </a:cubicBezTo>
                <a:cubicBezTo>
                  <a:pt x="8224" y="10544"/>
                  <a:pt x="8209" y="10586"/>
                  <a:pt x="8310" y="10592"/>
                </a:cubicBezTo>
                <a:cubicBezTo>
                  <a:pt x="8376" y="10596"/>
                  <a:pt x="8431" y="10599"/>
                  <a:pt x="8483" y="10567"/>
                </a:cubicBezTo>
              </a:path>
              <a:path w="6276" h="1588">
                <a:moveTo>
                  <a:pt x="8582" y="10592"/>
                </a:moveTo>
                <a:cubicBezTo>
                  <a:pt x="8576" y="10681"/>
                  <a:pt x="8558" y="10751"/>
                  <a:pt x="8558" y="10840"/>
                </a:cubicBezTo>
                <a:cubicBezTo>
                  <a:pt x="8558" y="10913"/>
                  <a:pt x="8566" y="10976"/>
                  <a:pt x="8582" y="11038"/>
                </a:cubicBezTo>
                <a:cubicBezTo>
                  <a:pt x="8582" y="11046"/>
                  <a:pt x="8582" y="11055"/>
                  <a:pt x="8582" y="11063"/>
                </a:cubicBezTo>
              </a:path>
              <a:path w="6276" h="1588">
                <a:moveTo>
                  <a:pt x="8409" y="10815"/>
                </a:moveTo>
                <a:cubicBezTo>
                  <a:pt x="8475" y="10775"/>
                  <a:pt x="8506" y="10811"/>
                  <a:pt x="8582" y="10815"/>
                </a:cubicBezTo>
                <a:cubicBezTo>
                  <a:pt x="8634" y="10815"/>
                  <a:pt x="8652" y="10814"/>
                  <a:pt x="8682" y="10790"/>
                </a:cubicBezTo>
              </a:path>
              <a:path w="6276" h="1588">
                <a:moveTo>
                  <a:pt x="8930" y="10492"/>
                </a:moveTo>
                <a:cubicBezTo>
                  <a:pt x="8903" y="10573"/>
                  <a:pt x="8859" y="10656"/>
                  <a:pt x="8855" y="10740"/>
                </a:cubicBezTo>
                <a:cubicBezTo>
                  <a:pt x="8851" y="10836"/>
                  <a:pt x="8840" y="10873"/>
                  <a:pt x="8855" y="10964"/>
                </a:cubicBezTo>
                <a:cubicBezTo>
                  <a:pt x="8867" y="11036"/>
                  <a:pt x="8878" y="11060"/>
                  <a:pt x="8930" y="11112"/>
                </a:cubicBezTo>
                <a:cubicBezTo>
                  <a:pt x="8987" y="11170"/>
                  <a:pt x="9079" y="11171"/>
                  <a:pt x="9128" y="11088"/>
                </a:cubicBezTo>
                <a:cubicBezTo>
                  <a:pt x="9160" y="11033"/>
                  <a:pt x="9138" y="10987"/>
                  <a:pt x="9128" y="10939"/>
                </a:cubicBezTo>
                <a:cubicBezTo>
                  <a:pt x="9128" y="10894"/>
                  <a:pt x="9131" y="10881"/>
                  <a:pt x="9103" y="10864"/>
                </a:cubicBezTo>
                <a:cubicBezTo>
                  <a:pt x="9035" y="10903"/>
                  <a:pt x="8974" y="10975"/>
                  <a:pt x="8979" y="11063"/>
                </a:cubicBezTo>
                <a:cubicBezTo>
                  <a:pt x="8981" y="11103"/>
                  <a:pt x="9025" y="11175"/>
                  <a:pt x="9054" y="11212"/>
                </a:cubicBezTo>
              </a:path>
              <a:path w="6276" h="1588">
                <a:moveTo>
                  <a:pt x="9128" y="10344"/>
                </a:moveTo>
                <a:cubicBezTo>
                  <a:pt x="9180" y="10344"/>
                  <a:pt x="9198" y="10342"/>
                  <a:pt x="9203" y="10294"/>
                </a:cubicBezTo>
                <a:cubicBezTo>
                  <a:pt x="9258" y="10336"/>
                  <a:pt x="9274" y="10337"/>
                  <a:pt x="9327" y="10368"/>
                </a:cubicBezTo>
                <a:cubicBezTo>
                  <a:pt x="9295" y="10440"/>
                  <a:pt x="9261" y="10467"/>
                  <a:pt x="9227" y="10517"/>
                </a:cubicBezTo>
                <a:cubicBezTo>
                  <a:pt x="9162" y="10613"/>
                  <a:pt x="9246" y="10633"/>
                  <a:pt x="9327" y="10641"/>
                </a:cubicBezTo>
                <a:cubicBezTo>
                  <a:pt x="9376" y="10641"/>
                  <a:pt x="9393" y="10641"/>
                  <a:pt x="9426" y="10641"/>
                </a:cubicBezTo>
              </a:path>
              <a:path w="6276" h="1588">
                <a:moveTo>
                  <a:pt x="9947" y="10914"/>
                </a:moveTo>
                <a:cubicBezTo>
                  <a:pt x="9907" y="10964"/>
                  <a:pt x="9901" y="10961"/>
                  <a:pt x="9922" y="11013"/>
                </a:cubicBezTo>
                <a:cubicBezTo>
                  <a:pt x="10008" y="11002"/>
                  <a:pt x="10034" y="10999"/>
                  <a:pt x="10046" y="10914"/>
                </a:cubicBezTo>
                <a:cubicBezTo>
                  <a:pt x="10008" y="10891"/>
                  <a:pt x="9931" y="10859"/>
                  <a:pt x="9897" y="10914"/>
                </a:cubicBezTo>
                <a:cubicBezTo>
                  <a:pt x="9897" y="10922"/>
                  <a:pt x="9897" y="10931"/>
                  <a:pt x="9897" y="10939"/>
                </a:cubicBezTo>
              </a:path>
              <a:path w="6276" h="1588">
                <a:moveTo>
                  <a:pt x="10096" y="10418"/>
                </a:moveTo>
                <a:cubicBezTo>
                  <a:pt x="10159" y="10418"/>
                  <a:pt x="10539" y="10377"/>
                  <a:pt x="10567" y="10443"/>
                </a:cubicBezTo>
                <a:cubicBezTo>
                  <a:pt x="10655" y="10647"/>
                  <a:pt x="10567" y="11039"/>
                  <a:pt x="10592" y="11261"/>
                </a:cubicBezTo>
                <a:cubicBezTo>
                  <a:pt x="10603" y="11359"/>
                  <a:pt x="10606" y="11465"/>
                  <a:pt x="10616" y="11559"/>
                </a:cubicBezTo>
                <a:cubicBezTo>
                  <a:pt x="10616" y="11584"/>
                  <a:pt x="10616" y="11608"/>
                  <a:pt x="10616" y="11633"/>
                </a:cubicBezTo>
                <a:cubicBezTo>
                  <a:pt x="10639" y="11534"/>
                  <a:pt x="10662" y="11437"/>
                  <a:pt x="10666" y="11336"/>
                </a:cubicBezTo>
                <a:cubicBezTo>
                  <a:pt x="10670" y="11233"/>
                  <a:pt x="10687" y="11139"/>
                  <a:pt x="10691" y="11038"/>
                </a:cubicBezTo>
                <a:cubicBezTo>
                  <a:pt x="10700" y="10807"/>
                  <a:pt x="10691" y="10575"/>
                  <a:pt x="10691" y="10344"/>
                </a:cubicBezTo>
                <a:cubicBezTo>
                  <a:pt x="10747" y="10369"/>
                  <a:pt x="10804" y="10404"/>
                  <a:pt x="10864" y="10418"/>
                </a:cubicBezTo>
                <a:cubicBezTo>
                  <a:pt x="11005" y="10451"/>
                  <a:pt x="11195" y="10429"/>
                  <a:pt x="11336" y="10443"/>
                </a:cubicBezTo>
                <a:cubicBezTo>
                  <a:pt x="11485" y="10458"/>
                  <a:pt x="11621" y="10468"/>
                  <a:pt x="11757" y="10492"/>
                </a:cubicBezTo>
                <a:cubicBezTo>
                  <a:pt x="11907" y="10519"/>
                  <a:pt x="12181" y="10528"/>
                  <a:pt x="12328" y="10517"/>
                </a:cubicBezTo>
                <a:cubicBezTo>
                  <a:pt x="12333" y="10517"/>
                  <a:pt x="12466" y="10492"/>
                  <a:pt x="12402" y="10492"/>
                </a:cubicBezTo>
                <a:cubicBezTo>
                  <a:pt x="12386" y="10492"/>
                  <a:pt x="12369" y="10492"/>
                  <a:pt x="12353" y="10492"/>
                </a:cubicBezTo>
              </a:path>
              <a:path w="6276" h="1588">
                <a:moveTo>
                  <a:pt x="11137" y="10740"/>
                </a:moveTo>
                <a:cubicBezTo>
                  <a:pt x="11127" y="10838"/>
                  <a:pt x="11080" y="10917"/>
                  <a:pt x="11038" y="11013"/>
                </a:cubicBezTo>
                <a:cubicBezTo>
                  <a:pt x="11009" y="11079"/>
                  <a:pt x="10975" y="11142"/>
                  <a:pt x="10964" y="11212"/>
                </a:cubicBezTo>
                <a:cubicBezTo>
                  <a:pt x="10952" y="11286"/>
                  <a:pt x="10999" y="11399"/>
                  <a:pt x="11038" y="11460"/>
                </a:cubicBezTo>
                <a:cubicBezTo>
                  <a:pt x="11061" y="11483"/>
                  <a:pt x="11065" y="11491"/>
                  <a:pt x="11088" y="11485"/>
                </a:cubicBezTo>
              </a:path>
              <a:path w="6276" h="1588">
                <a:moveTo>
                  <a:pt x="11187" y="11063"/>
                </a:moveTo>
                <a:cubicBezTo>
                  <a:pt x="11274" y="11041"/>
                  <a:pt x="11345" y="11038"/>
                  <a:pt x="11435" y="11038"/>
                </a:cubicBezTo>
              </a:path>
              <a:path w="6276" h="1588">
                <a:moveTo>
                  <a:pt x="11584" y="10964"/>
                </a:moveTo>
                <a:cubicBezTo>
                  <a:pt x="11549" y="11024"/>
                  <a:pt x="11510" y="11052"/>
                  <a:pt x="11559" y="11112"/>
                </a:cubicBezTo>
                <a:cubicBezTo>
                  <a:pt x="11576" y="11133"/>
                  <a:pt x="11632" y="11205"/>
                  <a:pt x="11658" y="11212"/>
                </a:cubicBezTo>
                <a:cubicBezTo>
                  <a:pt x="11675" y="11212"/>
                  <a:pt x="11691" y="11212"/>
                  <a:pt x="11708" y="11212"/>
                </a:cubicBezTo>
              </a:path>
              <a:path w="6276" h="1588">
                <a:moveTo>
                  <a:pt x="11807" y="10939"/>
                </a:moveTo>
                <a:cubicBezTo>
                  <a:pt x="11799" y="10922"/>
                  <a:pt x="11790" y="10906"/>
                  <a:pt x="11782" y="10889"/>
                </a:cubicBezTo>
                <a:cubicBezTo>
                  <a:pt x="11752" y="10939"/>
                  <a:pt x="11736" y="10999"/>
                  <a:pt x="11733" y="11063"/>
                </a:cubicBezTo>
                <a:cubicBezTo>
                  <a:pt x="11726" y="11199"/>
                  <a:pt x="11736" y="11331"/>
                  <a:pt x="11757" y="11460"/>
                </a:cubicBezTo>
                <a:cubicBezTo>
                  <a:pt x="11757" y="11511"/>
                  <a:pt x="11758" y="11530"/>
                  <a:pt x="11782" y="11559"/>
                </a:cubicBezTo>
              </a:path>
              <a:path w="6276" h="1588">
                <a:moveTo>
                  <a:pt x="11782" y="10740"/>
                </a:moveTo>
                <a:cubicBezTo>
                  <a:pt x="11858" y="10794"/>
                  <a:pt x="11874" y="10847"/>
                  <a:pt x="11906" y="10939"/>
                </a:cubicBezTo>
                <a:cubicBezTo>
                  <a:pt x="11940" y="11036"/>
                  <a:pt x="11977" y="11108"/>
                  <a:pt x="11981" y="11212"/>
                </a:cubicBezTo>
                <a:cubicBezTo>
                  <a:pt x="11984" y="11286"/>
                  <a:pt x="11971" y="11396"/>
                  <a:pt x="11931" y="11460"/>
                </a:cubicBezTo>
                <a:cubicBezTo>
                  <a:pt x="11918" y="11481"/>
                  <a:pt x="11855" y="11603"/>
                  <a:pt x="11832" y="11534"/>
                </a:cubicBezTo>
                <a:cubicBezTo>
                  <a:pt x="11832" y="11518"/>
                  <a:pt x="11832" y="11501"/>
                  <a:pt x="11832" y="11485"/>
                </a:cubicBezTo>
              </a:path>
              <a:path w="6276" h="1588">
                <a:moveTo>
                  <a:pt x="12105" y="10691"/>
                </a:moveTo>
                <a:cubicBezTo>
                  <a:pt x="12216" y="10733"/>
                  <a:pt x="12202" y="10759"/>
                  <a:pt x="12154" y="10864"/>
                </a:cubicBezTo>
                <a:cubicBezTo>
                  <a:pt x="12139" y="10897"/>
                  <a:pt x="12057" y="10985"/>
                  <a:pt x="12129" y="11013"/>
                </a:cubicBezTo>
                <a:cubicBezTo>
                  <a:pt x="12171" y="11013"/>
                  <a:pt x="12179" y="11013"/>
                  <a:pt x="12204" y="11013"/>
                </a:cubicBezTo>
              </a:path>
              <a:path w="6276" h="1588">
                <a:moveTo>
                  <a:pt x="12353" y="10939"/>
                </a:moveTo>
                <a:cubicBezTo>
                  <a:pt x="12353" y="11060"/>
                  <a:pt x="12354" y="11167"/>
                  <a:pt x="12378" y="11286"/>
                </a:cubicBezTo>
              </a:path>
              <a:path w="6276" h="1588">
                <a:moveTo>
                  <a:pt x="12204" y="11162"/>
                </a:moveTo>
                <a:cubicBezTo>
                  <a:pt x="12296" y="11162"/>
                  <a:pt x="12361" y="11155"/>
                  <a:pt x="12452" y="11137"/>
                </a:cubicBezTo>
              </a:path>
              <a:path w="6276" h="1588">
                <a:moveTo>
                  <a:pt x="12601" y="10815"/>
                </a:moveTo>
                <a:cubicBezTo>
                  <a:pt x="12655" y="10807"/>
                  <a:pt x="12761" y="10788"/>
                  <a:pt x="12799" y="10864"/>
                </a:cubicBezTo>
                <a:cubicBezTo>
                  <a:pt x="12823" y="10912"/>
                  <a:pt x="12752" y="11003"/>
                  <a:pt x="12725" y="11038"/>
                </a:cubicBezTo>
                <a:cubicBezTo>
                  <a:pt x="12677" y="11102"/>
                  <a:pt x="12664" y="11169"/>
                  <a:pt x="12626" y="11237"/>
                </a:cubicBezTo>
                <a:cubicBezTo>
                  <a:pt x="12598" y="11288"/>
                  <a:pt x="12600" y="11352"/>
                  <a:pt x="12626" y="11410"/>
                </a:cubicBezTo>
                <a:cubicBezTo>
                  <a:pt x="12641" y="11444"/>
                  <a:pt x="12737" y="11500"/>
                  <a:pt x="12774" y="11485"/>
                </a:cubicBezTo>
                <a:cubicBezTo>
                  <a:pt x="12799" y="11468"/>
                  <a:pt x="12824" y="11452"/>
                  <a:pt x="12849" y="11435"/>
                </a:cubicBezTo>
              </a:path>
              <a:path w="6276" h="1588">
                <a:moveTo>
                  <a:pt x="12923" y="10641"/>
                </a:moveTo>
                <a:cubicBezTo>
                  <a:pt x="13003" y="10641"/>
                  <a:pt x="13126" y="10624"/>
                  <a:pt x="13072" y="10740"/>
                </a:cubicBezTo>
                <a:cubicBezTo>
                  <a:pt x="13044" y="10800"/>
                  <a:pt x="12953" y="10784"/>
                  <a:pt x="12973" y="10864"/>
                </a:cubicBezTo>
                <a:cubicBezTo>
                  <a:pt x="12986" y="10915"/>
                  <a:pt x="13129" y="10889"/>
                  <a:pt x="13171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Ink 14"/>
          <p:cNvSpPr/>
          <p:nvPr/>
        </p:nvSpPr>
        <p:spPr>
          <a:xfrm>
            <a:off x="5187960" y="3348000"/>
            <a:ext cx="3537000" cy="876240"/>
          </a:xfrm>
          <a:custGeom>
            <a:avLst/>
            <a:gdLst/>
            <a:ahLst/>
            <a:rect l="l" t="t" r="r" b="b"/>
            <a:pathLst>
              <a:path w="9823" h="2432">
                <a:moveTo>
                  <a:pt x="14412" y="10790"/>
                </a:moveTo>
                <a:cubicBezTo>
                  <a:pt x="14412" y="10880"/>
                  <a:pt x="14417" y="10976"/>
                  <a:pt x="14436" y="11063"/>
                </a:cubicBezTo>
                <a:cubicBezTo>
                  <a:pt x="14459" y="11168"/>
                  <a:pt x="14495" y="11279"/>
                  <a:pt x="14511" y="11385"/>
                </a:cubicBezTo>
                <a:cubicBezTo>
                  <a:pt x="14524" y="11472"/>
                  <a:pt x="14533" y="11549"/>
                  <a:pt x="14560" y="11633"/>
                </a:cubicBezTo>
                <a:cubicBezTo>
                  <a:pt x="14560" y="11440"/>
                  <a:pt x="14553" y="11254"/>
                  <a:pt x="14536" y="11063"/>
                </a:cubicBezTo>
                <a:cubicBezTo>
                  <a:pt x="14528" y="10967"/>
                  <a:pt x="14545" y="10872"/>
                  <a:pt x="14560" y="10790"/>
                </a:cubicBezTo>
                <a:cubicBezTo>
                  <a:pt x="14574" y="10712"/>
                  <a:pt x="14578" y="10692"/>
                  <a:pt x="14610" y="10641"/>
                </a:cubicBezTo>
                <a:cubicBezTo>
                  <a:pt x="14660" y="10561"/>
                  <a:pt x="14694" y="10567"/>
                  <a:pt x="14784" y="10567"/>
                </a:cubicBezTo>
                <a:cubicBezTo>
                  <a:pt x="14991" y="10567"/>
                  <a:pt x="15197" y="10567"/>
                  <a:pt x="15404" y="10567"/>
                </a:cubicBezTo>
              </a:path>
              <a:path w="9823" h="2432">
                <a:moveTo>
                  <a:pt x="15032" y="10840"/>
                </a:moveTo>
                <a:cubicBezTo>
                  <a:pt x="14966" y="10831"/>
                  <a:pt x="14909" y="10797"/>
                  <a:pt x="14833" y="10815"/>
                </a:cubicBezTo>
                <a:cubicBezTo>
                  <a:pt x="14811" y="10820"/>
                  <a:pt x="14681" y="10879"/>
                  <a:pt x="14684" y="10914"/>
                </a:cubicBezTo>
                <a:cubicBezTo>
                  <a:pt x="14688" y="10976"/>
                  <a:pt x="14801" y="11101"/>
                  <a:pt x="14833" y="11137"/>
                </a:cubicBezTo>
                <a:cubicBezTo>
                  <a:pt x="14904" y="11219"/>
                  <a:pt x="14961" y="11289"/>
                  <a:pt x="15007" y="11385"/>
                </a:cubicBezTo>
                <a:cubicBezTo>
                  <a:pt x="15034" y="11442"/>
                  <a:pt x="15049" y="11473"/>
                  <a:pt x="15056" y="11534"/>
                </a:cubicBezTo>
                <a:cubicBezTo>
                  <a:pt x="15005" y="11565"/>
                  <a:pt x="14959" y="11575"/>
                  <a:pt x="14908" y="11534"/>
                </a:cubicBezTo>
                <a:cubicBezTo>
                  <a:pt x="14854" y="11490"/>
                  <a:pt x="14821" y="11429"/>
                  <a:pt x="14808" y="11361"/>
                </a:cubicBezTo>
                <a:cubicBezTo>
                  <a:pt x="14792" y="11277"/>
                  <a:pt x="14846" y="11245"/>
                  <a:pt x="14883" y="11187"/>
                </a:cubicBezTo>
                <a:cubicBezTo>
                  <a:pt x="14931" y="11112"/>
                  <a:pt x="15000" y="11123"/>
                  <a:pt x="15056" y="11063"/>
                </a:cubicBezTo>
                <a:cubicBezTo>
                  <a:pt x="15092" y="11024"/>
                  <a:pt x="15111" y="10999"/>
                  <a:pt x="15156" y="10964"/>
                </a:cubicBezTo>
              </a:path>
              <a:path w="9823" h="2432">
                <a:moveTo>
                  <a:pt x="15255" y="10790"/>
                </a:moveTo>
                <a:cubicBezTo>
                  <a:pt x="15329" y="10790"/>
                  <a:pt x="15404" y="10790"/>
                  <a:pt x="15478" y="10790"/>
                </a:cubicBezTo>
              </a:path>
              <a:path w="9823" h="2432">
                <a:moveTo>
                  <a:pt x="15280" y="10815"/>
                </a:moveTo>
                <a:cubicBezTo>
                  <a:pt x="15211" y="10921"/>
                  <a:pt x="15170" y="10928"/>
                  <a:pt x="15255" y="11013"/>
                </a:cubicBezTo>
                <a:cubicBezTo>
                  <a:pt x="15298" y="11056"/>
                  <a:pt x="15370" y="11038"/>
                  <a:pt x="15429" y="11038"/>
                </a:cubicBezTo>
                <a:cubicBezTo>
                  <a:pt x="15508" y="11038"/>
                  <a:pt x="15537" y="11095"/>
                  <a:pt x="15577" y="11162"/>
                </a:cubicBezTo>
                <a:cubicBezTo>
                  <a:pt x="15619" y="11233"/>
                  <a:pt x="15627" y="11280"/>
                  <a:pt x="15627" y="11361"/>
                </a:cubicBezTo>
                <a:cubicBezTo>
                  <a:pt x="15627" y="11399"/>
                  <a:pt x="15600" y="11471"/>
                  <a:pt x="15553" y="11485"/>
                </a:cubicBezTo>
                <a:cubicBezTo>
                  <a:pt x="15477" y="11507"/>
                  <a:pt x="15382" y="11451"/>
                  <a:pt x="15354" y="11385"/>
                </a:cubicBezTo>
                <a:cubicBezTo>
                  <a:pt x="15354" y="11377"/>
                  <a:pt x="15354" y="11369"/>
                  <a:pt x="15354" y="11361"/>
                </a:cubicBezTo>
              </a:path>
              <a:path w="9823" h="2432">
                <a:moveTo>
                  <a:pt x="15974" y="11063"/>
                </a:moveTo>
                <a:cubicBezTo>
                  <a:pt x="15997" y="11040"/>
                  <a:pt x="16001" y="11032"/>
                  <a:pt x="16024" y="11038"/>
                </a:cubicBezTo>
              </a:path>
              <a:path w="9823" h="2432">
                <a:moveTo>
                  <a:pt x="16222" y="10790"/>
                </a:moveTo>
                <a:cubicBezTo>
                  <a:pt x="16243" y="10928"/>
                  <a:pt x="16272" y="11050"/>
                  <a:pt x="16272" y="11187"/>
                </a:cubicBezTo>
                <a:cubicBezTo>
                  <a:pt x="16272" y="11272"/>
                  <a:pt x="16277" y="11354"/>
                  <a:pt x="16297" y="11435"/>
                </a:cubicBezTo>
                <a:cubicBezTo>
                  <a:pt x="16305" y="11460"/>
                  <a:pt x="16313" y="11484"/>
                  <a:pt x="16321" y="11509"/>
                </a:cubicBezTo>
                <a:cubicBezTo>
                  <a:pt x="16313" y="11439"/>
                  <a:pt x="16297" y="11384"/>
                  <a:pt x="16297" y="11311"/>
                </a:cubicBezTo>
                <a:cubicBezTo>
                  <a:pt x="16297" y="11212"/>
                  <a:pt x="16283" y="11132"/>
                  <a:pt x="16272" y="11038"/>
                </a:cubicBezTo>
                <a:cubicBezTo>
                  <a:pt x="16262" y="10948"/>
                  <a:pt x="16252" y="10854"/>
                  <a:pt x="16247" y="10765"/>
                </a:cubicBezTo>
                <a:cubicBezTo>
                  <a:pt x="16243" y="10684"/>
                  <a:pt x="16231" y="10589"/>
                  <a:pt x="16272" y="10517"/>
                </a:cubicBezTo>
                <a:cubicBezTo>
                  <a:pt x="16302" y="10465"/>
                  <a:pt x="16419" y="10492"/>
                  <a:pt x="16470" y="10492"/>
                </a:cubicBezTo>
                <a:cubicBezTo>
                  <a:pt x="16655" y="10492"/>
                  <a:pt x="16824" y="10502"/>
                  <a:pt x="16991" y="10443"/>
                </a:cubicBezTo>
                <a:cubicBezTo>
                  <a:pt x="17069" y="10415"/>
                  <a:pt x="17135" y="10418"/>
                  <a:pt x="17214" y="10418"/>
                </a:cubicBezTo>
                <a:cubicBezTo>
                  <a:pt x="17206" y="10418"/>
                  <a:pt x="17198" y="10418"/>
                  <a:pt x="17190" y="10418"/>
                </a:cubicBezTo>
              </a:path>
              <a:path w="9823" h="2432">
                <a:moveTo>
                  <a:pt x="16520" y="10815"/>
                </a:moveTo>
                <a:cubicBezTo>
                  <a:pt x="16573" y="10791"/>
                  <a:pt x="16661" y="10726"/>
                  <a:pt x="16718" y="10740"/>
                </a:cubicBezTo>
                <a:cubicBezTo>
                  <a:pt x="16818" y="10764"/>
                  <a:pt x="16834" y="10808"/>
                  <a:pt x="16793" y="10889"/>
                </a:cubicBezTo>
                <a:cubicBezTo>
                  <a:pt x="16762" y="10951"/>
                  <a:pt x="16720" y="11044"/>
                  <a:pt x="16669" y="11088"/>
                </a:cubicBezTo>
                <a:cubicBezTo>
                  <a:pt x="16608" y="11140"/>
                  <a:pt x="16569" y="11173"/>
                  <a:pt x="16520" y="11237"/>
                </a:cubicBezTo>
                <a:cubicBezTo>
                  <a:pt x="16481" y="11288"/>
                  <a:pt x="16444" y="11298"/>
                  <a:pt x="16495" y="11361"/>
                </a:cubicBezTo>
                <a:cubicBezTo>
                  <a:pt x="16523" y="11396"/>
                  <a:pt x="16634" y="11403"/>
                  <a:pt x="16669" y="11410"/>
                </a:cubicBezTo>
                <a:cubicBezTo>
                  <a:pt x="16738" y="11423"/>
                  <a:pt x="16787" y="11365"/>
                  <a:pt x="16842" y="11336"/>
                </a:cubicBezTo>
                <a:cubicBezTo>
                  <a:pt x="16859" y="11328"/>
                  <a:pt x="16875" y="11319"/>
                  <a:pt x="16892" y="11311"/>
                </a:cubicBezTo>
              </a:path>
              <a:path w="9823" h="2432">
                <a:moveTo>
                  <a:pt x="17041" y="10790"/>
                </a:moveTo>
                <a:cubicBezTo>
                  <a:pt x="16989" y="10842"/>
                  <a:pt x="16956" y="10888"/>
                  <a:pt x="16942" y="10964"/>
                </a:cubicBezTo>
                <a:cubicBezTo>
                  <a:pt x="16926" y="11048"/>
                  <a:pt x="16934" y="11170"/>
                  <a:pt x="16991" y="11237"/>
                </a:cubicBezTo>
                <a:cubicBezTo>
                  <a:pt x="17022" y="11274"/>
                  <a:pt x="17101" y="11304"/>
                  <a:pt x="17140" y="11336"/>
                </a:cubicBezTo>
                <a:cubicBezTo>
                  <a:pt x="17192" y="11284"/>
                  <a:pt x="17214" y="11272"/>
                  <a:pt x="17239" y="11212"/>
                </a:cubicBezTo>
                <a:cubicBezTo>
                  <a:pt x="17273" y="11130"/>
                  <a:pt x="17272" y="11073"/>
                  <a:pt x="17239" y="10988"/>
                </a:cubicBezTo>
                <a:cubicBezTo>
                  <a:pt x="17215" y="10925"/>
                  <a:pt x="17161" y="10886"/>
                  <a:pt x="17115" y="10840"/>
                </a:cubicBezTo>
                <a:cubicBezTo>
                  <a:pt x="17107" y="10832"/>
                  <a:pt x="17098" y="10823"/>
                  <a:pt x="17090" y="10815"/>
                </a:cubicBezTo>
              </a:path>
              <a:path w="9823" h="2432">
                <a:moveTo>
                  <a:pt x="17438" y="10145"/>
                </a:moveTo>
                <a:cubicBezTo>
                  <a:pt x="17545" y="10127"/>
                  <a:pt x="17553" y="10119"/>
                  <a:pt x="17611" y="10120"/>
                </a:cubicBezTo>
              </a:path>
              <a:path w="9823" h="2432">
                <a:moveTo>
                  <a:pt x="17537" y="10294"/>
                </a:moveTo>
                <a:cubicBezTo>
                  <a:pt x="17752" y="10332"/>
                  <a:pt x="17730" y="10349"/>
                  <a:pt x="17884" y="10195"/>
                </a:cubicBezTo>
              </a:path>
              <a:path w="9823" h="2432">
                <a:moveTo>
                  <a:pt x="18033" y="9823"/>
                </a:moveTo>
                <a:cubicBezTo>
                  <a:pt x="18173" y="9783"/>
                  <a:pt x="18195" y="9766"/>
                  <a:pt x="18281" y="9773"/>
                </a:cubicBezTo>
              </a:path>
              <a:path w="9823" h="2432">
                <a:moveTo>
                  <a:pt x="18628" y="9302"/>
                </a:moveTo>
                <a:cubicBezTo>
                  <a:pt x="18584" y="9465"/>
                  <a:pt x="18579" y="9580"/>
                  <a:pt x="18579" y="9748"/>
                </a:cubicBezTo>
                <a:cubicBezTo>
                  <a:pt x="18579" y="9846"/>
                  <a:pt x="18606" y="9953"/>
                  <a:pt x="18628" y="10046"/>
                </a:cubicBezTo>
                <a:cubicBezTo>
                  <a:pt x="18647" y="10128"/>
                  <a:pt x="18650" y="10147"/>
                  <a:pt x="18703" y="10120"/>
                </a:cubicBezTo>
              </a:path>
              <a:path w="9823" h="2432">
                <a:moveTo>
                  <a:pt x="18951" y="9376"/>
                </a:moveTo>
                <a:cubicBezTo>
                  <a:pt x="18916" y="9471"/>
                  <a:pt x="18864" y="9574"/>
                  <a:pt x="18852" y="9674"/>
                </a:cubicBezTo>
                <a:cubicBezTo>
                  <a:pt x="18835" y="9816"/>
                  <a:pt x="18851" y="9924"/>
                  <a:pt x="18901" y="10046"/>
                </a:cubicBezTo>
                <a:cubicBezTo>
                  <a:pt x="18930" y="10117"/>
                  <a:pt x="19026" y="10230"/>
                  <a:pt x="19100" y="10269"/>
                </a:cubicBezTo>
                <a:cubicBezTo>
                  <a:pt x="19166" y="10304"/>
                  <a:pt x="19254" y="10257"/>
                  <a:pt x="19298" y="10220"/>
                </a:cubicBezTo>
                <a:cubicBezTo>
                  <a:pt x="19363" y="10166"/>
                  <a:pt x="19320" y="10067"/>
                  <a:pt x="19248" y="10046"/>
                </a:cubicBezTo>
                <a:cubicBezTo>
                  <a:pt x="19128" y="10011"/>
                  <a:pt x="19069" y="10046"/>
                  <a:pt x="19000" y="10120"/>
                </a:cubicBezTo>
                <a:cubicBezTo>
                  <a:pt x="18971" y="10150"/>
                  <a:pt x="18960" y="10165"/>
                  <a:pt x="18951" y="10195"/>
                </a:cubicBezTo>
              </a:path>
              <a:path w="9823" h="2432">
                <a:moveTo>
                  <a:pt x="18281" y="10344"/>
                </a:moveTo>
                <a:cubicBezTo>
                  <a:pt x="18482" y="10366"/>
                  <a:pt x="18674" y="10368"/>
                  <a:pt x="18876" y="10368"/>
                </a:cubicBezTo>
                <a:cubicBezTo>
                  <a:pt x="19175" y="10368"/>
                  <a:pt x="19476" y="10375"/>
                  <a:pt x="19769" y="10344"/>
                </a:cubicBezTo>
                <a:cubicBezTo>
                  <a:pt x="19802" y="10340"/>
                  <a:pt x="19852" y="10344"/>
                  <a:pt x="19819" y="10344"/>
                </a:cubicBezTo>
              </a:path>
              <a:path w="9823" h="2432">
                <a:moveTo>
                  <a:pt x="18157" y="10815"/>
                </a:moveTo>
                <a:cubicBezTo>
                  <a:pt x="18330" y="10795"/>
                  <a:pt x="18387" y="10752"/>
                  <a:pt x="18504" y="10864"/>
                </a:cubicBezTo>
                <a:cubicBezTo>
                  <a:pt x="18547" y="10905"/>
                  <a:pt x="18611" y="10974"/>
                  <a:pt x="18604" y="11038"/>
                </a:cubicBezTo>
                <a:cubicBezTo>
                  <a:pt x="18595" y="11116"/>
                  <a:pt x="18566" y="11205"/>
                  <a:pt x="18554" y="11286"/>
                </a:cubicBezTo>
                <a:cubicBezTo>
                  <a:pt x="18541" y="11379"/>
                  <a:pt x="18529" y="11463"/>
                  <a:pt x="18529" y="11559"/>
                </a:cubicBezTo>
                <a:cubicBezTo>
                  <a:pt x="18529" y="11628"/>
                  <a:pt x="18538" y="11676"/>
                  <a:pt x="18554" y="11733"/>
                </a:cubicBezTo>
                <a:cubicBezTo>
                  <a:pt x="18572" y="11667"/>
                  <a:pt x="18579" y="11614"/>
                  <a:pt x="18579" y="11534"/>
                </a:cubicBezTo>
                <a:cubicBezTo>
                  <a:pt x="18579" y="11381"/>
                  <a:pt x="18571" y="11236"/>
                  <a:pt x="18554" y="11088"/>
                </a:cubicBezTo>
                <a:cubicBezTo>
                  <a:pt x="18543" y="10987"/>
                  <a:pt x="18533" y="10890"/>
                  <a:pt x="18529" y="10790"/>
                </a:cubicBezTo>
                <a:cubicBezTo>
                  <a:pt x="18526" y="10717"/>
                  <a:pt x="18610" y="10664"/>
                  <a:pt x="18678" y="10641"/>
                </a:cubicBezTo>
                <a:cubicBezTo>
                  <a:pt x="18941" y="10553"/>
                  <a:pt x="19391" y="10646"/>
                  <a:pt x="19645" y="10691"/>
                </a:cubicBezTo>
                <a:cubicBezTo>
                  <a:pt x="19793" y="10717"/>
                  <a:pt x="19924" y="10671"/>
                  <a:pt x="20042" y="10641"/>
                </a:cubicBezTo>
                <a:cubicBezTo>
                  <a:pt x="20106" y="10625"/>
                  <a:pt x="20125" y="10641"/>
                  <a:pt x="20191" y="10641"/>
                </a:cubicBezTo>
              </a:path>
              <a:path w="9823" h="2432">
                <a:moveTo>
                  <a:pt x="19025" y="10914"/>
                </a:moveTo>
                <a:cubicBezTo>
                  <a:pt x="19018" y="11012"/>
                  <a:pt x="19000" y="11088"/>
                  <a:pt x="19000" y="11187"/>
                </a:cubicBezTo>
                <a:cubicBezTo>
                  <a:pt x="19000" y="11272"/>
                  <a:pt x="18969" y="11498"/>
                  <a:pt x="19025" y="11534"/>
                </a:cubicBezTo>
              </a:path>
              <a:path w="9823" h="2432">
                <a:moveTo>
                  <a:pt x="19224" y="10939"/>
                </a:moveTo>
                <a:cubicBezTo>
                  <a:pt x="19303" y="10917"/>
                  <a:pt x="19394" y="10899"/>
                  <a:pt x="19472" y="10889"/>
                </a:cubicBezTo>
                <a:cubicBezTo>
                  <a:pt x="19538" y="10889"/>
                  <a:pt x="19555" y="10889"/>
                  <a:pt x="19596" y="10889"/>
                </a:cubicBezTo>
                <a:cubicBezTo>
                  <a:pt x="19569" y="10936"/>
                  <a:pt x="19530" y="10992"/>
                  <a:pt x="19521" y="11038"/>
                </a:cubicBezTo>
                <a:cubicBezTo>
                  <a:pt x="19508" y="11101"/>
                  <a:pt x="19478" y="11174"/>
                  <a:pt x="19472" y="11237"/>
                </a:cubicBezTo>
                <a:cubicBezTo>
                  <a:pt x="19471" y="11243"/>
                  <a:pt x="19487" y="11488"/>
                  <a:pt x="19496" y="11485"/>
                </a:cubicBezTo>
                <a:cubicBezTo>
                  <a:pt x="19518" y="11441"/>
                  <a:pt x="19521" y="11429"/>
                  <a:pt x="19546" y="11410"/>
                </a:cubicBezTo>
              </a:path>
              <a:path w="9823" h="2432">
                <a:moveTo>
                  <a:pt x="19720" y="10964"/>
                </a:moveTo>
                <a:cubicBezTo>
                  <a:pt x="19713" y="11043"/>
                  <a:pt x="19695" y="11106"/>
                  <a:pt x="19695" y="11187"/>
                </a:cubicBezTo>
                <a:cubicBezTo>
                  <a:pt x="19695" y="11250"/>
                  <a:pt x="19707" y="11357"/>
                  <a:pt x="19745" y="11410"/>
                </a:cubicBezTo>
                <a:cubicBezTo>
                  <a:pt x="19782" y="11461"/>
                  <a:pt x="19855" y="11520"/>
                  <a:pt x="19918" y="11534"/>
                </a:cubicBezTo>
                <a:cubicBezTo>
                  <a:pt x="19976" y="11547"/>
                  <a:pt x="20055" y="11536"/>
                  <a:pt x="20092" y="11485"/>
                </a:cubicBezTo>
                <a:cubicBezTo>
                  <a:pt x="20141" y="11417"/>
                  <a:pt x="20163" y="11341"/>
                  <a:pt x="20166" y="11261"/>
                </a:cubicBezTo>
                <a:cubicBezTo>
                  <a:pt x="20169" y="11172"/>
                  <a:pt x="20130" y="11093"/>
                  <a:pt x="20092" y="11013"/>
                </a:cubicBezTo>
                <a:cubicBezTo>
                  <a:pt x="20059" y="10944"/>
                  <a:pt x="20028" y="10879"/>
                  <a:pt x="19943" y="10864"/>
                </a:cubicBezTo>
                <a:cubicBezTo>
                  <a:pt x="19855" y="10848"/>
                  <a:pt x="19741" y="10923"/>
                  <a:pt x="19720" y="11013"/>
                </a:cubicBezTo>
                <a:cubicBezTo>
                  <a:pt x="19705" y="11078"/>
                  <a:pt x="19720" y="11155"/>
                  <a:pt x="19745" y="11212"/>
                </a:cubicBezTo>
                <a:cubicBezTo>
                  <a:pt x="19773" y="11275"/>
                  <a:pt x="19786" y="11278"/>
                  <a:pt x="19844" y="11311"/>
                </a:cubicBezTo>
              </a:path>
              <a:path w="9823" h="2432">
                <a:moveTo>
                  <a:pt x="20241" y="10914"/>
                </a:moveTo>
                <a:cubicBezTo>
                  <a:pt x="20241" y="10978"/>
                  <a:pt x="20210" y="11085"/>
                  <a:pt x="20216" y="11137"/>
                </a:cubicBezTo>
                <a:cubicBezTo>
                  <a:pt x="20224" y="11212"/>
                  <a:pt x="20255" y="11291"/>
                  <a:pt x="20290" y="11361"/>
                </a:cubicBezTo>
                <a:cubicBezTo>
                  <a:pt x="20326" y="11432"/>
                  <a:pt x="20371" y="11473"/>
                  <a:pt x="20439" y="11509"/>
                </a:cubicBezTo>
                <a:cubicBezTo>
                  <a:pt x="20503" y="11543"/>
                  <a:pt x="20591" y="11518"/>
                  <a:pt x="20638" y="11460"/>
                </a:cubicBezTo>
                <a:cubicBezTo>
                  <a:pt x="20682" y="11406"/>
                  <a:pt x="20723" y="11306"/>
                  <a:pt x="20712" y="11237"/>
                </a:cubicBezTo>
                <a:cubicBezTo>
                  <a:pt x="20695" y="11130"/>
                  <a:pt x="20663" y="11059"/>
                  <a:pt x="20613" y="10964"/>
                </a:cubicBezTo>
                <a:cubicBezTo>
                  <a:pt x="20589" y="10919"/>
                  <a:pt x="20555" y="10842"/>
                  <a:pt x="20489" y="10864"/>
                </a:cubicBezTo>
                <a:cubicBezTo>
                  <a:pt x="20449" y="10877"/>
                  <a:pt x="20406" y="10956"/>
                  <a:pt x="20389" y="10988"/>
                </a:cubicBezTo>
                <a:cubicBezTo>
                  <a:pt x="20368" y="11032"/>
                  <a:pt x="20365" y="11044"/>
                  <a:pt x="20340" y="11063"/>
                </a:cubicBezTo>
              </a:path>
              <a:path w="9823" h="2432">
                <a:moveTo>
                  <a:pt x="20265" y="10120"/>
                </a:moveTo>
                <a:cubicBezTo>
                  <a:pt x="20447" y="10120"/>
                  <a:pt x="20638" y="10105"/>
                  <a:pt x="20811" y="10145"/>
                </a:cubicBezTo>
                <a:cubicBezTo>
                  <a:pt x="20819" y="10145"/>
                  <a:pt x="20828" y="10145"/>
                  <a:pt x="20836" y="10145"/>
                </a:cubicBezTo>
              </a:path>
              <a:path w="9823" h="2432">
                <a:moveTo>
                  <a:pt x="20290" y="10368"/>
                </a:moveTo>
                <a:cubicBezTo>
                  <a:pt x="20489" y="10368"/>
                  <a:pt x="20687" y="10368"/>
                  <a:pt x="20886" y="10368"/>
                </a:cubicBezTo>
              </a:path>
              <a:path w="9823" h="2432">
                <a:moveTo>
                  <a:pt x="21307" y="9897"/>
                </a:moveTo>
                <a:cubicBezTo>
                  <a:pt x="21481" y="9897"/>
                  <a:pt x="21654" y="9897"/>
                  <a:pt x="21828" y="9897"/>
                </a:cubicBezTo>
              </a:path>
              <a:path w="9823" h="2432">
                <a:moveTo>
                  <a:pt x="22126" y="10418"/>
                </a:moveTo>
                <a:cubicBezTo>
                  <a:pt x="22154" y="10368"/>
                  <a:pt x="22180" y="10358"/>
                  <a:pt x="22151" y="10344"/>
                </a:cubicBezTo>
              </a:path>
              <a:path w="9823" h="2432">
                <a:moveTo>
                  <a:pt x="22299" y="9599"/>
                </a:moveTo>
                <a:cubicBezTo>
                  <a:pt x="22441" y="9441"/>
                  <a:pt x="22408" y="9451"/>
                  <a:pt x="22597" y="9451"/>
                </a:cubicBezTo>
                <a:cubicBezTo>
                  <a:pt x="22672" y="9451"/>
                  <a:pt x="22710" y="9454"/>
                  <a:pt x="22771" y="9500"/>
                </a:cubicBezTo>
                <a:cubicBezTo>
                  <a:pt x="22834" y="9547"/>
                  <a:pt x="22781" y="9651"/>
                  <a:pt x="22771" y="9674"/>
                </a:cubicBezTo>
                <a:cubicBezTo>
                  <a:pt x="22750" y="9720"/>
                  <a:pt x="22695" y="9801"/>
                  <a:pt x="22647" y="9823"/>
                </a:cubicBezTo>
                <a:cubicBezTo>
                  <a:pt x="22580" y="9854"/>
                  <a:pt x="22563" y="9839"/>
                  <a:pt x="22498" y="9897"/>
                </a:cubicBezTo>
                <a:cubicBezTo>
                  <a:pt x="22613" y="9863"/>
                  <a:pt x="22549" y="9857"/>
                  <a:pt x="22647" y="9897"/>
                </a:cubicBezTo>
                <a:cubicBezTo>
                  <a:pt x="22726" y="9929"/>
                  <a:pt x="22752" y="9897"/>
                  <a:pt x="22820" y="9971"/>
                </a:cubicBezTo>
                <a:cubicBezTo>
                  <a:pt x="22874" y="10030"/>
                  <a:pt x="22925" y="10110"/>
                  <a:pt x="22920" y="10195"/>
                </a:cubicBezTo>
                <a:cubicBezTo>
                  <a:pt x="22915" y="10278"/>
                  <a:pt x="22823" y="10265"/>
                  <a:pt x="22771" y="10294"/>
                </a:cubicBezTo>
                <a:cubicBezTo>
                  <a:pt x="22754" y="10311"/>
                  <a:pt x="22738" y="10327"/>
                  <a:pt x="22721" y="10344"/>
                </a:cubicBezTo>
                <a:cubicBezTo>
                  <a:pt x="22667" y="10278"/>
                  <a:pt x="22603" y="10316"/>
                  <a:pt x="22547" y="10269"/>
                </a:cubicBezTo>
                <a:cubicBezTo>
                  <a:pt x="22527" y="10229"/>
                  <a:pt x="22519" y="10222"/>
                  <a:pt x="22523" y="10195"/>
                </a:cubicBezTo>
              </a:path>
              <a:path w="9823" h="2432">
                <a:moveTo>
                  <a:pt x="23391" y="9500"/>
                </a:moveTo>
                <a:cubicBezTo>
                  <a:pt x="23309" y="9471"/>
                  <a:pt x="23220" y="9414"/>
                  <a:pt x="23143" y="9475"/>
                </a:cubicBezTo>
                <a:cubicBezTo>
                  <a:pt x="23066" y="9536"/>
                  <a:pt x="23115" y="9591"/>
                  <a:pt x="23143" y="9674"/>
                </a:cubicBezTo>
                <a:cubicBezTo>
                  <a:pt x="23184" y="9797"/>
                  <a:pt x="23273" y="9888"/>
                  <a:pt x="23341" y="9996"/>
                </a:cubicBezTo>
                <a:cubicBezTo>
                  <a:pt x="23406" y="10098"/>
                  <a:pt x="23444" y="10183"/>
                  <a:pt x="23490" y="10294"/>
                </a:cubicBezTo>
                <a:cubicBezTo>
                  <a:pt x="23518" y="10349"/>
                  <a:pt x="23526" y="10372"/>
                  <a:pt x="23515" y="10418"/>
                </a:cubicBezTo>
                <a:cubicBezTo>
                  <a:pt x="23453" y="10433"/>
                  <a:pt x="23426" y="10429"/>
                  <a:pt x="23366" y="10418"/>
                </a:cubicBezTo>
                <a:cubicBezTo>
                  <a:pt x="23287" y="10403"/>
                  <a:pt x="23249" y="10349"/>
                  <a:pt x="23217" y="10269"/>
                </a:cubicBezTo>
                <a:cubicBezTo>
                  <a:pt x="23182" y="10181"/>
                  <a:pt x="23188" y="10143"/>
                  <a:pt x="23242" y="10071"/>
                </a:cubicBezTo>
                <a:cubicBezTo>
                  <a:pt x="23286" y="10012"/>
                  <a:pt x="23328" y="9964"/>
                  <a:pt x="23391" y="9922"/>
                </a:cubicBezTo>
                <a:cubicBezTo>
                  <a:pt x="23453" y="9881"/>
                  <a:pt x="23520" y="9812"/>
                  <a:pt x="23564" y="9748"/>
                </a:cubicBezTo>
                <a:cubicBezTo>
                  <a:pt x="23598" y="9699"/>
                  <a:pt x="23618" y="9651"/>
                  <a:pt x="23639" y="9599"/>
                </a:cubicBezTo>
                <a:cubicBezTo>
                  <a:pt x="23647" y="9583"/>
                  <a:pt x="23656" y="9566"/>
                  <a:pt x="23664" y="9550"/>
                </a:cubicBezTo>
              </a:path>
              <a:path w="9823" h="2432">
                <a:moveTo>
                  <a:pt x="24160" y="9525"/>
                </a:moveTo>
                <a:cubicBezTo>
                  <a:pt x="24097" y="9451"/>
                  <a:pt x="24060" y="9451"/>
                  <a:pt x="23961" y="9451"/>
                </a:cubicBezTo>
                <a:cubicBezTo>
                  <a:pt x="23894" y="9451"/>
                  <a:pt x="23842" y="9443"/>
                  <a:pt x="23788" y="9475"/>
                </a:cubicBezTo>
                <a:cubicBezTo>
                  <a:pt x="23798" y="9593"/>
                  <a:pt x="23846" y="9648"/>
                  <a:pt x="23912" y="9748"/>
                </a:cubicBezTo>
                <a:cubicBezTo>
                  <a:pt x="23977" y="9846"/>
                  <a:pt x="24029" y="9946"/>
                  <a:pt x="24085" y="10046"/>
                </a:cubicBezTo>
                <a:cubicBezTo>
                  <a:pt x="24129" y="10125"/>
                  <a:pt x="24158" y="10198"/>
                  <a:pt x="24135" y="10294"/>
                </a:cubicBezTo>
                <a:cubicBezTo>
                  <a:pt x="24106" y="10414"/>
                  <a:pt x="24049" y="10364"/>
                  <a:pt x="23961" y="10344"/>
                </a:cubicBezTo>
                <a:cubicBezTo>
                  <a:pt x="23902" y="10331"/>
                  <a:pt x="23890" y="10245"/>
                  <a:pt x="23887" y="10195"/>
                </a:cubicBezTo>
                <a:cubicBezTo>
                  <a:pt x="23881" y="10086"/>
                  <a:pt x="23939" y="10043"/>
                  <a:pt x="24011" y="9971"/>
                </a:cubicBezTo>
                <a:cubicBezTo>
                  <a:pt x="24072" y="9911"/>
                  <a:pt x="24126" y="9854"/>
                  <a:pt x="24160" y="9773"/>
                </a:cubicBezTo>
                <a:cubicBezTo>
                  <a:pt x="24193" y="9695"/>
                  <a:pt x="24251" y="9615"/>
                  <a:pt x="24234" y="9525"/>
                </a:cubicBezTo>
                <a:cubicBezTo>
                  <a:pt x="24201" y="9459"/>
                  <a:pt x="24184" y="9426"/>
                  <a:pt x="24160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Ink 15"/>
          <p:cNvSpPr/>
          <p:nvPr/>
        </p:nvSpPr>
        <p:spPr>
          <a:xfrm>
            <a:off x="1241280" y="4411800"/>
            <a:ext cx="1928880" cy="571320"/>
          </a:xfrm>
          <a:custGeom>
            <a:avLst/>
            <a:gdLst/>
            <a:ahLst/>
            <a:rect l="l" t="t" r="r" b="b"/>
            <a:pathLst>
              <a:path w="5359" h="1588">
                <a:moveTo>
                  <a:pt x="3870" y="12551"/>
                </a:moveTo>
                <a:cubicBezTo>
                  <a:pt x="3833" y="12652"/>
                  <a:pt x="3779" y="12746"/>
                  <a:pt x="3746" y="12849"/>
                </a:cubicBezTo>
                <a:cubicBezTo>
                  <a:pt x="3701" y="12987"/>
                  <a:pt x="3651" y="13126"/>
                  <a:pt x="3646" y="13271"/>
                </a:cubicBezTo>
                <a:cubicBezTo>
                  <a:pt x="3643" y="13367"/>
                  <a:pt x="3642" y="13483"/>
                  <a:pt x="3696" y="13568"/>
                </a:cubicBezTo>
                <a:cubicBezTo>
                  <a:pt x="3751" y="13653"/>
                  <a:pt x="3854" y="13663"/>
                  <a:pt x="3944" y="13667"/>
                </a:cubicBezTo>
                <a:cubicBezTo>
                  <a:pt x="4057" y="13672"/>
                  <a:pt x="4147" y="13602"/>
                  <a:pt x="4217" y="13519"/>
                </a:cubicBezTo>
                <a:cubicBezTo>
                  <a:pt x="4301" y="13419"/>
                  <a:pt x="4347" y="13300"/>
                  <a:pt x="4366" y="13171"/>
                </a:cubicBezTo>
                <a:cubicBezTo>
                  <a:pt x="4389" y="13010"/>
                  <a:pt x="4418" y="12828"/>
                  <a:pt x="4341" y="12675"/>
                </a:cubicBezTo>
                <a:cubicBezTo>
                  <a:pt x="4309" y="12611"/>
                  <a:pt x="4216" y="12453"/>
                  <a:pt x="4142" y="12427"/>
                </a:cubicBezTo>
                <a:cubicBezTo>
                  <a:pt x="4087" y="12408"/>
                  <a:pt x="3990" y="12390"/>
                  <a:pt x="3944" y="12427"/>
                </a:cubicBezTo>
                <a:cubicBezTo>
                  <a:pt x="3899" y="12463"/>
                  <a:pt x="3902" y="12471"/>
                  <a:pt x="3894" y="12526"/>
                </a:cubicBezTo>
              </a:path>
              <a:path w="5359" h="1588">
                <a:moveTo>
                  <a:pt x="3448" y="12898"/>
                </a:moveTo>
                <a:cubicBezTo>
                  <a:pt x="3562" y="12929"/>
                  <a:pt x="3678" y="12963"/>
                  <a:pt x="3795" y="12973"/>
                </a:cubicBezTo>
                <a:cubicBezTo>
                  <a:pt x="3936" y="12985"/>
                  <a:pt x="4079" y="12988"/>
                  <a:pt x="4217" y="13022"/>
                </a:cubicBezTo>
                <a:cubicBezTo>
                  <a:pt x="4326" y="13049"/>
                  <a:pt x="4424" y="13047"/>
                  <a:pt x="4539" y="13047"/>
                </a:cubicBezTo>
                <a:cubicBezTo>
                  <a:pt x="4606" y="13047"/>
                  <a:pt x="4622" y="13007"/>
                  <a:pt x="4688" y="12998"/>
                </a:cubicBezTo>
              </a:path>
              <a:path w="5359" h="1588">
                <a:moveTo>
                  <a:pt x="4961" y="13022"/>
                </a:moveTo>
                <a:cubicBezTo>
                  <a:pt x="5031" y="12997"/>
                  <a:pt x="5084" y="12998"/>
                  <a:pt x="5159" y="12998"/>
                </a:cubicBezTo>
                <a:cubicBezTo>
                  <a:pt x="5246" y="12998"/>
                  <a:pt x="5323" y="13035"/>
                  <a:pt x="5407" y="13047"/>
                </a:cubicBezTo>
                <a:cubicBezTo>
                  <a:pt x="5466" y="13047"/>
                  <a:pt x="5492" y="13050"/>
                  <a:pt x="5531" y="13072"/>
                </a:cubicBezTo>
              </a:path>
              <a:path w="5359" h="1588">
                <a:moveTo>
                  <a:pt x="5011" y="13221"/>
                </a:moveTo>
                <a:cubicBezTo>
                  <a:pt x="5091" y="13253"/>
                  <a:pt x="5174" y="13291"/>
                  <a:pt x="5259" y="13295"/>
                </a:cubicBezTo>
                <a:cubicBezTo>
                  <a:pt x="5353" y="13299"/>
                  <a:pt x="5470" y="13334"/>
                  <a:pt x="5556" y="13370"/>
                </a:cubicBezTo>
                <a:cubicBezTo>
                  <a:pt x="5614" y="13394"/>
                  <a:pt x="5631" y="13437"/>
                  <a:pt x="5680" y="13469"/>
                </a:cubicBezTo>
                <a:cubicBezTo>
                  <a:pt x="5730" y="13494"/>
                  <a:pt x="5747" y="13502"/>
                  <a:pt x="5705" y="13444"/>
                </a:cubicBezTo>
              </a:path>
              <a:path w="5359" h="1588">
                <a:moveTo>
                  <a:pt x="6276" y="12551"/>
                </a:moveTo>
                <a:cubicBezTo>
                  <a:pt x="6330" y="12621"/>
                  <a:pt x="6325" y="12661"/>
                  <a:pt x="6325" y="12750"/>
                </a:cubicBezTo>
                <a:cubicBezTo>
                  <a:pt x="6325" y="12861"/>
                  <a:pt x="6310" y="12965"/>
                  <a:pt x="6300" y="13072"/>
                </a:cubicBezTo>
                <a:cubicBezTo>
                  <a:pt x="6289" y="13186"/>
                  <a:pt x="6280" y="13305"/>
                  <a:pt x="6276" y="13419"/>
                </a:cubicBezTo>
                <a:cubicBezTo>
                  <a:pt x="6273" y="13509"/>
                  <a:pt x="6268" y="13588"/>
                  <a:pt x="6276" y="13667"/>
                </a:cubicBezTo>
                <a:cubicBezTo>
                  <a:pt x="6285" y="13752"/>
                  <a:pt x="6290" y="13708"/>
                  <a:pt x="6300" y="13667"/>
                </a:cubicBezTo>
              </a:path>
              <a:path w="5359" h="1588">
                <a:moveTo>
                  <a:pt x="6672" y="12576"/>
                </a:moveTo>
                <a:cubicBezTo>
                  <a:pt x="6696" y="12718"/>
                  <a:pt x="6676" y="12808"/>
                  <a:pt x="6672" y="12948"/>
                </a:cubicBezTo>
                <a:cubicBezTo>
                  <a:pt x="6668" y="13084"/>
                  <a:pt x="6661" y="13212"/>
                  <a:pt x="6648" y="13345"/>
                </a:cubicBezTo>
                <a:cubicBezTo>
                  <a:pt x="6638" y="13455"/>
                  <a:pt x="6647" y="13572"/>
                  <a:pt x="6672" y="13667"/>
                </a:cubicBezTo>
                <a:cubicBezTo>
                  <a:pt x="6672" y="13675"/>
                  <a:pt x="6672" y="13684"/>
                  <a:pt x="6672" y="13692"/>
                </a:cubicBezTo>
              </a:path>
              <a:path w="5359" h="1588">
                <a:moveTo>
                  <a:pt x="6921" y="12725"/>
                </a:moveTo>
                <a:cubicBezTo>
                  <a:pt x="6977" y="12654"/>
                  <a:pt x="7015" y="12598"/>
                  <a:pt x="7119" y="12626"/>
                </a:cubicBezTo>
                <a:cubicBezTo>
                  <a:pt x="7205" y="12649"/>
                  <a:pt x="7234" y="12729"/>
                  <a:pt x="7268" y="12799"/>
                </a:cubicBezTo>
                <a:cubicBezTo>
                  <a:pt x="7315" y="12896"/>
                  <a:pt x="7339" y="12989"/>
                  <a:pt x="7342" y="13097"/>
                </a:cubicBezTo>
                <a:cubicBezTo>
                  <a:pt x="7346" y="13213"/>
                  <a:pt x="7307" y="13290"/>
                  <a:pt x="7268" y="13395"/>
                </a:cubicBezTo>
                <a:cubicBezTo>
                  <a:pt x="7223" y="13514"/>
                  <a:pt x="7192" y="13538"/>
                  <a:pt x="7094" y="13618"/>
                </a:cubicBezTo>
                <a:cubicBezTo>
                  <a:pt x="7066" y="13646"/>
                  <a:pt x="7053" y="13655"/>
                  <a:pt x="7020" y="13643"/>
                </a:cubicBezTo>
                <a:cubicBezTo>
                  <a:pt x="7020" y="13566"/>
                  <a:pt x="7032" y="13513"/>
                  <a:pt x="7045" y="13444"/>
                </a:cubicBezTo>
                <a:cubicBezTo>
                  <a:pt x="7066" y="13329"/>
                  <a:pt x="7070" y="13274"/>
                  <a:pt x="7169" y="13246"/>
                </a:cubicBezTo>
                <a:cubicBezTo>
                  <a:pt x="7200" y="13285"/>
                  <a:pt x="7256" y="13345"/>
                  <a:pt x="7268" y="13395"/>
                </a:cubicBezTo>
                <a:cubicBezTo>
                  <a:pt x="7286" y="13472"/>
                  <a:pt x="7306" y="13564"/>
                  <a:pt x="7317" y="13643"/>
                </a:cubicBezTo>
                <a:cubicBezTo>
                  <a:pt x="7325" y="13698"/>
                  <a:pt x="7317" y="13760"/>
                  <a:pt x="7317" y="13816"/>
                </a:cubicBezTo>
              </a:path>
              <a:path w="5359" h="1588">
                <a:moveTo>
                  <a:pt x="7590" y="13742"/>
                </a:moveTo>
                <a:cubicBezTo>
                  <a:pt x="7599" y="13806"/>
                  <a:pt x="7585" y="13819"/>
                  <a:pt x="7640" y="13791"/>
                </a:cubicBezTo>
              </a:path>
              <a:path w="5359" h="1588">
                <a:moveTo>
                  <a:pt x="8186" y="13022"/>
                </a:moveTo>
                <a:cubicBezTo>
                  <a:pt x="8213" y="12918"/>
                  <a:pt x="8272" y="12802"/>
                  <a:pt x="8210" y="12700"/>
                </a:cubicBezTo>
                <a:cubicBezTo>
                  <a:pt x="8178" y="12647"/>
                  <a:pt x="8139" y="12608"/>
                  <a:pt x="8086" y="12576"/>
                </a:cubicBezTo>
                <a:cubicBezTo>
                  <a:pt x="8024" y="12538"/>
                  <a:pt x="7937" y="12500"/>
                  <a:pt x="7863" y="12526"/>
                </a:cubicBezTo>
                <a:cubicBezTo>
                  <a:pt x="7855" y="12534"/>
                  <a:pt x="7846" y="12543"/>
                  <a:pt x="7838" y="12551"/>
                </a:cubicBezTo>
                <a:cubicBezTo>
                  <a:pt x="7794" y="12624"/>
                  <a:pt x="7830" y="12693"/>
                  <a:pt x="7863" y="12774"/>
                </a:cubicBezTo>
                <a:cubicBezTo>
                  <a:pt x="7899" y="12862"/>
                  <a:pt x="7941" y="12942"/>
                  <a:pt x="7987" y="13022"/>
                </a:cubicBezTo>
                <a:cubicBezTo>
                  <a:pt x="8047" y="13126"/>
                  <a:pt x="8086" y="13235"/>
                  <a:pt x="8136" y="13345"/>
                </a:cubicBezTo>
                <a:cubicBezTo>
                  <a:pt x="8181" y="13443"/>
                  <a:pt x="8244" y="13558"/>
                  <a:pt x="8260" y="13667"/>
                </a:cubicBezTo>
                <a:cubicBezTo>
                  <a:pt x="8270" y="13737"/>
                  <a:pt x="8258" y="13779"/>
                  <a:pt x="8235" y="13841"/>
                </a:cubicBezTo>
                <a:cubicBezTo>
                  <a:pt x="8125" y="13827"/>
                  <a:pt x="8110" y="13788"/>
                  <a:pt x="8062" y="13692"/>
                </a:cubicBezTo>
                <a:cubicBezTo>
                  <a:pt x="8032" y="13633"/>
                  <a:pt x="8016" y="13560"/>
                  <a:pt x="8012" y="13494"/>
                </a:cubicBezTo>
                <a:cubicBezTo>
                  <a:pt x="8007" y="13402"/>
                  <a:pt x="8025" y="13333"/>
                  <a:pt x="8037" y="13246"/>
                </a:cubicBezTo>
                <a:cubicBezTo>
                  <a:pt x="8048" y="13170"/>
                  <a:pt x="8074" y="13095"/>
                  <a:pt x="8086" y="13022"/>
                </a:cubicBezTo>
                <a:cubicBezTo>
                  <a:pt x="8098" y="12947"/>
                  <a:pt x="8126" y="12894"/>
                  <a:pt x="8161" y="12824"/>
                </a:cubicBezTo>
                <a:cubicBezTo>
                  <a:pt x="8193" y="12760"/>
                  <a:pt x="8199" y="12760"/>
                  <a:pt x="8260" y="12725"/>
                </a:cubicBezTo>
              </a:path>
              <a:path w="5359" h="1588">
                <a:moveTo>
                  <a:pt x="8558" y="12378"/>
                </a:moveTo>
                <a:cubicBezTo>
                  <a:pt x="8511" y="12423"/>
                  <a:pt x="8486" y="12436"/>
                  <a:pt x="8483" y="12502"/>
                </a:cubicBezTo>
                <a:cubicBezTo>
                  <a:pt x="8479" y="12595"/>
                  <a:pt x="8519" y="12642"/>
                  <a:pt x="8582" y="12700"/>
                </a:cubicBezTo>
                <a:cubicBezTo>
                  <a:pt x="8625" y="12740"/>
                  <a:pt x="8688" y="12738"/>
                  <a:pt x="8731" y="12700"/>
                </a:cubicBezTo>
                <a:cubicBezTo>
                  <a:pt x="8808" y="12633"/>
                  <a:pt x="8811" y="12565"/>
                  <a:pt x="8781" y="12477"/>
                </a:cubicBezTo>
                <a:cubicBezTo>
                  <a:pt x="8755" y="12398"/>
                  <a:pt x="8715" y="12351"/>
                  <a:pt x="8657" y="12303"/>
                </a:cubicBezTo>
                <a:cubicBezTo>
                  <a:pt x="8608" y="12262"/>
                  <a:pt x="8550" y="12236"/>
                  <a:pt x="8483" y="12254"/>
                </a:cubicBezTo>
                <a:cubicBezTo>
                  <a:pt x="8434" y="12278"/>
                  <a:pt x="8417" y="12286"/>
                  <a:pt x="8384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Ink 16"/>
          <p:cNvSpPr/>
          <p:nvPr/>
        </p:nvSpPr>
        <p:spPr>
          <a:xfrm>
            <a:off x="2705040" y="3537000"/>
            <a:ext cx="1812960" cy="169920"/>
          </a:xfrm>
          <a:custGeom>
            <a:avLst/>
            <a:gdLst/>
            <a:ahLst/>
            <a:rect l="l" t="t" r="r" b="b"/>
            <a:pathLst>
              <a:path w="5036" h="472">
                <a:moveTo>
                  <a:pt x="7516" y="9823"/>
                </a:moveTo>
                <a:cubicBezTo>
                  <a:pt x="7644" y="9823"/>
                  <a:pt x="7763" y="9838"/>
                  <a:pt x="7888" y="9847"/>
                </a:cubicBezTo>
                <a:cubicBezTo>
                  <a:pt x="8092" y="9861"/>
                  <a:pt x="8273" y="9897"/>
                  <a:pt x="8483" y="9897"/>
                </a:cubicBezTo>
                <a:cubicBezTo>
                  <a:pt x="8760" y="9897"/>
                  <a:pt x="9028" y="9948"/>
                  <a:pt x="9302" y="9971"/>
                </a:cubicBezTo>
                <a:cubicBezTo>
                  <a:pt x="9619" y="9998"/>
                  <a:pt x="9929" y="10020"/>
                  <a:pt x="10244" y="10046"/>
                </a:cubicBezTo>
                <a:cubicBezTo>
                  <a:pt x="10520" y="10069"/>
                  <a:pt x="10816" y="10096"/>
                  <a:pt x="11088" y="10145"/>
                </a:cubicBezTo>
                <a:cubicBezTo>
                  <a:pt x="11366" y="10195"/>
                  <a:pt x="11652" y="10230"/>
                  <a:pt x="11931" y="10269"/>
                </a:cubicBezTo>
                <a:cubicBezTo>
                  <a:pt x="12079" y="10290"/>
                  <a:pt x="12253" y="10283"/>
                  <a:pt x="12402" y="10294"/>
                </a:cubicBezTo>
                <a:cubicBezTo>
                  <a:pt x="12463" y="10298"/>
                  <a:pt x="12498" y="10274"/>
                  <a:pt x="12551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4:12Z</dcterms:created>
  <dc:creator>jnewman</dc:creator>
  <dc:description/>
  <dc:language>en-US</dc:language>
  <cp:lastModifiedBy>abeason</cp:lastModifiedBy>
  <dcterms:modified xsi:type="dcterms:W3CDTF">2010-02-09T15:36:20Z</dcterms:modified>
  <cp:revision>10</cp:revision>
  <dc:subject/>
  <dc:title>Lesson 6.4 part two</dc:title>
</cp:coreProperties>
</file>